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8BC-8A0F-4032-AED0-BF4F4DA8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5EB-B206-459C-9CB7-946AC936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BDD-F0C2-49E7-BC24-4CF2355F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56D-63FF-423B-9094-CC59C3DB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6AC-FFC7-4CD5-9A87-02C68483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190-6491-4086-9C49-0E0C504B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F48-570D-4297-BC76-4279163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F75-E964-4C7B-8BC8-8DB965C9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51C-9BDA-4FDA-8435-A182D48A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537-2CA7-49DE-AA77-EE23DAB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0B3-68CB-46DC-A302-97A8B97A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A60-8BC6-44A0-A6C0-B2BF538F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BA68-3B00-4936-9473-BFE8724CA7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Lesson 2.5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damental Theorem of Algebr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nomial of N degree has exactly N complex zeros or ro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, though, that a polynomial may contain “double roo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ind </a:t>
            </a: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all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ro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x +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4"/>
          <p:cNvSpPr/>
          <p:nvPr/>
        </p:nvSpPr>
        <p:spPr>
          <a:xfrm>
            <a:off x="731880" y="2857680"/>
            <a:ext cx="2617920" cy="527040"/>
          </a:xfrm>
          <a:custGeom>
            <a:avLst/>
            <a:gdLst/>
            <a:ahLst/>
            <a:rect l="l" t="t" r="r" b="b"/>
            <a:pathLst>
              <a:path w="7269" h="1464">
                <a:moveTo>
                  <a:pt x="2729" y="8359"/>
                </a:moveTo>
                <a:cubicBezTo>
                  <a:pt x="2748" y="8400"/>
                  <a:pt x="2767" y="8416"/>
                  <a:pt x="2729" y="8409"/>
                </a:cubicBezTo>
                <a:cubicBezTo>
                  <a:pt x="2720" y="8306"/>
                  <a:pt x="2715" y="8309"/>
                  <a:pt x="2679" y="8210"/>
                </a:cubicBezTo>
                <a:cubicBezTo>
                  <a:pt x="2652" y="8136"/>
                  <a:pt x="2608" y="8071"/>
                  <a:pt x="2555" y="8012"/>
                </a:cubicBezTo>
                <a:cubicBezTo>
                  <a:pt x="2541" y="7997"/>
                  <a:pt x="2454" y="7944"/>
                  <a:pt x="2431" y="7938"/>
                </a:cubicBezTo>
                <a:cubicBezTo>
                  <a:pt x="2375" y="7923"/>
                  <a:pt x="2311" y="7967"/>
                  <a:pt x="2282" y="8012"/>
                </a:cubicBezTo>
                <a:cubicBezTo>
                  <a:pt x="2244" y="8070"/>
                  <a:pt x="2236" y="8167"/>
                  <a:pt x="2232" y="8235"/>
                </a:cubicBezTo>
                <a:cubicBezTo>
                  <a:pt x="2229" y="8296"/>
                  <a:pt x="2254" y="8346"/>
                  <a:pt x="2257" y="8409"/>
                </a:cubicBezTo>
                <a:cubicBezTo>
                  <a:pt x="2271" y="8730"/>
                  <a:pt x="2257" y="9055"/>
                  <a:pt x="2257" y="9376"/>
                </a:cubicBezTo>
              </a:path>
              <a:path w="7269" h="1464">
                <a:moveTo>
                  <a:pt x="2034" y="8880"/>
                </a:moveTo>
                <a:cubicBezTo>
                  <a:pt x="2129" y="8848"/>
                  <a:pt x="2167" y="8865"/>
                  <a:pt x="2257" y="8880"/>
                </a:cubicBezTo>
                <a:cubicBezTo>
                  <a:pt x="2321" y="8891"/>
                  <a:pt x="2371" y="8872"/>
                  <a:pt x="2431" y="8855"/>
                </a:cubicBezTo>
              </a:path>
              <a:path w="7269" h="1464">
                <a:moveTo>
                  <a:pt x="3001" y="8434"/>
                </a:moveTo>
                <a:cubicBezTo>
                  <a:pt x="3036" y="8399"/>
                  <a:pt x="3049" y="8377"/>
                  <a:pt x="3051" y="8334"/>
                </a:cubicBezTo>
                <a:cubicBezTo>
                  <a:pt x="3016" y="8378"/>
                  <a:pt x="2974" y="8429"/>
                  <a:pt x="2952" y="8483"/>
                </a:cubicBezTo>
                <a:cubicBezTo>
                  <a:pt x="2920" y="8561"/>
                  <a:pt x="2881" y="8624"/>
                  <a:pt x="2853" y="8706"/>
                </a:cubicBezTo>
                <a:cubicBezTo>
                  <a:pt x="2827" y="8780"/>
                  <a:pt x="2822" y="8856"/>
                  <a:pt x="2803" y="8930"/>
                </a:cubicBezTo>
                <a:cubicBezTo>
                  <a:pt x="2774" y="9045"/>
                  <a:pt x="2772" y="9108"/>
                  <a:pt x="2803" y="9227"/>
                </a:cubicBezTo>
                <a:cubicBezTo>
                  <a:pt x="2819" y="9289"/>
                  <a:pt x="2865" y="9343"/>
                  <a:pt x="2902" y="9376"/>
                </a:cubicBezTo>
                <a:cubicBezTo>
                  <a:pt x="2942" y="9411"/>
                  <a:pt x="2973" y="9401"/>
                  <a:pt x="3026" y="9401"/>
                </a:cubicBezTo>
              </a:path>
              <a:path w="7269" h="1464">
                <a:moveTo>
                  <a:pt x="3175" y="8706"/>
                </a:moveTo>
                <a:cubicBezTo>
                  <a:pt x="3204" y="8857"/>
                  <a:pt x="3239" y="8945"/>
                  <a:pt x="3299" y="9079"/>
                </a:cubicBezTo>
                <a:cubicBezTo>
                  <a:pt x="3340" y="9170"/>
                  <a:pt x="3391" y="9181"/>
                  <a:pt x="3448" y="9252"/>
                </a:cubicBezTo>
                <a:cubicBezTo>
                  <a:pt x="3473" y="9283"/>
                  <a:pt x="3550" y="9357"/>
                  <a:pt x="3597" y="9376"/>
                </a:cubicBezTo>
                <a:cubicBezTo>
                  <a:pt x="3648" y="9376"/>
                  <a:pt x="3665" y="9374"/>
                  <a:pt x="3671" y="9327"/>
                </a:cubicBezTo>
              </a:path>
              <a:path w="7269" h="1464">
                <a:moveTo>
                  <a:pt x="3497" y="8558"/>
                </a:moveTo>
                <a:cubicBezTo>
                  <a:pt x="3469" y="8629"/>
                  <a:pt x="3436" y="8714"/>
                  <a:pt x="3398" y="8781"/>
                </a:cubicBezTo>
                <a:cubicBezTo>
                  <a:pt x="3358" y="8851"/>
                  <a:pt x="3337" y="8932"/>
                  <a:pt x="3299" y="9004"/>
                </a:cubicBezTo>
                <a:cubicBezTo>
                  <a:pt x="3269" y="9061"/>
                  <a:pt x="3242" y="9156"/>
                  <a:pt x="3225" y="9227"/>
                </a:cubicBezTo>
                <a:cubicBezTo>
                  <a:pt x="3209" y="9293"/>
                  <a:pt x="3184" y="9335"/>
                  <a:pt x="3225" y="9376"/>
                </a:cubicBezTo>
              </a:path>
              <a:path w="7269" h="1464">
                <a:moveTo>
                  <a:pt x="3497" y="8136"/>
                </a:moveTo>
                <a:lnTo>
                  <a:pt x="3572" y="8161"/>
                </a:lnTo>
                <a:lnTo>
                  <a:pt x="3621" y="8186"/>
                </a:lnTo>
                <a:lnTo>
                  <a:pt x="3646" y="8235"/>
                </a:lnTo>
                <a:lnTo>
                  <a:pt x="3671" y="8260"/>
                </a:lnTo>
                <a:lnTo>
                  <a:pt x="3721" y="8310"/>
                </a:lnTo>
                <a:lnTo>
                  <a:pt x="3746" y="8334"/>
                </a:lnTo>
                <a:lnTo>
                  <a:pt x="3795" y="8483"/>
                </a:lnTo>
                <a:lnTo>
                  <a:pt x="3820" y="8558"/>
                </a:lnTo>
                <a:lnTo>
                  <a:pt x="3845" y="8632"/>
                </a:lnTo>
                <a:lnTo>
                  <a:pt x="3870" y="8706"/>
                </a:lnTo>
                <a:lnTo>
                  <a:pt x="3894" y="8781"/>
                </a:lnTo>
                <a:lnTo>
                  <a:pt x="3894" y="8855"/>
                </a:lnTo>
                <a:lnTo>
                  <a:pt x="3894" y="8880"/>
                </a:lnTo>
                <a:lnTo>
                  <a:pt x="3870" y="8954"/>
                </a:lnTo>
                <a:lnTo>
                  <a:pt x="3845" y="9029"/>
                </a:lnTo>
                <a:lnTo>
                  <a:pt x="3820" y="9079"/>
                </a:lnTo>
                <a:lnTo>
                  <a:pt x="3795" y="9153"/>
                </a:lnTo>
                <a:lnTo>
                  <a:pt x="3746" y="9227"/>
                </a:lnTo>
                <a:lnTo>
                  <a:pt x="3696" y="9227"/>
                </a:lnTo>
                <a:lnTo>
                  <a:pt x="3671" y="9302"/>
                </a:lnTo>
                <a:lnTo>
                  <a:pt x="3621" y="9302"/>
                </a:lnTo>
                <a:lnTo>
                  <a:pt x="3597" y="9376"/>
                </a:lnTo>
                <a:lnTo>
                  <a:pt x="3547" y="9376"/>
                </a:lnTo>
                <a:lnTo>
                  <a:pt x="3522" y="9376"/>
                </a:lnTo>
                <a:lnTo>
                  <a:pt x="3547" y="9376"/>
                </a:lnTo>
              </a:path>
              <a:path w="7269" h="1464">
                <a:moveTo>
                  <a:pt x="4018" y="8855"/>
                </a:moveTo>
                <a:cubicBezTo>
                  <a:pt x="4092" y="8855"/>
                  <a:pt x="4146" y="8876"/>
                  <a:pt x="4217" y="8880"/>
                </a:cubicBezTo>
                <a:cubicBezTo>
                  <a:pt x="4266" y="8880"/>
                  <a:pt x="4283" y="8880"/>
                  <a:pt x="4316" y="8880"/>
                </a:cubicBezTo>
              </a:path>
              <a:path w="7269" h="1464">
                <a:moveTo>
                  <a:pt x="4093" y="9029"/>
                </a:moveTo>
                <a:cubicBezTo>
                  <a:pt x="4200" y="9088"/>
                  <a:pt x="4262" y="9079"/>
                  <a:pt x="4390" y="9079"/>
                </a:cubicBezTo>
              </a:path>
              <a:path w="7269" h="1464">
                <a:moveTo>
                  <a:pt x="4762" y="8632"/>
                </a:moveTo>
                <a:cubicBezTo>
                  <a:pt x="4771" y="8714"/>
                  <a:pt x="4805" y="8760"/>
                  <a:pt x="4837" y="8855"/>
                </a:cubicBezTo>
                <a:cubicBezTo>
                  <a:pt x="4864" y="8936"/>
                  <a:pt x="4915" y="9005"/>
                  <a:pt x="4961" y="9079"/>
                </a:cubicBezTo>
                <a:cubicBezTo>
                  <a:pt x="5011" y="9158"/>
                  <a:pt x="5071" y="9195"/>
                  <a:pt x="5135" y="9252"/>
                </a:cubicBezTo>
                <a:cubicBezTo>
                  <a:pt x="5210" y="9319"/>
                  <a:pt x="5240" y="9367"/>
                  <a:pt x="5333" y="9376"/>
                </a:cubicBezTo>
                <a:cubicBezTo>
                  <a:pt x="5385" y="9376"/>
                  <a:pt x="5402" y="9375"/>
                  <a:pt x="5407" y="9327"/>
                </a:cubicBezTo>
              </a:path>
              <a:path w="7269" h="1464">
                <a:moveTo>
                  <a:pt x="5110" y="8483"/>
                </a:moveTo>
                <a:cubicBezTo>
                  <a:pt x="5057" y="8562"/>
                  <a:pt x="4997" y="8647"/>
                  <a:pt x="4961" y="8731"/>
                </a:cubicBezTo>
                <a:cubicBezTo>
                  <a:pt x="4921" y="8825"/>
                  <a:pt x="4915" y="8908"/>
                  <a:pt x="4887" y="9004"/>
                </a:cubicBezTo>
                <a:cubicBezTo>
                  <a:pt x="4865" y="9080"/>
                  <a:pt x="4831" y="9150"/>
                  <a:pt x="4812" y="9227"/>
                </a:cubicBezTo>
                <a:cubicBezTo>
                  <a:pt x="4800" y="9276"/>
                  <a:pt x="4791" y="9281"/>
                  <a:pt x="4812" y="9302"/>
                </a:cubicBezTo>
              </a:path>
              <a:path w="7269" h="1464">
                <a:moveTo>
                  <a:pt x="5283" y="8111"/>
                </a:moveTo>
                <a:cubicBezTo>
                  <a:pt x="5353" y="8063"/>
                  <a:pt x="5394" y="8044"/>
                  <a:pt x="5457" y="8012"/>
                </a:cubicBezTo>
                <a:cubicBezTo>
                  <a:pt x="5491" y="7995"/>
                  <a:pt x="5584" y="8002"/>
                  <a:pt x="5606" y="8062"/>
                </a:cubicBezTo>
                <a:cubicBezTo>
                  <a:pt x="5625" y="8113"/>
                  <a:pt x="5608" y="8242"/>
                  <a:pt x="5581" y="8285"/>
                </a:cubicBezTo>
                <a:cubicBezTo>
                  <a:pt x="5554" y="8328"/>
                  <a:pt x="5492" y="8396"/>
                  <a:pt x="5457" y="8434"/>
                </a:cubicBezTo>
                <a:cubicBezTo>
                  <a:pt x="5422" y="8471"/>
                  <a:pt x="5284" y="8528"/>
                  <a:pt x="5308" y="8409"/>
                </a:cubicBezTo>
                <a:cubicBezTo>
                  <a:pt x="5327" y="8312"/>
                  <a:pt x="5407" y="8334"/>
                  <a:pt x="5482" y="8334"/>
                </a:cubicBezTo>
                <a:cubicBezTo>
                  <a:pt x="5545" y="8334"/>
                  <a:pt x="5590" y="8359"/>
                  <a:pt x="5655" y="8359"/>
                </a:cubicBezTo>
              </a:path>
              <a:path w="7269" h="1464">
                <a:moveTo>
                  <a:pt x="5581" y="8781"/>
                </a:moveTo>
                <a:cubicBezTo>
                  <a:pt x="5689" y="8781"/>
                  <a:pt x="5796" y="8781"/>
                  <a:pt x="5904" y="8781"/>
                </a:cubicBezTo>
              </a:path>
              <a:path w="7269" h="1464">
                <a:moveTo>
                  <a:pt x="6325" y="8483"/>
                </a:moveTo>
                <a:cubicBezTo>
                  <a:pt x="6333" y="8556"/>
                  <a:pt x="6336" y="8625"/>
                  <a:pt x="6375" y="8706"/>
                </a:cubicBezTo>
                <a:cubicBezTo>
                  <a:pt x="6407" y="8773"/>
                  <a:pt x="6478" y="8869"/>
                  <a:pt x="6524" y="8930"/>
                </a:cubicBezTo>
                <a:cubicBezTo>
                  <a:pt x="6570" y="8992"/>
                  <a:pt x="6641" y="9028"/>
                  <a:pt x="6697" y="9079"/>
                </a:cubicBezTo>
                <a:cubicBezTo>
                  <a:pt x="6751" y="9128"/>
                  <a:pt x="6813" y="9186"/>
                  <a:pt x="6896" y="9178"/>
                </a:cubicBezTo>
                <a:cubicBezTo>
                  <a:pt x="6912" y="9170"/>
                  <a:pt x="6929" y="9161"/>
                  <a:pt x="6945" y="9153"/>
                </a:cubicBezTo>
              </a:path>
              <a:path w="7269" h="1464">
                <a:moveTo>
                  <a:pt x="6772" y="8409"/>
                </a:moveTo>
                <a:cubicBezTo>
                  <a:pt x="6668" y="8409"/>
                  <a:pt x="6717" y="8424"/>
                  <a:pt x="6648" y="8483"/>
                </a:cubicBezTo>
                <a:cubicBezTo>
                  <a:pt x="6587" y="8535"/>
                  <a:pt x="6557" y="8596"/>
                  <a:pt x="6499" y="8657"/>
                </a:cubicBezTo>
                <a:cubicBezTo>
                  <a:pt x="6450" y="8708"/>
                  <a:pt x="6370" y="8825"/>
                  <a:pt x="6350" y="8855"/>
                </a:cubicBezTo>
                <a:cubicBezTo>
                  <a:pt x="6309" y="8916"/>
                  <a:pt x="6276" y="9009"/>
                  <a:pt x="6251" y="9079"/>
                </a:cubicBezTo>
              </a:path>
              <a:path w="7269" h="1464">
                <a:moveTo>
                  <a:pt x="7342" y="8483"/>
                </a:moveTo>
                <a:cubicBezTo>
                  <a:pt x="7342" y="8613"/>
                  <a:pt x="7353" y="8729"/>
                  <a:pt x="7367" y="8855"/>
                </a:cubicBezTo>
                <a:cubicBezTo>
                  <a:pt x="7376" y="8937"/>
                  <a:pt x="7402" y="8940"/>
                  <a:pt x="7417" y="9029"/>
                </a:cubicBezTo>
              </a:path>
              <a:path w="7269" h="1464">
                <a:moveTo>
                  <a:pt x="7169" y="8706"/>
                </a:moveTo>
                <a:cubicBezTo>
                  <a:pt x="7271" y="8706"/>
                  <a:pt x="7334" y="8682"/>
                  <a:pt x="7417" y="8657"/>
                </a:cubicBezTo>
                <a:cubicBezTo>
                  <a:pt x="7479" y="8638"/>
                  <a:pt x="7574" y="8645"/>
                  <a:pt x="7640" y="8632"/>
                </a:cubicBezTo>
              </a:path>
              <a:path w="7269" h="1464">
                <a:moveTo>
                  <a:pt x="7987" y="8285"/>
                </a:moveTo>
                <a:cubicBezTo>
                  <a:pt x="8114" y="8285"/>
                  <a:pt x="8247" y="8294"/>
                  <a:pt x="8359" y="8260"/>
                </a:cubicBezTo>
                <a:cubicBezTo>
                  <a:pt x="8367" y="8260"/>
                  <a:pt x="8376" y="8260"/>
                  <a:pt x="8384" y="8260"/>
                </a:cubicBezTo>
              </a:path>
              <a:path w="7269" h="1464">
                <a:moveTo>
                  <a:pt x="8012" y="8235"/>
                </a:moveTo>
                <a:cubicBezTo>
                  <a:pt x="7977" y="8270"/>
                  <a:pt x="7916" y="8316"/>
                  <a:pt x="7888" y="8359"/>
                </a:cubicBezTo>
                <a:cubicBezTo>
                  <a:pt x="7862" y="8399"/>
                  <a:pt x="7842" y="8509"/>
                  <a:pt x="7863" y="8558"/>
                </a:cubicBezTo>
                <a:cubicBezTo>
                  <a:pt x="7913" y="8676"/>
                  <a:pt x="7931" y="8604"/>
                  <a:pt x="7987" y="8582"/>
                </a:cubicBezTo>
                <a:cubicBezTo>
                  <a:pt x="8011" y="8572"/>
                  <a:pt x="8137" y="8553"/>
                  <a:pt x="8161" y="8558"/>
                </a:cubicBezTo>
                <a:cubicBezTo>
                  <a:pt x="8192" y="8565"/>
                  <a:pt x="8293" y="8635"/>
                  <a:pt x="8310" y="8657"/>
                </a:cubicBezTo>
                <a:cubicBezTo>
                  <a:pt x="8355" y="8715"/>
                  <a:pt x="8370" y="8783"/>
                  <a:pt x="8384" y="8855"/>
                </a:cubicBezTo>
                <a:cubicBezTo>
                  <a:pt x="8398" y="8931"/>
                  <a:pt x="8390" y="9042"/>
                  <a:pt x="8359" y="9103"/>
                </a:cubicBezTo>
                <a:cubicBezTo>
                  <a:pt x="8333" y="9155"/>
                  <a:pt x="8288" y="9167"/>
                  <a:pt x="8235" y="9178"/>
                </a:cubicBezTo>
                <a:cubicBezTo>
                  <a:pt x="8161" y="9193"/>
                  <a:pt x="8095" y="9171"/>
                  <a:pt x="8037" y="9153"/>
                </a:cubicBezTo>
                <a:cubicBezTo>
                  <a:pt x="8029" y="9153"/>
                  <a:pt x="8020" y="9153"/>
                  <a:pt x="8012" y="9153"/>
                </a:cubicBezTo>
              </a:path>
              <a:path w="7269" h="1464">
                <a:moveTo>
                  <a:pt x="8657" y="8210"/>
                </a:moveTo>
                <a:cubicBezTo>
                  <a:pt x="8697" y="8277"/>
                  <a:pt x="8662" y="8328"/>
                  <a:pt x="8657" y="8409"/>
                </a:cubicBezTo>
                <a:cubicBezTo>
                  <a:pt x="8650" y="8521"/>
                  <a:pt x="8664" y="8634"/>
                  <a:pt x="8682" y="8731"/>
                </a:cubicBezTo>
                <a:cubicBezTo>
                  <a:pt x="8700" y="8825"/>
                  <a:pt x="8756" y="8870"/>
                  <a:pt x="8806" y="8930"/>
                </a:cubicBezTo>
                <a:cubicBezTo>
                  <a:pt x="8889" y="9030"/>
                  <a:pt x="8885" y="8971"/>
                  <a:pt x="8979" y="9029"/>
                </a:cubicBezTo>
                <a:cubicBezTo>
                  <a:pt x="9017" y="9052"/>
                  <a:pt x="9119" y="9125"/>
                  <a:pt x="9178" y="9079"/>
                </a:cubicBezTo>
                <a:cubicBezTo>
                  <a:pt x="9242" y="9030"/>
                  <a:pt x="9243" y="9021"/>
                  <a:pt x="9277" y="8954"/>
                </a:cubicBezTo>
                <a:cubicBezTo>
                  <a:pt x="9301" y="8908"/>
                  <a:pt x="9317" y="8842"/>
                  <a:pt x="9302" y="8781"/>
                </a:cubicBezTo>
                <a:cubicBezTo>
                  <a:pt x="9295" y="8753"/>
                  <a:pt x="9230" y="8642"/>
                  <a:pt x="9203" y="8632"/>
                </a:cubicBezTo>
                <a:cubicBezTo>
                  <a:pt x="9158" y="8616"/>
                  <a:pt x="9010" y="8612"/>
                  <a:pt x="8979" y="8657"/>
                </a:cubicBezTo>
                <a:cubicBezTo>
                  <a:pt x="8943" y="8708"/>
                  <a:pt x="8916" y="8791"/>
                  <a:pt x="8930" y="8855"/>
                </a:cubicBezTo>
                <a:cubicBezTo>
                  <a:pt x="8952" y="8956"/>
                  <a:pt x="8954" y="9053"/>
                  <a:pt x="8979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5"/>
          <p:cNvSpPr/>
          <p:nvPr/>
        </p:nvSpPr>
        <p:spPr>
          <a:xfrm>
            <a:off x="892080" y="3616200"/>
            <a:ext cx="465120" cy="401760"/>
          </a:xfrm>
          <a:custGeom>
            <a:avLst/>
            <a:gdLst/>
            <a:ahLst/>
            <a:rect l="l" t="t" r="r" b="b"/>
            <a:pathLst>
              <a:path w="1291" h="1117">
                <a:moveTo>
                  <a:pt x="2729" y="10220"/>
                </a:moveTo>
                <a:cubicBezTo>
                  <a:pt x="2719" y="10287"/>
                  <a:pt x="2676" y="10304"/>
                  <a:pt x="2654" y="10344"/>
                </a:cubicBezTo>
                <a:cubicBezTo>
                  <a:pt x="2623" y="10400"/>
                  <a:pt x="2574" y="10431"/>
                  <a:pt x="2555" y="10492"/>
                </a:cubicBezTo>
                <a:cubicBezTo>
                  <a:pt x="2534" y="10560"/>
                  <a:pt x="2525" y="10610"/>
                  <a:pt x="2505" y="10691"/>
                </a:cubicBezTo>
                <a:cubicBezTo>
                  <a:pt x="2489" y="10756"/>
                  <a:pt x="2485" y="10843"/>
                  <a:pt x="2505" y="10914"/>
                </a:cubicBezTo>
                <a:cubicBezTo>
                  <a:pt x="2524" y="10983"/>
                  <a:pt x="2603" y="11071"/>
                  <a:pt x="2654" y="11112"/>
                </a:cubicBezTo>
                <a:cubicBezTo>
                  <a:pt x="2716" y="11161"/>
                  <a:pt x="2779" y="11162"/>
                  <a:pt x="2853" y="11162"/>
                </a:cubicBezTo>
                <a:cubicBezTo>
                  <a:pt x="2930" y="11162"/>
                  <a:pt x="3007" y="11176"/>
                  <a:pt x="3076" y="11137"/>
                </a:cubicBezTo>
                <a:cubicBezTo>
                  <a:pt x="3126" y="11109"/>
                  <a:pt x="3191" y="11061"/>
                  <a:pt x="3225" y="11013"/>
                </a:cubicBezTo>
                <a:cubicBezTo>
                  <a:pt x="3259" y="10965"/>
                  <a:pt x="3271" y="10872"/>
                  <a:pt x="3274" y="10815"/>
                </a:cubicBezTo>
                <a:cubicBezTo>
                  <a:pt x="3280" y="10715"/>
                  <a:pt x="3272" y="10613"/>
                  <a:pt x="3249" y="10517"/>
                </a:cubicBezTo>
                <a:cubicBezTo>
                  <a:pt x="3232" y="10449"/>
                  <a:pt x="3188" y="10354"/>
                  <a:pt x="3150" y="10294"/>
                </a:cubicBezTo>
                <a:cubicBezTo>
                  <a:pt x="3117" y="10243"/>
                  <a:pt x="3068" y="10146"/>
                  <a:pt x="3026" y="10120"/>
                </a:cubicBezTo>
                <a:cubicBezTo>
                  <a:pt x="2990" y="10098"/>
                  <a:pt x="2924" y="10055"/>
                  <a:pt x="2877" y="10046"/>
                </a:cubicBezTo>
                <a:cubicBezTo>
                  <a:pt x="2816" y="10034"/>
                  <a:pt x="2753" y="10062"/>
                  <a:pt x="2729" y="10071"/>
                </a:cubicBezTo>
              </a:path>
              <a:path w="1291" h="1117">
                <a:moveTo>
                  <a:pt x="3522" y="10567"/>
                </a:moveTo>
                <a:cubicBezTo>
                  <a:pt x="3614" y="10587"/>
                  <a:pt x="3677" y="10592"/>
                  <a:pt x="3770" y="10592"/>
                </a:cubicBezTo>
              </a:path>
              <a:path w="1291" h="1117">
                <a:moveTo>
                  <a:pt x="3497" y="10691"/>
                </a:moveTo>
                <a:cubicBezTo>
                  <a:pt x="3566" y="10746"/>
                  <a:pt x="3633" y="10746"/>
                  <a:pt x="3721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6"/>
          <p:cNvSpPr/>
          <p:nvPr/>
        </p:nvSpPr>
        <p:spPr>
          <a:xfrm>
            <a:off x="1544760" y="3562200"/>
            <a:ext cx="1571400" cy="482760"/>
          </a:xfrm>
          <a:custGeom>
            <a:avLst/>
            <a:gdLst/>
            <a:ahLst/>
            <a:rect l="l" t="t" r="r" b="b"/>
            <a:pathLst>
              <a:path w="4367" h="1341">
                <a:moveTo>
                  <a:pt x="4316" y="10443"/>
                </a:moveTo>
                <a:cubicBezTo>
                  <a:pt x="4340" y="10498"/>
                  <a:pt x="4359" y="10541"/>
                  <a:pt x="4390" y="10592"/>
                </a:cubicBezTo>
                <a:cubicBezTo>
                  <a:pt x="4444" y="10682"/>
                  <a:pt x="4490" y="10762"/>
                  <a:pt x="4564" y="10840"/>
                </a:cubicBezTo>
                <a:cubicBezTo>
                  <a:pt x="4639" y="10918"/>
                  <a:pt x="4708" y="10992"/>
                  <a:pt x="4787" y="11063"/>
                </a:cubicBezTo>
                <a:cubicBezTo>
                  <a:pt x="4845" y="11115"/>
                  <a:pt x="4895" y="11172"/>
                  <a:pt x="4961" y="11212"/>
                </a:cubicBezTo>
                <a:cubicBezTo>
                  <a:pt x="4978" y="11220"/>
                  <a:pt x="4994" y="11229"/>
                  <a:pt x="5011" y="11237"/>
                </a:cubicBezTo>
              </a:path>
              <a:path w="4367" h="1341">
                <a:moveTo>
                  <a:pt x="4738" y="10294"/>
                </a:moveTo>
                <a:cubicBezTo>
                  <a:pt x="4695" y="10372"/>
                  <a:pt x="4652" y="10451"/>
                  <a:pt x="4614" y="10517"/>
                </a:cubicBezTo>
                <a:cubicBezTo>
                  <a:pt x="4567" y="10600"/>
                  <a:pt x="4552" y="10703"/>
                  <a:pt x="4514" y="10790"/>
                </a:cubicBezTo>
                <a:cubicBezTo>
                  <a:pt x="4481" y="10865"/>
                  <a:pt x="4452" y="10940"/>
                  <a:pt x="4415" y="11013"/>
                </a:cubicBezTo>
                <a:cubicBezTo>
                  <a:pt x="4386" y="11071"/>
                  <a:pt x="4349" y="11110"/>
                  <a:pt x="4316" y="11162"/>
                </a:cubicBezTo>
                <a:cubicBezTo>
                  <a:pt x="4296" y="11203"/>
                  <a:pt x="4287" y="11209"/>
                  <a:pt x="4291" y="11237"/>
                </a:cubicBezTo>
              </a:path>
              <a:path w="4367" h="1341">
                <a:moveTo>
                  <a:pt x="4936" y="9922"/>
                </a:moveTo>
                <a:cubicBezTo>
                  <a:pt x="5050" y="9891"/>
                  <a:pt x="5053" y="9888"/>
                  <a:pt x="5135" y="9971"/>
                </a:cubicBezTo>
                <a:cubicBezTo>
                  <a:pt x="5192" y="10029"/>
                  <a:pt x="5141" y="10089"/>
                  <a:pt x="5110" y="10145"/>
                </a:cubicBezTo>
                <a:cubicBezTo>
                  <a:pt x="5076" y="10206"/>
                  <a:pt x="5025" y="10202"/>
                  <a:pt x="4986" y="10269"/>
                </a:cubicBezTo>
                <a:cubicBezTo>
                  <a:pt x="4933" y="10360"/>
                  <a:pt x="5099" y="10344"/>
                  <a:pt x="5135" y="10344"/>
                </a:cubicBezTo>
                <a:cubicBezTo>
                  <a:pt x="5184" y="10344"/>
                  <a:pt x="5234" y="10344"/>
                  <a:pt x="5283" y="10344"/>
                </a:cubicBezTo>
              </a:path>
              <a:path w="4367" h="1341">
                <a:moveTo>
                  <a:pt x="5259" y="10641"/>
                </a:moveTo>
                <a:cubicBezTo>
                  <a:pt x="5389" y="10641"/>
                  <a:pt x="5469" y="10629"/>
                  <a:pt x="5581" y="10691"/>
                </a:cubicBezTo>
              </a:path>
              <a:path w="4367" h="1341">
                <a:moveTo>
                  <a:pt x="5854" y="10344"/>
                </a:moveTo>
                <a:cubicBezTo>
                  <a:pt x="5883" y="10415"/>
                  <a:pt x="5915" y="10500"/>
                  <a:pt x="5953" y="10567"/>
                </a:cubicBezTo>
                <a:cubicBezTo>
                  <a:pt x="5992" y="10637"/>
                  <a:pt x="6046" y="10706"/>
                  <a:pt x="6102" y="10765"/>
                </a:cubicBezTo>
                <a:cubicBezTo>
                  <a:pt x="6203" y="10872"/>
                  <a:pt x="6297" y="10963"/>
                  <a:pt x="6424" y="11038"/>
                </a:cubicBezTo>
                <a:cubicBezTo>
                  <a:pt x="6480" y="11071"/>
                  <a:pt x="6488" y="11079"/>
                  <a:pt x="6548" y="11088"/>
                </a:cubicBezTo>
              </a:path>
              <a:path w="4367" h="1341">
                <a:moveTo>
                  <a:pt x="6226" y="10368"/>
                </a:moveTo>
                <a:cubicBezTo>
                  <a:pt x="6153" y="10481"/>
                  <a:pt x="6082" y="10594"/>
                  <a:pt x="6028" y="10716"/>
                </a:cubicBezTo>
                <a:cubicBezTo>
                  <a:pt x="5989" y="10804"/>
                  <a:pt x="5958" y="10902"/>
                  <a:pt x="5928" y="10988"/>
                </a:cubicBezTo>
                <a:cubicBezTo>
                  <a:pt x="5905" y="11036"/>
                  <a:pt x="5897" y="11051"/>
                  <a:pt x="5904" y="11088"/>
                </a:cubicBezTo>
              </a:path>
              <a:path w="4367" h="1341">
                <a:moveTo>
                  <a:pt x="6747" y="10368"/>
                </a:moveTo>
                <a:cubicBezTo>
                  <a:pt x="6764" y="10457"/>
                  <a:pt x="6784" y="10553"/>
                  <a:pt x="6796" y="10641"/>
                </a:cubicBezTo>
                <a:cubicBezTo>
                  <a:pt x="6803" y="10695"/>
                  <a:pt x="6802" y="10790"/>
                  <a:pt x="6821" y="10840"/>
                </a:cubicBezTo>
                <a:cubicBezTo>
                  <a:pt x="6835" y="10877"/>
                  <a:pt x="6846" y="10892"/>
                  <a:pt x="6846" y="10939"/>
                </a:cubicBezTo>
              </a:path>
              <a:path w="4367" h="1341">
                <a:moveTo>
                  <a:pt x="6573" y="10567"/>
                </a:moveTo>
                <a:cubicBezTo>
                  <a:pt x="6714" y="10567"/>
                  <a:pt x="6854" y="10567"/>
                  <a:pt x="6995" y="10567"/>
                </a:cubicBezTo>
              </a:path>
              <a:path w="4367" h="1341">
                <a:moveTo>
                  <a:pt x="7466" y="10145"/>
                </a:moveTo>
                <a:cubicBezTo>
                  <a:pt x="7609" y="10145"/>
                  <a:pt x="7666" y="10173"/>
                  <a:pt x="7789" y="10195"/>
                </a:cubicBezTo>
              </a:path>
              <a:path w="4367" h="1341">
                <a:moveTo>
                  <a:pt x="7466" y="10120"/>
                </a:moveTo>
                <a:cubicBezTo>
                  <a:pt x="7404" y="10183"/>
                  <a:pt x="7334" y="10245"/>
                  <a:pt x="7342" y="10344"/>
                </a:cubicBezTo>
                <a:cubicBezTo>
                  <a:pt x="7348" y="10417"/>
                  <a:pt x="7403" y="10486"/>
                  <a:pt x="7466" y="10492"/>
                </a:cubicBezTo>
                <a:cubicBezTo>
                  <a:pt x="7538" y="10498"/>
                  <a:pt x="7633" y="10468"/>
                  <a:pt x="7689" y="10517"/>
                </a:cubicBezTo>
                <a:cubicBezTo>
                  <a:pt x="7747" y="10568"/>
                  <a:pt x="7776" y="10571"/>
                  <a:pt x="7813" y="10641"/>
                </a:cubicBezTo>
                <a:cubicBezTo>
                  <a:pt x="7862" y="10735"/>
                  <a:pt x="7854" y="10746"/>
                  <a:pt x="7838" y="10840"/>
                </a:cubicBezTo>
                <a:cubicBezTo>
                  <a:pt x="7827" y="10905"/>
                  <a:pt x="7812" y="10917"/>
                  <a:pt x="7764" y="10964"/>
                </a:cubicBezTo>
                <a:cubicBezTo>
                  <a:pt x="7709" y="11018"/>
                  <a:pt x="7662" y="11013"/>
                  <a:pt x="7590" y="11013"/>
                </a:cubicBezTo>
                <a:cubicBezTo>
                  <a:pt x="7526" y="11013"/>
                  <a:pt x="7466" y="11027"/>
                  <a:pt x="7417" y="10988"/>
                </a:cubicBezTo>
                <a:cubicBezTo>
                  <a:pt x="7387" y="10959"/>
                  <a:pt x="7372" y="10948"/>
                  <a:pt x="7342" y="10939"/>
                </a:cubicBezTo>
              </a:path>
              <a:path w="4367" h="1341">
                <a:moveTo>
                  <a:pt x="8111" y="10195"/>
                </a:moveTo>
                <a:cubicBezTo>
                  <a:pt x="8075" y="10302"/>
                  <a:pt x="8062" y="10380"/>
                  <a:pt x="8062" y="10492"/>
                </a:cubicBezTo>
                <a:cubicBezTo>
                  <a:pt x="8062" y="10561"/>
                  <a:pt x="8083" y="10674"/>
                  <a:pt x="8111" y="10740"/>
                </a:cubicBezTo>
                <a:cubicBezTo>
                  <a:pt x="8138" y="10804"/>
                  <a:pt x="8316" y="10974"/>
                  <a:pt x="8384" y="10988"/>
                </a:cubicBezTo>
                <a:cubicBezTo>
                  <a:pt x="8438" y="11000"/>
                  <a:pt x="8541" y="10999"/>
                  <a:pt x="8582" y="10964"/>
                </a:cubicBezTo>
                <a:cubicBezTo>
                  <a:pt x="8656" y="10900"/>
                  <a:pt x="8684" y="10829"/>
                  <a:pt x="8632" y="10740"/>
                </a:cubicBezTo>
                <a:cubicBezTo>
                  <a:pt x="8611" y="10704"/>
                  <a:pt x="8580" y="10680"/>
                  <a:pt x="8558" y="10641"/>
                </a:cubicBezTo>
                <a:cubicBezTo>
                  <a:pt x="8501" y="10657"/>
                  <a:pt x="8430" y="10706"/>
                  <a:pt x="8384" y="10765"/>
                </a:cubicBezTo>
                <a:cubicBezTo>
                  <a:pt x="8330" y="10836"/>
                  <a:pt x="8313" y="10955"/>
                  <a:pt x="8285" y="11038"/>
                </a:cubicBezTo>
                <a:cubicBezTo>
                  <a:pt x="8277" y="11063"/>
                  <a:pt x="8268" y="11087"/>
                  <a:pt x="8260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7"/>
          <p:cNvSpPr/>
          <p:nvPr/>
        </p:nvSpPr>
        <p:spPr>
          <a:xfrm>
            <a:off x="598320" y="4170240"/>
            <a:ext cx="3473640" cy="490680"/>
          </a:xfrm>
          <a:custGeom>
            <a:avLst/>
            <a:gdLst/>
            <a:ahLst/>
            <a:rect l="l" t="t" r="r" b="b"/>
            <a:pathLst>
              <a:path w="9650" h="1365">
                <a:moveTo>
                  <a:pt x="1712" y="11906"/>
                </a:moveTo>
                <a:cubicBezTo>
                  <a:pt x="1749" y="11954"/>
                  <a:pt x="1766" y="12005"/>
                  <a:pt x="1786" y="12055"/>
                </a:cubicBezTo>
                <a:cubicBezTo>
                  <a:pt x="1823" y="12147"/>
                  <a:pt x="1875" y="12213"/>
                  <a:pt x="1910" y="12303"/>
                </a:cubicBezTo>
                <a:cubicBezTo>
                  <a:pt x="1953" y="12413"/>
                  <a:pt x="2018" y="12502"/>
                  <a:pt x="2084" y="12601"/>
                </a:cubicBezTo>
                <a:cubicBezTo>
                  <a:pt x="2138" y="12682"/>
                  <a:pt x="2197" y="12774"/>
                  <a:pt x="2257" y="12849"/>
                </a:cubicBezTo>
                <a:cubicBezTo>
                  <a:pt x="2295" y="12897"/>
                  <a:pt x="2337" y="12922"/>
                  <a:pt x="2381" y="12948"/>
                </a:cubicBezTo>
              </a:path>
              <a:path w="9650" h="1365">
                <a:moveTo>
                  <a:pt x="2158" y="11757"/>
                </a:moveTo>
                <a:cubicBezTo>
                  <a:pt x="2109" y="11823"/>
                  <a:pt x="2098" y="11879"/>
                  <a:pt x="2059" y="11956"/>
                </a:cubicBezTo>
                <a:cubicBezTo>
                  <a:pt x="2012" y="12050"/>
                  <a:pt x="1969" y="12128"/>
                  <a:pt x="1935" y="12229"/>
                </a:cubicBezTo>
                <a:cubicBezTo>
                  <a:pt x="1902" y="12327"/>
                  <a:pt x="1847" y="12406"/>
                  <a:pt x="1811" y="12502"/>
                </a:cubicBezTo>
                <a:cubicBezTo>
                  <a:pt x="1786" y="12570"/>
                  <a:pt x="1728" y="12661"/>
                  <a:pt x="1712" y="12725"/>
                </a:cubicBezTo>
                <a:cubicBezTo>
                  <a:pt x="1699" y="12779"/>
                  <a:pt x="1699" y="12825"/>
                  <a:pt x="1662" y="12849"/>
                </a:cubicBezTo>
              </a:path>
              <a:path w="9650" h="1365">
                <a:moveTo>
                  <a:pt x="2282" y="12254"/>
                </a:moveTo>
                <a:cubicBezTo>
                  <a:pt x="2403" y="12254"/>
                  <a:pt x="2510" y="12264"/>
                  <a:pt x="2629" y="12278"/>
                </a:cubicBezTo>
                <a:cubicBezTo>
                  <a:pt x="2669" y="12283"/>
                  <a:pt x="2713" y="12278"/>
                  <a:pt x="2753" y="12278"/>
                </a:cubicBezTo>
              </a:path>
              <a:path w="9650" h="1365">
                <a:moveTo>
                  <a:pt x="2356" y="12452"/>
                </a:moveTo>
                <a:cubicBezTo>
                  <a:pt x="2445" y="12452"/>
                  <a:pt x="2763" y="12503"/>
                  <a:pt x="2828" y="12477"/>
                </a:cubicBezTo>
                <a:cubicBezTo>
                  <a:pt x="2828" y="12469"/>
                  <a:pt x="2828" y="12460"/>
                  <a:pt x="2828" y="12452"/>
                </a:cubicBezTo>
              </a:path>
              <a:path w="9650" h="1365">
                <a:moveTo>
                  <a:pt x="3200" y="12254"/>
                </a:moveTo>
                <a:cubicBezTo>
                  <a:pt x="3338" y="12254"/>
                  <a:pt x="3461" y="12253"/>
                  <a:pt x="3597" y="12229"/>
                </a:cubicBezTo>
              </a:path>
              <a:path w="9650" h="1365">
                <a:moveTo>
                  <a:pt x="3919" y="11857"/>
                </a:moveTo>
                <a:cubicBezTo>
                  <a:pt x="3884" y="11901"/>
                  <a:pt x="3842" y="11952"/>
                  <a:pt x="3820" y="12005"/>
                </a:cubicBezTo>
                <a:cubicBezTo>
                  <a:pt x="3789" y="12081"/>
                  <a:pt x="3760" y="12151"/>
                  <a:pt x="3746" y="12229"/>
                </a:cubicBezTo>
                <a:cubicBezTo>
                  <a:pt x="3726" y="12340"/>
                  <a:pt x="3717" y="12420"/>
                  <a:pt x="3746" y="12526"/>
                </a:cubicBezTo>
                <a:cubicBezTo>
                  <a:pt x="3769" y="12610"/>
                  <a:pt x="3854" y="12741"/>
                  <a:pt x="3919" y="12799"/>
                </a:cubicBezTo>
                <a:cubicBezTo>
                  <a:pt x="3936" y="12807"/>
                  <a:pt x="3952" y="12816"/>
                  <a:pt x="3969" y="12824"/>
                </a:cubicBezTo>
              </a:path>
              <a:path w="9650" h="1365">
                <a:moveTo>
                  <a:pt x="4018" y="12229"/>
                </a:moveTo>
                <a:cubicBezTo>
                  <a:pt x="4093" y="12191"/>
                  <a:pt x="4117" y="12225"/>
                  <a:pt x="4192" y="12229"/>
                </a:cubicBezTo>
                <a:cubicBezTo>
                  <a:pt x="4242" y="12229"/>
                  <a:pt x="4258" y="12229"/>
                  <a:pt x="4291" y="12229"/>
                </a:cubicBezTo>
              </a:path>
              <a:path w="9650" h="1365">
                <a:moveTo>
                  <a:pt x="4465" y="11956"/>
                </a:moveTo>
                <a:cubicBezTo>
                  <a:pt x="4465" y="12039"/>
                  <a:pt x="4443" y="12101"/>
                  <a:pt x="4440" y="12179"/>
                </a:cubicBezTo>
                <a:cubicBezTo>
                  <a:pt x="4436" y="12264"/>
                  <a:pt x="4409" y="12404"/>
                  <a:pt x="4415" y="12477"/>
                </a:cubicBezTo>
                <a:cubicBezTo>
                  <a:pt x="4417" y="12503"/>
                  <a:pt x="4443" y="12697"/>
                  <a:pt x="4465" y="12700"/>
                </a:cubicBezTo>
                <a:cubicBezTo>
                  <a:pt x="4473" y="12692"/>
                  <a:pt x="4482" y="12683"/>
                  <a:pt x="4490" y="12675"/>
                </a:cubicBezTo>
              </a:path>
              <a:path w="9650" h="1365">
                <a:moveTo>
                  <a:pt x="4589" y="11708"/>
                </a:moveTo>
                <a:cubicBezTo>
                  <a:pt x="4656" y="11756"/>
                  <a:pt x="4675" y="11805"/>
                  <a:pt x="4713" y="11881"/>
                </a:cubicBezTo>
                <a:cubicBezTo>
                  <a:pt x="4771" y="11995"/>
                  <a:pt x="4781" y="12106"/>
                  <a:pt x="4812" y="12229"/>
                </a:cubicBezTo>
                <a:cubicBezTo>
                  <a:pt x="4837" y="12329"/>
                  <a:pt x="4837" y="12402"/>
                  <a:pt x="4812" y="12502"/>
                </a:cubicBezTo>
                <a:cubicBezTo>
                  <a:pt x="4792" y="12580"/>
                  <a:pt x="4752" y="12635"/>
                  <a:pt x="4713" y="12700"/>
                </a:cubicBezTo>
                <a:cubicBezTo>
                  <a:pt x="4687" y="12744"/>
                  <a:pt x="4674" y="12764"/>
                  <a:pt x="4638" y="12799"/>
                </a:cubicBezTo>
              </a:path>
              <a:path w="9650" h="1365">
                <a:moveTo>
                  <a:pt x="5333" y="11733"/>
                </a:moveTo>
                <a:cubicBezTo>
                  <a:pt x="5342" y="11827"/>
                  <a:pt x="5378" y="11909"/>
                  <a:pt x="5383" y="12005"/>
                </a:cubicBezTo>
                <a:cubicBezTo>
                  <a:pt x="5387" y="12075"/>
                  <a:pt x="5407" y="12131"/>
                  <a:pt x="5407" y="12204"/>
                </a:cubicBezTo>
                <a:cubicBezTo>
                  <a:pt x="5407" y="12262"/>
                  <a:pt x="5407" y="12270"/>
                  <a:pt x="5407" y="12303"/>
                </a:cubicBezTo>
              </a:path>
              <a:path w="9650" h="1365">
                <a:moveTo>
                  <a:pt x="5135" y="12105"/>
                </a:moveTo>
                <a:cubicBezTo>
                  <a:pt x="5272" y="12105"/>
                  <a:pt x="5429" y="12083"/>
                  <a:pt x="5556" y="12129"/>
                </a:cubicBezTo>
              </a:path>
              <a:path w="9650" h="1365">
                <a:moveTo>
                  <a:pt x="5234" y="12402"/>
                </a:moveTo>
                <a:cubicBezTo>
                  <a:pt x="5319" y="12435"/>
                  <a:pt x="5346" y="12407"/>
                  <a:pt x="5432" y="12402"/>
                </a:cubicBezTo>
                <a:cubicBezTo>
                  <a:pt x="5449" y="12402"/>
                  <a:pt x="5465" y="12402"/>
                  <a:pt x="5482" y="12402"/>
                </a:cubicBezTo>
              </a:path>
              <a:path w="9650" h="1365">
                <a:moveTo>
                  <a:pt x="5879" y="11981"/>
                </a:moveTo>
                <a:cubicBezTo>
                  <a:pt x="5932" y="12038"/>
                  <a:pt x="5989" y="12087"/>
                  <a:pt x="6028" y="12154"/>
                </a:cubicBezTo>
                <a:cubicBezTo>
                  <a:pt x="6067" y="12221"/>
                  <a:pt x="6083" y="12283"/>
                  <a:pt x="6102" y="12353"/>
                </a:cubicBezTo>
                <a:cubicBezTo>
                  <a:pt x="6121" y="12421"/>
                  <a:pt x="6135" y="12476"/>
                  <a:pt x="6127" y="12551"/>
                </a:cubicBezTo>
                <a:cubicBezTo>
                  <a:pt x="6118" y="12629"/>
                  <a:pt x="6064" y="12851"/>
                  <a:pt x="6077" y="12774"/>
                </a:cubicBezTo>
                <a:cubicBezTo>
                  <a:pt x="6093" y="12680"/>
                  <a:pt x="6111" y="12575"/>
                  <a:pt x="6127" y="12477"/>
                </a:cubicBezTo>
                <a:cubicBezTo>
                  <a:pt x="6146" y="12362"/>
                  <a:pt x="6157" y="12244"/>
                  <a:pt x="6176" y="12129"/>
                </a:cubicBezTo>
                <a:cubicBezTo>
                  <a:pt x="6190" y="12045"/>
                  <a:pt x="6190" y="11966"/>
                  <a:pt x="6201" y="11881"/>
                </a:cubicBezTo>
                <a:cubicBezTo>
                  <a:pt x="6206" y="11845"/>
                  <a:pt x="6213" y="11723"/>
                  <a:pt x="6226" y="11683"/>
                </a:cubicBezTo>
                <a:cubicBezTo>
                  <a:pt x="6249" y="11611"/>
                  <a:pt x="6286" y="11594"/>
                  <a:pt x="6350" y="11584"/>
                </a:cubicBezTo>
                <a:cubicBezTo>
                  <a:pt x="6363" y="11582"/>
                  <a:pt x="6492" y="11605"/>
                  <a:pt x="6524" y="11609"/>
                </a:cubicBezTo>
                <a:cubicBezTo>
                  <a:pt x="6621" y="11621"/>
                  <a:pt x="6725" y="11652"/>
                  <a:pt x="6821" y="11658"/>
                </a:cubicBezTo>
                <a:cubicBezTo>
                  <a:pt x="6947" y="11667"/>
                  <a:pt x="7067" y="11680"/>
                  <a:pt x="7193" y="11683"/>
                </a:cubicBezTo>
                <a:cubicBezTo>
                  <a:pt x="7321" y="11686"/>
                  <a:pt x="7462" y="11692"/>
                  <a:pt x="7590" y="11708"/>
                </a:cubicBezTo>
                <a:cubicBezTo>
                  <a:pt x="7739" y="11726"/>
                  <a:pt x="7888" y="11716"/>
                  <a:pt x="8037" y="11733"/>
                </a:cubicBezTo>
                <a:cubicBezTo>
                  <a:pt x="8194" y="11751"/>
                  <a:pt x="8349" y="11769"/>
                  <a:pt x="8508" y="11757"/>
                </a:cubicBezTo>
                <a:cubicBezTo>
                  <a:pt x="8758" y="11739"/>
                  <a:pt x="9001" y="11733"/>
                  <a:pt x="9252" y="11733"/>
                </a:cubicBezTo>
                <a:cubicBezTo>
                  <a:pt x="9411" y="11733"/>
                  <a:pt x="9563" y="11757"/>
                  <a:pt x="9723" y="11757"/>
                </a:cubicBezTo>
                <a:cubicBezTo>
                  <a:pt x="9845" y="11757"/>
                  <a:pt x="9953" y="11774"/>
                  <a:pt x="10071" y="11782"/>
                </a:cubicBezTo>
                <a:cubicBezTo>
                  <a:pt x="10167" y="11788"/>
                  <a:pt x="10263" y="11784"/>
                  <a:pt x="10344" y="11757"/>
                </a:cubicBezTo>
                <a:cubicBezTo>
                  <a:pt x="10336" y="11757"/>
                  <a:pt x="10327" y="11757"/>
                  <a:pt x="10319" y="11757"/>
                </a:cubicBezTo>
              </a:path>
              <a:path w="9650" h="1365">
                <a:moveTo>
                  <a:pt x="6772" y="11906"/>
                </a:moveTo>
                <a:cubicBezTo>
                  <a:pt x="6748" y="11969"/>
                  <a:pt x="6743" y="12022"/>
                  <a:pt x="6722" y="12080"/>
                </a:cubicBezTo>
                <a:cubicBezTo>
                  <a:pt x="6698" y="12146"/>
                  <a:pt x="6638" y="12209"/>
                  <a:pt x="6623" y="12278"/>
                </a:cubicBezTo>
                <a:cubicBezTo>
                  <a:pt x="6609" y="12339"/>
                  <a:pt x="6575" y="12438"/>
                  <a:pt x="6598" y="12502"/>
                </a:cubicBezTo>
                <a:cubicBezTo>
                  <a:pt x="6614" y="12545"/>
                  <a:pt x="6655" y="12591"/>
                  <a:pt x="6697" y="12601"/>
                </a:cubicBezTo>
              </a:path>
              <a:path w="9650" h="1365">
                <a:moveTo>
                  <a:pt x="6821" y="12229"/>
                </a:moveTo>
                <a:cubicBezTo>
                  <a:pt x="6920" y="12235"/>
                  <a:pt x="6997" y="12254"/>
                  <a:pt x="7094" y="12254"/>
                </a:cubicBezTo>
              </a:path>
              <a:path w="9650" h="1365">
                <a:moveTo>
                  <a:pt x="7293" y="12055"/>
                </a:moveTo>
                <a:cubicBezTo>
                  <a:pt x="7293" y="12212"/>
                  <a:pt x="7293" y="12369"/>
                  <a:pt x="7293" y="12526"/>
                </a:cubicBezTo>
              </a:path>
              <a:path w="9650" h="1365">
                <a:moveTo>
                  <a:pt x="7441" y="11807"/>
                </a:moveTo>
                <a:cubicBezTo>
                  <a:pt x="7529" y="11885"/>
                  <a:pt x="7517" y="11918"/>
                  <a:pt x="7565" y="12030"/>
                </a:cubicBezTo>
                <a:cubicBezTo>
                  <a:pt x="7606" y="12127"/>
                  <a:pt x="7636" y="12223"/>
                  <a:pt x="7640" y="12328"/>
                </a:cubicBezTo>
                <a:cubicBezTo>
                  <a:pt x="7644" y="12426"/>
                  <a:pt x="7630" y="12510"/>
                  <a:pt x="7615" y="12601"/>
                </a:cubicBezTo>
                <a:cubicBezTo>
                  <a:pt x="7605" y="12661"/>
                  <a:pt x="7602" y="12727"/>
                  <a:pt x="7565" y="12774"/>
                </a:cubicBezTo>
                <a:cubicBezTo>
                  <a:pt x="7543" y="12797"/>
                  <a:pt x="7535" y="12808"/>
                  <a:pt x="7541" y="12774"/>
                </a:cubicBezTo>
              </a:path>
              <a:path w="9650" h="1365">
                <a:moveTo>
                  <a:pt x="7863" y="11857"/>
                </a:moveTo>
                <a:cubicBezTo>
                  <a:pt x="7966" y="11831"/>
                  <a:pt x="7969" y="11857"/>
                  <a:pt x="8012" y="11931"/>
                </a:cubicBezTo>
                <a:cubicBezTo>
                  <a:pt x="8036" y="11971"/>
                  <a:pt x="8058" y="12052"/>
                  <a:pt x="8037" y="12105"/>
                </a:cubicBezTo>
                <a:cubicBezTo>
                  <a:pt x="8020" y="12149"/>
                  <a:pt x="7964" y="12217"/>
                  <a:pt x="7913" y="12229"/>
                </a:cubicBezTo>
                <a:cubicBezTo>
                  <a:pt x="7838" y="12247"/>
                  <a:pt x="7845" y="12206"/>
                  <a:pt x="7838" y="12154"/>
                </a:cubicBezTo>
                <a:cubicBezTo>
                  <a:pt x="7919" y="12113"/>
                  <a:pt x="7936" y="12139"/>
                  <a:pt x="8012" y="12179"/>
                </a:cubicBezTo>
                <a:cubicBezTo>
                  <a:pt x="8052" y="12200"/>
                  <a:pt x="8073" y="12219"/>
                  <a:pt x="8111" y="12229"/>
                </a:cubicBezTo>
              </a:path>
              <a:path w="9650" h="1365">
                <a:moveTo>
                  <a:pt x="8186" y="12378"/>
                </a:moveTo>
                <a:cubicBezTo>
                  <a:pt x="8274" y="12396"/>
                  <a:pt x="8321" y="12402"/>
                  <a:pt x="8409" y="12402"/>
                </a:cubicBezTo>
              </a:path>
              <a:path w="9650" h="1365">
                <a:moveTo>
                  <a:pt x="8706" y="12005"/>
                </a:moveTo>
                <a:cubicBezTo>
                  <a:pt x="8673" y="12073"/>
                  <a:pt x="8636" y="12129"/>
                  <a:pt x="8632" y="12204"/>
                </a:cubicBezTo>
                <a:cubicBezTo>
                  <a:pt x="8626" y="12311"/>
                  <a:pt x="8685" y="12258"/>
                  <a:pt x="8756" y="12278"/>
                </a:cubicBezTo>
                <a:cubicBezTo>
                  <a:pt x="8821" y="12296"/>
                  <a:pt x="8815" y="12291"/>
                  <a:pt x="8880" y="12278"/>
                </a:cubicBezTo>
              </a:path>
              <a:path w="9650" h="1365">
                <a:moveTo>
                  <a:pt x="8905" y="11981"/>
                </a:moveTo>
                <a:cubicBezTo>
                  <a:pt x="8886" y="12104"/>
                  <a:pt x="8880" y="12205"/>
                  <a:pt x="8880" y="12328"/>
                </a:cubicBezTo>
                <a:cubicBezTo>
                  <a:pt x="8880" y="12413"/>
                  <a:pt x="8849" y="12639"/>
                  <a:pt x="8905" y="12675"/>
                </a:cubicBezTo>
              </a:path>
              <a:path w="9650" h="1365">
                <a:moveTo>
                  <a:pt x="9178" y="12030"/>
                </a:moveTo>
                <a:cubicBezTo>
                  <a:pt x="9154" y="12119"/>
                  <a:pt x="9108" y="12213"/>
                  <a:pt x="9103" y="12303"/>
                </a:cubicBezTo>
                <a:cubicBezTo>
                  <a:pt x="9099" y="12381"/>
                  <a:pt x="9094" y="12463"/>
                  <a:pt x="9128" y="12526"/>
                </a:cubicBezTo>
                <a:cubicBezTo>
                  <a:pt x="9181" y="12625"/>
                  <a:pt x="9193" y="12636"/>
                  <a:pt x="9302" y="12675"/>
                </a:cubicBezTo>
              </a:path>
              <a:path w="9650" h="1365">
                <a:moveTo>
                  <a:pt x="9525" y="12129"/>
                </a:moveTo>
                <a:cubicBezTo>
                  <a:pt x="9525" y="12311"/>
                  <a:pt x="9525" y="12808"/>
                  <a:pt x="9525" y="12626"/>
                </a:cubicBezTo>
              </a:path>
              <a:path w="9650" h="1365">
                <a:moveTo>
                  <a:pt x="9748" y="12055"/>
                </a:moveTo>
                <a:cubicBezTo>
                  <a:pt x="9800" y="12166"/>
                  <a:pt x="9843" y="12255"/>
                  <a:pt x="9847" y="12378"/>
                </a:cubicBezTo>
                <a:cubicBezTo>
                  <a:pt x="9850" y="12470"/>
                  <a:pt x="9837" y="12542"/>
                  <a:pt x="9823" y="12626"/>
                </a:cubicBezTo>
                <a:cubicBezTo>
                  <a:pt x="9816" y="12671"/>
                  <a:pt x="9808" y="12757"/>
                  <a:pt x="9748" y="12774"/>
                </a:cubicBezTo>
                <a:cubicBezTo>
                  <a:pt x="9707" y="12774"/>
                  <a:pt x="9691" y="12782"/>
                  <a:pt x="9699" y="12750"/>
                </a:cubicBezTo>
              </a:path>
              <a:path w="9650" h="1365">
                <a:moveTo>
                  <a:pt x="10096" y="12005"/>
                </a:moveTo>
                <a:cubicBezTo>
                  <a:pt x="10070" y="12083"/>
                  <a:pt x="10031" y="12175"/>
                  <a:pt x="10021" y="12254"/>
                </a:cubicBezTo>
                <a:cubicBezTo>
                  <a:pt x="10007" y="12358"/>
                  <a:pt x="10032" y="12452"/>
                  <a:pt x="10046" y="12551"/>
                </a:cubicBezTo>
                <a:cubicBezTo>
                  <a:pt x="10054" y="12609"/>
                  <a:pt x="10082" y="12697"/>
                  <a:pt x="10145" y="12725"/>
                </a:cubicBezTo>
                <a:cubicBezTo>
                  <a:pt x="10153" y="12725"/>
                  <a:pt x="10162" y="12725"/>
                  <a:pt x="10170" y="12725"/>
                </a:cubicBezTo>
              </a:path>
              <a:path w="9650" h="1365">
                <a:moveTo>
                  <a:pt x="10344" y="12105"/>
                </a:moveTo>
                <a:cubicBezTo>
                  <a:pt x="10471" y="12090"/>
                  <a:pt x="10493" y="12096"/>
                  <a:pt x="10616" y="12105"/>
                </a:cubicBezTo>
              </a:path>
              <a:path w="9650" h="1365">
                <a:moveTo>
                  <a:pt x="10368" y="12030"/>
                </a:moveTo>
                <a:cubicBezTo>
                  <a:pt x="10328" y="12123"/>
                  <a:pt x="10293" y="12169"/>
                  <a:pt x="10344" y="12254"/>
                </a:cubicBezTo>
                <a:cubicBezTo>
                  <a:pt x="10420" y="12243"/>
                  <a:pt x="10438" y="12219"/>
                  <a:pt x="10517" y="12254"/>
                </a:cubicBezTo>
                <a:cubicBezTo>
                  <a:pt x="10588" y="12285"/>
                  <a:pt x="10626" y="12313"/>
                  <a:pt x="10666" y="12378"/>
                </a:cubicBezTo>
                <a:cubicBezTo>
                  <a:pt x="10703" y="12439"/>
                  <a:pt x="10705" y="12538"/>
                  <a:pt x="10666" y="12601"/>
                </a:cubicBezTo>
                <a:cubicBezTo>
                  <a:pt x="10611" y="12688"/>
                  <a:pt x="10473" y="12655"/>
                  <a:pt x="10393" y="12626"/>
                </a:cubicBezTo>
                <a:cubicBezTo>
                  <a:pt x="10326" y="12602"/>
                  <a:pt x="10344" y="12585"/>
                  <a:pt x="10344" y="12526"/>
                </a:cubicBezTo>
              </a:path>
              <a:path w="9650" h="1365">
                <a:moveTo>
                  <a:pt x="10815" y="12055"/>
                </a:moveTo>
                <a:cubicBezTo>
                  <a:pt x="10848" y="12143"/>
                  <a:pt x="10820" y="12186"/>
                  <a:pt x="10815" y="12278"/>
                </a:cubicBezTo>
                <a:cubicBezTo>
                  <a:pt x="10812" y="12334"/>
                  <a:pt x="10834" y="12428"/>
                  <a:pt x="10864" y="12477"/>
                </a:cubicBezTo>
                <a:cubicBezTo>
                  <a:pt x="10891" y="12522"/>
                  <a:pt x="10926" y="12563"/>
                  <a:pt x="10964" y="12601"/>
                </a:cubicBezTo>
                <a:cubicBezTo>
                  <a:pt x="10999" y="12636"/>
                  <a:pt x="11091" y="12683"/>
                  <a:pt x="11112" y="12601"/>
                </a:cubicBezTo>
                <a:cubicBezTo>
                  <a:pt x="11132" y="12524"/>
                  <a:pt x="11137" y="12472"/>
                  <a:pt x="11088" y="12402"/>
                </a:cubicBezTo>
                <a:cubicBezTo>
                  <a:pt x="11043" y="12337"/>
                  <a:pt x="10994" y="12366"/>
                  <a:pt x="10939" y="12378"/>
                </a:cubicBezTo>
                <a:cubicBezTo>
                  <a:pt x="10916" y="12446"/>
                  <a:pt x="10907" y="12512"/>
                  <a:pt x="10939" y="12576"/>
                </a:cubicBezTo>
                <a:cubicBezTo>
                  <a:pt x="10952" y="12601"/>
                  <a:pt x="10993" y="12630"/>
                  <a:pt x="11013" y="12650"/>
                </a:cubicBezTo>
              </a:path>
              <a:path w="9650" h="1365">
                <a:moveTo>
                  <a:pt x="11187" y="11906"/>
                </a:moveTo>
                <a:cubicBezTo>
                  <a:pt x="11229" y="12031"/>
                  <a:pt x="11295" y="12172"/>
                  <a:pt x="11311" y="12303"/>
                </a:cubicBezTo>
                <a:cubicBezTo>
                  <a:pt x="11322" y="12397"/>
                  <a:pt x="11322" y="12516"/>
                  <a:pt x="11286" y="12601"/>
                </a:cubicBezTo>
                <a:cubicBezTo>
                  <a:pt x="11255" y="12674"/>
                  <a:pt x="11243" y="12721"/>
                  <a:pt x="11162" y="12725"/>
                </a:cubicBezTo>
                <a:cubicBezTo>
                  <a:pt x="11075" y="12729"/>
                  <a:pt x="11003" y="12674"/>
                  <a:pt x="10939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8"/>
          <p:cNvSpPr/>
          <p:nvPr/>
        </p:nvSpPr>
        <p:spPr>
          <a:xfrm>
            <a:off x="1866960" y="4724280"/>
            <a:ext cx="579240" cy="384120"/>
          </a:xfrm>
          <a:custGeom>
            <a:avLst/>
            <a:gdLst/>
            <a:ahLst/>
            <a:rect l="l" t="t" r="r" b="b"/>
            <a:pathLst>
              <a:path w="1613" h="1067">
                <a:moveTo>
                  <a:pt x="5184" y="13295"/>
                </a:moveTo>
                <a:cubicBezTo>
                  <a:pt x="5184" y="13362"/>
                  <a:pt x="5194" y="13295"/>
                  <a:pt x="5259" y="13246"/>
                </a:cubicBezTo>
                <a:cubicBezTo>
                  <a:pt x="5295" y="13219"/>
                  <a:pt x="5383" y="13202"/>
                  <a:pt x="5432" y="13221"/>
                </a:cubicBezTo>
                <a:cubicBezTo>
                  <a:pt x="5477" y="13238"/>
                  <a:pt x="5570" y="13351"/>
                  <a:pt x="5581" y="13395"/>
                </a:cubicBezTo>
                <a:cubicBezTo>
                  <a:pt x="5601" y="13479"/>
                  <a:pt x="5589" y="13617"/>
                  <a:pt x="5556" y="13692"/>
                </a:cubicBezTo>
                <a:cubicBezTo>
                  <a:pt x="5533" y="13745"/>
                  <a:pt x="5495" y="13799"/>
                  <a:pt x="5457" y="13841"/>
                </a:cubicBezTo>
                <a:cubicBezTo>
                  <a:pt x="5429" y="13873"/>
                  <a:pt x="5400" y="13912"/>
                  <a:pt x="5358" y="13915"/>
                </a:cubicBezTo>
                <a:cubicBezTo>
                  <a:pt x="5279" y="13920"/>
                  <a:pt x="5263" y="13863"/>
                  <a:pt x="5283" y="13791"/>
                </a:cubicBezTo>
                <a:cubicBezTo>
                  <a:pt x="5291" y="13762"/>
                  <a:pt x="5349" y="13677"/>
                  <a:pt x="5383" y="13667"/>
                </a:cubicBezTo>
                <a:cubicBezTo>
                  <a:pt x="5457" y="13646"/>
                  <a:pt x="5475" y="13724"/>
                  <a:pt x="5507" y="13767"/>
                </a:cubicBezTo>
                <a:cubicBezTo>
                  <a:pt x="5550" y="13824"/>
                  <a:pt x="5554" y="13886"/>
                  <a:pt x="5581" y="13940"/>
                </a:cubicBezTo>
                <a:cubicBezTo>
                  <a:pt x="5605" y="13987"/>
                  <a:pt x="5637" y="13984"/>
                  <a:pt x="5680" y="13990"/>
                </a:cubicBezTo>
              </a:path>
              <a:path w="1613" h="1067">
                <a:moveTo>
                  <a:pt x="6003" y="13246"/>
                </a:moveTo>
                <a:cubicBezTo>
                  <a:pt x="5995" y="13312"/>
                  <a:pt x="5972" y="13382"/>
                  <a:pt x="5953" y="13444"/>
                </a:cubicBezTo>
                <a:cubicBezTo>
                  <a:pt x="5929" y="13523"/>
                  <a:pt x="5928" y="13581"/>
                  <a:pt x="5928" y="13667"/>
                </a:cubicBezTo>
                <a:cubicBezTo>
                  <a:pt x="5928" y="13723"/>
                  <a:pt x="5960" y="13826"/>
                  <a:pt x="6003" y="13866"/>
                </a:cubicBezTo>
                <a:cubicBezTo>
                  <a:pt x="6063" y="13922"/>
                  <a:pt x="6079" y="13905"/>
                  <a:pt x="6152" y="13891"/>
                </a:cubicBezTo>
              </a:path>
              <a:path w="1613" h="1067">
                <a:moveTo>
                  <a:pt x="6350" y="13221"/>
                </a:moveTo>
                <a:cubicBezTo>
                  <a:pt x="6378" y="13322"/>
                  <a:pt x="6355" y="13348"/>
                  <a:pt x="6350" y="13444"/>
                </a:cubicBezTo>
                <a:cubicBezTo>
                  <a:pt x="6344" y="13544"/>
                  <a:pt x="6360" y="13626"/>
                  <a:pt x="6375" y="13717"/>
                </a:cubicBezTo>
                <a:cubicBezTo>
                  <a:pt x="6385" y="13775"/>
                  <a:pt x="6370" y="13792"/>
                  <a:pt x="6400" y="13841"/>
                </a:cubicBezTo>
              </a:path>
              <a:path w="1613" h="1067">
                <a:moveTo>
                  <a:pt x="6548" y="13122"/>
                </a:moveTo>
                <a:cubicBezTo>
                  <a:pt x="6618" y="13231"/>
                  <a:pt x="6666" y="13324"/>
                  <a:pt x="6697" y="13444"/>
                </a:cubicBezTo>
                <a:cubicBezTo>
                  <a:pt x="6723" y="13545"/>
                  <a:pt x="6750" y="13642"/>
                  <a:pt x="6772" y="13742"/>
                </a:cubicBezTo>
                <a:cubicBezTo>
                  <a:pt x="6794" y="13843"/>
                  <a:pt x="6800" y="13938"/>
                  <a:pt x="6772" y="14039"/>
                </a:cubicBezTo>
                <a:cubicBezTo>
                  <a:pt x="6759" y="14087"/>
                  <a:pt x="6690" y="14167"/>
                  <a:pt x="6648" y="14188"/>
                </a:cubicBezTo>
                <a:cubicBezTo>
                  <a:pt x="6640" y="14188"/>
                  <a:pt x="6631" y="14188"/>
                  <a:pt x="6623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9"/>
          <p:cNvSpPr/>
          <p:nvPr/>
        </p:nvSpPr>
        <p:spPr>
          <a:xfrm>
            <a:off x="731880" y="4991040"/>
            <a:ext cx="2975040" cy="1009800"/>
          </a:xfrm>
          <a:custGeom>
            <a:avLst/>
            <a:gdLst/>
            <a:ahLst/>
            <a:rect l="l" t="t" r="r" b="b"/>
            <a:pathLst>
              <a:path w="8261" h="2804">
                <a:moveTo>
                  <a:pt x="2034" y="14412"/>
                </a:moveTo>
                <a:lnTo>
                  <a:pt x="2034" y="14412"/>
                </a:lnTo>
              </a:path>
              <a:path w="8261" h="2804">
                <a:moveTo>
                  <a:pt x="2034" y="14412"/>
                </a:moveTo>
                <a:lnTo>
                  <a:pt x="2034" y="14412"/>
                </a:lnTo>
              </a:path>
              <a:path w="8261" h="2804">
                <a:moveTo>
                  <a:pt x="2034" y="14412"/>
                </a:moveTo>
                <a:cubicBezTo>
                  <a:pt x="2065" y="14505"/>
                  <a:pt x="2079" y="14595"/>
                  <a:pt x="2108" y="14684"/>
                </a:cubicBezTo>
                <a:cubicBezTo>
                  <a:pt x="2142" y="14786"/>
                  <a:pt x="2188" y="14862"/>
                  <a:pt x="2232" y="14957"/>
                </a:cubicBezTo>
                <a:cubicBezTo>
                  <a:pt x="2269" y="15038"/>
                  <a:pt x="2280" y="15129"/>
                  <a:pt x="2332" y="15205"/>
                </a:cubicBezTo>
                <a:cubicBezTo>
                  <a:pt x="2356" y="15230"/>
                  <a:pt x="2364" y="15239"/>
                  <a:pt x="2381" y="15255"/>
                </a:cubicBezTo>
              </a:path>
              <a:path w="8261" h="2804">
                <a:moveTo>
                  <a:pt x="2332" y="14387"/>
                </a:moveTo>
                <a:cubicBezTo>
                  <a:pt x="2308" y="14507"/>
                  <a:pt x="2291" y="14619"/>
                  <a:pt x="2257" y="14734"/>
                </a:cubicBezTo>
                <a:cubicBezTo>
                  <a:pt x="2226" y="14838"/>
                  <a:pt x="2182" y="14936"/>
                  <a:pt x="2133" y="15032"/>
                </a:cubicBezTo>
                <a:cubicBezTo>
                  <a:pt x="2112" y="15073"/>
                  <a:pt x="2045" y="15142"/>
                  <a:pt x="2034" y="15180"/>
                </a:cubicBezTo>
                <a:cubicBezTo>
                  <a:pt x="2034" y="15197"/>
                  <a:pt x="2034" y="15213"/>
                  <a:pt x="2034" y="15230"/>
                </a:cubicBezTo>
              </a:path>
              <a:path w="8261" h="2804">
                <a:moveTo>
                  <a:pt x="2505" y="14759"/>
                </a:moveTo>
                <a:cubicBezTo>
                  <a:pt x="2588" y="14759"/>
                  <a:pt x="2631" y="14774"/>
                  <a:pt x="2704" y="14784"/>
                </a:cubicBezTo>
              </a:path>
              <a:path w="8261" h="2804">
                <a:moveTo>
                  <a:pt x="2530" y="14908"/>
                </a:moveTo>
                <a:cubicBezTo>
                  <a:pt x="2695" y="14944"/>
                  <a:pt x="2710" y="14961"/>
                  <a:pt x="2803" y="14957"/>
                </a:cubicBezTo>
              </a:path>
              <a:path w="8261" h="2804">
                <a:moveTo>
                  <a:pt x="3101" y="15453"/>
                </a:moveTo>
                <a:cubicBezTo>
                  <a:pt x="3177" y="15453"/>
                  <a:pt x="3232" y="15462"/>
                  <a:pt x="3299" y="15478"/>
                </a:cubicBezTo>
                <a:cubicBezTo>
                  <a:pt x="3372" y="15496"/>
                  <a:pt x="3450" y="15516"/>
                  <a:pt x="3522" y="15528"/>
                </a:cubicBezTo>
                <a:cubicBezTo>
                  <a:pt x="3631" y="15546"/>
                  <a:pt x="3741" y="15518"/>
                  <a:pt x="3845" y="15503"/>
                </a:cubicBezTo>
                <a:cubicBezTo>
                  <a:pt x="3912" y="15493"/>
                  <a:pt x="3979" y="15489"/>
                  <a:pt x="4043" y="15478"/>
                </a:cubicBezTo>
                <a:cubicBezTo>
                  <a:pt x="4114" y="15466"/>
                  <a:pt x="4195" y="15457"/>
                  <a:pt x="4266" y="15453"/>
                </a:cubicBezTo>
                <a:cubicBezTo>
                  <a:pt x="4489" y="15441"/>
                  <a:pt x="4719" y="15448"/>
                  <a:pt x="4936" y="15478"/>
                </a:cubicBezTo>
                <a:cubicBezTo>
                  <a:pt x="5026" y="15490"/>
                  <a:pt x="5119" y="15499"/>
                  <a:pt x="5209" y="15503"/>
                </a:cubicBezTo>
                <a:cubicBezTo>
                  <a:pt x="5304" y="15507"/>
                  <a:pt x="5389" y="15524"/>
                  <a:pt x="5482" y="15528"/>
                </a:cubicBezTo>
                <a:cubicBezTo>
                  <a:pt x="5574" y="15532"/>
                  <a:pt x="5643" y="15516"/>
                  <a:pt x="5730" y="15503"/>
                </a:cubicBezTo>
                <a:cubicBezTo>
                  <a:pt x="5805" y="15492"/>
                  <a:pt x="5881" y="15490"/>
                  <a:pt x="5953" y="15478"/>
                </a:cubicBezTo>
                <a:cubicBezTo>
                  <a:pt x="6027" y="15466"/>
                  <a:pt x="6080" y="15469"/>
                  <a:pt x="6152" y="15453"/>
                </a:cubicBezTo>
                <a:cubicBezTo>
                  <a:pt x="6180" y="15425"/>
                  <a:pt x="6193" y="15417"/>
                  <a:pt x="6226" y="15429"/>
                </a:cubicBezTo>
              </a:path>
              <a:path w="8261" h="2804">
                <a:moveTo>
                  <a:pt x="3175" y="14213"/>
                </a:moveTo>
                <a:cubicBezTo>
                  <a:pt x="3208" y="14268"/>
                  <a:pt x="3200" y="14319"/>
                  <a:pt x="3200" y="14387"/>
                </a:cubicBezTo>
                <a:cubicBezTo>
                  <a:pt x="3200" y="14531"/>
                  <a:pt x="3192" y="14671"/>
                  <a:pt x="3175" y="14808"/>
                </a:cubicBezTo>
                <a:cubicBezTo>
                  <a:pt x="3162" y="14912"/>
                  <a:pt x="3168" y="15035"/>
                  <a:pt x="3200" y="15131"/>
                </a:cubicBezTo>
              </a:path>
              <a:path w="8261" h="2804">
                <a:moveTo>
                  <a:pt x="3621" y="14238"/>
                </a:moveTo>
                <a:cubicBezTo>
                  <a:pt x="3621" y="14359"/>
                  <a:pt x="3632" y="14471"/>
                  <a:pt x="3646" y="14585"/>
                </a:cubicBezTo>
                <a:cubicBezTo>
                  <a:pt x="3646" y="14610"/>
                  <a:pt x="3646" y="14635"/>
                  <a:pt x="3646" y="14660"/>
                </a:cubicBezTo>
              </a:path>
              <a:path w="8261" h="2804">
                <a:moveTo>
                  <a:pt x="3423" y="14436"/>
                </a:moveTo>
                <a:cubicBezTo>
                  <a:pt x="3512" y="14436"/>
                  <a:pt x="3590" y="14452"/>
                  <a:pt x="3671" y="14461"/>
                </a:cubicBezTo>
                <a:cubicBezTo>
                  <a:pt x="3745" y="14461"/>
                  <a:pt x="3754" y="14461"/>
                  <a:pt x="3795" y="14461"/>
                </a:cubicBezTo>
              </a:path>
              <a:path w="8261" h="2804">
                <a:moveTo>
                  <a:pt x="3497" y="14684"/>
                </a:moveTo>
                <a:cubicBezTo>
                  <a:pt x="3577" y="14744"/>
                  <a:pt x="3616" y="14734"/>
                  <a:pt x="3721" y="14734"/>
                </a:cubicBezTo>
                <a:cubicBezTo>
                  <a:pt x="3737" y="14734"/>
                  <a:pt x="3754" y="14734"/>
                  <a:pt x="3770" y="14734"/>
                </a:cubicBezTo>
              </a:path>
              <a:path w="8261" h="2804">
                <a:moveTo>
                  <a:pt x="4068" y="14461"/>
                </a:moveTo>
                <a:cubicBezTo>
                  <a:pt x="4055" y="14574"/>
                  <a:pt x="4068" y="14626"/>
                  <a:pt x="4068" y="14734"/>
                </a:cubicBezTo>
                <a:cubicBezTo>
                  <a:pt x="4068" y="14810"/>
                  <a:pt x="4093" y="14876"/>
                  <a:pt x="4093" y="14957"/>
                </a:cubicBezTo>
                <a:cubicBezTo>
                  <a:pt x="4093" y="15015"/>
                  <a:pt x="4093" y="15040"/>
                  <a:pt x="4093" y="15081"/>
                </a:cubicBezTo>
                <a:cubicBezTo>
                  <a:pt x="4093" y="14967"/>
                  <a:pt x="4101" y="14866"/>
                  <a:pt x="4118" y="14759"/>
                </a:cubicBezTo>
                <a:cubicBezTo>
                  <a:pt x="4142" y="14605"/>
                  <a:pt x="4112" y="14433"/>
                  <a:pt x="4093" y="14288"/>
                </a:cubicBezTo>
                <a:cubicBezTo>
                  <a:pt x="4082" y="14204"/>
                  <a:pt x="4068" y="14125"/>
                  <a:pt x="4068" y="14039"/>
                </a:cubicBezTo>
                <a:cubicBezTo>
                  <a:pt x="4121" y="14014"/>
                  <a:pt x="4148" y="14052"/>
                  <a:pt x="4217" y="14064"/>
                </a:cubicBezTo>
                <a:cubicBezTo>
                  <a:pt x="4284" y="14075"/>
                  <a:pt x="4351" y="14068"/>
                  <a:pt x="4415" y="14089"/>
                </a:cubicBezTo>
                <a:cubicBezTo>
                  <a:pt x="4479" y="14110"/>
                  <a:pt x="4548" y="14149"/>
                  <a:pt x="4614" y="14163"/>
                </a:cubicBezTo>
                <a:cubicBezTo>
                  <a:pt x="4695" y="14181"/>
                  <a:pt x="4776" y="14209"/>
                  <a:pt x="4862" y="14213"/>
                </a:cubicBezTo>
                <a:cubicBezTo>
                  <a:pt x="4886" y="14214"/>
                  <a:pt x="5055" y="14231"/>
                  <a:pt x="5060" y="14238"/>
                </a:cubicBezTo>
                <a:cubicBezTo>
                  <a:pt x="5052" y="14246"/>
                  <a:pt x="5043" y="14255"/>
                  <a:pt x="5035" y="14263"/>
                </a:cubicBezTo>
              </a:path>
              <a:path w="8261" h="2804">
                <a:moveTo>
                  <a:pt x="4291" y="14387"/>
                </a:moveTo>
                <a:cubicBezTo>
                  <a:pt x="4349" y="14387"/>
                  <a:pt x="4407" y="14387"/>
                  <a:pt x="4465" y="14387"/>
                </a:cubicBezTo>
              </a:path>
              <a:path w="8261" h="2804">
                <a:moveTo>
                  <a:pt x="4589" y="14263"/>
                </a:moveTo>
                <a:cubicBezTo>
                  <a:pt x="4648" y="14272"/>
                  <a:pt x="4708" y="14299"/>
                  <a:pt x="4762" y="14337"/>
                </a:cubicBezTo>
                <a:cubicBezTo>
                  <a:pt x="4840" y="14392"/>
                  <a:pt x="4794" y="14446"/>
                  <a:pt x="4762" y="14511"/>
                </a:cubicBezTo>
                <a:cubicBezTo>
                  <a:pt x="4734" y="14568"/>
                  <a:pt x="4682" y="14611"/>
                  <a:pt x="4638" y="14660"/>
                </a:cubicBezTo>
                <a:cubicBezTo>
                  <a:pt x="4594" y="14709"/>
                  <a:pt x="4568" y="14715"/>
                  <a:pt x="4564" y="14784"/>
                </a:cubicBezTo>
                <a:cubicBezTo>
                  <a:pt x="4561" y="14828"/>
                  <a:pt x="4585" y="14917"/>
                  <a:pt x="4638" y="14932"/>
                </a:cubicBezTo>
                <a:cubicBezTo>
                  <a:pt x="4688" y="14946"/>
                  <a:pt x="4725" y="14930"/>
                  <a:pt x="4762" y="14908"/>
                </a:cubicBezTo>
              </a:path>
              <a:path w="8261" h="2804">
                <a:moveTo>
                  <a:pt x="4887" y="14461"/>
                </a:moveTo>
                <a:cubicBezTo>
                  <a:pt x="4946" y="14417"/>
                  <a:pt x="5003" y="14390"/>
                  <a:pt x="5085" y="14412"/>
                </a:cubicBezTo>
                <a:cubicBezTo>
                  <a:pt x="5169" y="14434"/>
                  <a:pt x="5167" y="14476"/>
                  <a:pt x="5135" y="14536"/>
                </a:cubicBezTo>
                <a:cubicBezTo>
                  <a:pt x="5101" y="14599"/>
                  <a:pt x="5064" y="14667"/>
                  <a:pt x="5011" y="14709"/>
                </a:cubicBezTo>
                <a:cubicBezTo>
                  <a:pt x="4969" y="14743"/>
                  <a:pt x="4918" y="14805"/>
                  <a:pt x="4986" y="14858"/>
                </a:cubicBezTo>
                <a:cubicBezTo>
                  <a:pt x="5054" y="14911"/>
                  <a:pt x="5098" y="14908"/>
                  <a:pt x="5184" y="14908"/>
                </a:cubicBezTo>
              </a:path>
              <a:path w="8261" h="2804">
                <a:moveTo>
                  <a:pt x="5333" y="14412"/>
                </a:moveTo>
                <a:cubicBezTo>
                  <a:pt x="5388" y="14357"/>
                  <a:pt x="5391" y="14360"/>
                  <a:pt x="5457" y="14387"/>
                </a:cubicBezTo>
                <a:cubicBezTo>
                  <a:pt x="5494" y="14402"/>
                  <a:pt x="5591" y="14433"/>
                  <a:pt x="5606" y="14486"/>
                </a:cubicBezTo>
                <a:cubicBezTo>
                  <a:pt x="5622" y="14543"/>
                  <a:pt x="5558" y="14598"/>
                  <a:pt x="5507" y="14610"/>
                </a:cubicBezTo>
                <a:cubicBezTo>
                  <a:pt x="5483" y="14616"/>
                  <a:pt x="5310" y="14635"/>
                  <a:pt x="5432" y="14635"/>
                </a:cubicBezTo>
                <a:cubicBezTo>
                  <a:pt x="5477" y="14635"/>
                  <a:pt x="5557" y="14663"/>
                  <a:pt x="5581" y="14709"/>
                </a:cubicBezTo>
                <a:cubicBezTo>
                  <a:pt x="5607" y="14759"/>
                  <a:pt x="5638" y="14884"/>
                  <a:pt x="5556" y="14908"/>
                </a:cubicBezTo>
                <a:cubicBezTo>
                  <a:pt x="5504" y="14923"/>
                  <a:pt x="5427" y="14899"/>
                  <a:pt x="5383" y="14883"/>
                </a:cubicBezTo>
                <a:cubicBezTo>
                  <a:pt x="5332" y="14865"/>
                  <a:pt x="5282" y="14832"/>
                  <a:pt x="5234" y="14808"/>
                </a:cubicBezTo>
              </a:path>
              <a:path w="8261" h="2804">
                <a:moveTo>
                  <a:pt x="4514" y="15875"/>
                </a:moveTo>
                <a:cubicBezTo>
                  <a:pt x="4489" y="15920"/>
                  <a:pt x="4476" y="15939"/>
                  <a:pt x="4440" y="15974"/>
                </a:cubicBezTo>
                <a:cubicBezTo>
                  <a:pt x="4469" y="15924"/>
                  <a:pt x="4498" y="15891"/>
                  <a:pt x="4539" y="15850"/>
                </a:cubicBezTo>
                <a:cubicBezTo>
                  <a:pt x="4582" y="15807"/>
                  <a:pt x="4645" y="15815"/>
                  <a:pt x="4688" y="15850"/>
                </a:cubicBezTo>
                <a:cubicBezTo>
                  <a:pt x="4739" y="15891"/>
                  <a:pt x="4774" y="15962"/>
                  <a:pt x="4787" y="16024"/>
                </a:cubicBezTo>
                <a:cubicBezTo>
                  <a:pt x="4805" y="16110"/>
                  <a:pt x="4775" y="16194"/>
                  <a:pt x="4762" y="16272"/>
                </a:cubicBezTo>
                <a:cubicBezTo>
                  <a:pt x="4750" y="16341"/>
                  <a:pt x="4742" y="16405"/>
                  <a:pt x="4713" y="16470"/>
                </a:cubicBezTo>
                <a:cubicBezTo>
                  <a:pt x="4697" y="16506"/>
                  <a:pt x="4654" y="16576"/>
                  <a:pt x="4614" y="16594"/>
                </a:cubicBezTo>
                <a:cubicBezTo>
                  <a:pt x="4560" y="16618"/>
                  <a:pt x="4544" y="16622"/>
                  <a:pt x="4490" y="16594"/>
                </a:cubicBezTo>
                <a:cubicBezTo>
                  <a:pt x="4429" y="16562"/>
                  <a:pt x="4386" y="16497"/>
                  <a:pt x="4415" y="16421"/>
                </a:cubicBezTo>
                <a:cubicBezTo>
                  <a:pt x="4434" y="16372"/>
                  <a:pt x="4449" y="16338"/>
                  <a:pt x="4490" y="16297"/>
                </a:cubicBezTo>
                <a:cubicBezTo>
                  <a:pt x="4541" y="16245"/>
                  <a:pt x="4591" y="16279"/>
                  <a:pt x="4638" y="16321"/>
                </a:cubicBezTo>
                <a:cubicBezTo>
                  <a:pt x="4679" y="16358"/>
                  <a:pt x="4722" y="16381"/>
                  <a:pt x="4762" y="16421"/>
                </a:cubicBezTo>
                <a:cubicBezTo>
                  <a:pt x="4803" y="16463"/>
                  <a:pt x="4835" y="16492"/>
                  <a:pt x="4887" y="16520"/>
                </a:cubicBezTo>
                <a:cubicBezTo>
                  <a:pt x="4942" y="16550"/>
                  <a:pt x="5018" y="16596"/>
                  <a:pt x="5085" y="16570"/>
                </a:cubicBezTo>
                <a:cubicBezTo>
                  <a:pt x="5110" y="16545"/>
                  <a:pt x="5118" y="16537"/>
                  <a:pt x="5135" y="16520"/>
                </a:cubicBezTo>
              </a:path>
              <a:path w="8261" h="2804">
                <a:moveTo>
                  <a:pt x="6375" y="15032"/>
                </a:moveTo>
                <a:cubicBezTo>
                  <a:pt x="6458" y="15032"/>
                  <a:pt x="6540" y="15032"/>
                  <a:pt x="6623" y="15032"/>
                </a:cubicBezTo>
              </a:path>
              <a:path w="8261" h="2804">
                <a:moveTo>
                  <a:pt x="6400" y="15230"/>
                </a:moveTo>
                <a:cubicBezTo>
                  <a:pt x="6475" y="15281"/>
                  <a:pt x="6533" y="15280"/>
                  <a:pt x="6623" y="15280"/>
                </a:cubicBezTo>
              </a:path>
              <a:path w="8261" h="2804">
                <a:moveTo>
                  <a:pt x="7392" y="14362"/>
                </a:moveTo>
                <a:cubicBezTo>
                  <a:pt x="7434" y="14446"/>
                  <a:pt x="7400" y="14499"/>
                  <a:pt x="7392" y="14585"/>
                </a:cubicBezTo>
                <a:cubicBezTo>
                  <a:pt x="7383" y="14683"/>
                  <a:pt x="7371" y="14787"/>
                  <a:pt x="7367" y="14883"/>
                </a:cubicBezTo>
                <a:cubicBezTo>
                  <a:pt x="7363" y="14974"/>
                  <a:pt x="7347" y="15107"/>
                  <a:pt x="7392" y="15180"/>
                </a:cubicBezTo>
              </a:path>
              <a:path w="8261" h="2804">
                <a:moveTo>
                  <a:pt x="7962" y="14238"/>
                </a:moveTo>
                <a:cubicBezTo>
                  <a:pt x="7935" y="14314"/>
                  <a:pt x="7917" y="14379"/>
                  <a:pt x="7913" y="14461"/>
                </a:cubicBezTo>
                <a:cubicBezTo>
                  <a:pt x="7909" y="14544"/>
                  <a:pt x="7917" y="14615"/>
                  <a:pt x="7938" y="14684"/>
                </a:cubicBezTo>
                <a:cubicBezTo>
                  <a:pt x="7938" y="14692"/>
                  <a:pt x="7938" y="14701"/>
                  <a:pt x="7938" y="14709"/>
                </a:cubicBezTo>
              </a:path>
              <a:path w="8261" h="2804">
                <a:moveTo>
                  <a:pt x="7689" y="14436"/>
                </a:moveTo>
                <a:cubicBezTo>
                  <a:pt x="7724" y="14423"/>
                  <a:pt x="7811" y="14422"/>
                  <a:pt x="7863" y="14436"/>
                </a:cubicBezTo>
                <a:cubicBezTo>
                  <a:pt x="7940" y="14457"/>
                  <a:pt x="8004" y="14461"/>
                  <a:pt x="8086" y="14461"/>
                </a:cubicBezTo>
                <a:cubicBezTo>
                  <a:pt x="8103" y="14461"/>
                  <a:pt x="8119" y="14461"/>
                  <a:pt x="8136" y="14461"/>
                </a:cubicBezTo>
              </a:path>
              <a:path w="8261" h="2804">
                <a:moveTo>
                  <a:pt x="7764" y="14833"/>
                </a:moveTo>
                <a:cubicBezTo>
                  <a:pt x="7894" y="14833"/>
                  <a:pt x="8011" y="14839"/>
                  <a:pt x="8136" y="14808"/>
                </a:cubicBezTo>
              </a:path>
              <a:path w="8261" h="2804">
                <a:moveTo>
                  <a:pt x="9847" y="15478"/>
                </a:moveTo>
                <a:cubicBezTo>
                  <a:pt x="9782" y="15443"/>
                  <a:pt x="9729" y="15413"/>
                  <a:pt x="9649" y="15404"/>
                </a:cubicBezTo>
                <a:cubicBezTo>
                  <a:pt x="9543" y="15392"/>
                  <a:pt x="9433" y="15395"/>
                  <a:pt x="9327" y="15379"/>
                </a:cubicBezTo>
                <a:cubicBezTo>
                  <a:pt x="9203" y="15360"/>
                  <a:pt x="9078" y="15347"/>
                  <a:pt x="8954" y="15329"/>
                </a:cubicBezTo>
                <a:cubicBezTo>
                  <a:pt x="8801" y="15307"/>
                  <a:pt x="8639" y="15285"/>
                  <a:pt x="8483" y="15304"/>
                </a:cubicBezTo>
                <a:cubicBezTo>
                  <a:pt x="8278" y="15329"/>
                  <a:pt x="8069" y="15338"/>
                  <a:pt x="7863" y="15354"/>
                </a:cubicBezTo>
                <a:cubicBezTo>
                  <a:pt x="7706" y="15366"/>
                  <a:pt x="7548" y="15367"/>
                  <a:pt x="7392" y="15379"/>
                </a:cubicBezTo>
                <a:cubicBezTo>
                  <a:pt x="7273" y="15388"/>
                  <a:pt x="7161" y="15413"/>
                  <a:pt x="7045" y="15429"/>
                </a:cubicBezTo>
                <a:cubicBezTo>
                  <a:pt x="6998" y="15435"/>
                  <a:pt x="6944" y="15429"/>
                  <a:pt x="6896" y="15429"/>
                </a:cubicBezTo>
              </a:path>
              <a:path w="8261" h="2804">
                <a:moveTo>
                  <a:pt x="8111" y="15701"/>
                </a:moveTo>
                <a:cubicBezTo>
                  <a:pt x="8152" y="15661"/>
                  <a:pt x="8183" y="15629"/>
                  <a:pt x="8235" y="15602"/>
                </a:cubicBezTo>
                <a:cubicBezTo>
                  <a:pt x="8295" y="15570"/>
                  <a:pt x="8360" y="15570"/>
                  <a:pt x="8409" y="15627"/>
                </a:cubicBezTo>
                <a:cubicBezTo>
                  <a:pt x="8459" y="15685"/>
                  <a:pt x="8458" y="15754"/>
                  <a:pt x="8458" y="15825"/>
                </a:cubicBezTo>
                <a:cubicBezTo>
                  <a:pt x="8458" y="15956"/>
                  <a:pt x="8461" y="16094"/>
                  <a:pt x="8434" y="16222"/>
                </a:cubicBezTo>
                <a:cubicBezTo>
                  <a:pt x="8417" y="16304"/>
                  <a:pt x="8353" y="16381"/>
                  <a:pt x="8285" y="16421"/>
                </a:cubicBezTo>
                <a:cubicBezTo>
                  <a:pt x="8210" y="16466"/>
                  <a:pt x="8144" y="16493"/>
                  <a:pt x="8062" y="16446"/>
                </a:cubicBezTo>
                <a:cubicBezTo>
                  <a:pt x="8034" y="16418"/>
                  <a:pt x="8025" y="16404"/>
                  <a:pt x="8037" y="16371"/>
                </a:cubicBezTo>
                <a:cubicBezTo>
                  <a:pt x="8095" y="16336"/>
                  <a:pt x="8128" y="16340"/>
                  <a:pt x="8186" y="16371"/>
                </a:cubicBezTo>
                <a:cubicBezTo>
                  <a:pt x="8251" y="16406"/>
                  <a:pt x="8314" y="16431"/>
                  <a:pt x="8359" y="16495"/>
                </a:cubicBezTo>
                <a:cubicBezTo>
                  <a:pt x="8400" y="16554"/>
                  <a:pt x="8438" y="16613"/>
                  <a:pt x="8483" y="16669"/>
                </a:cubicBezTo>
              </a:path>
              <a:path w="8261" h="2804">
                <a:moveTo>
                  <a:pt x="8483" y="14436"/>
                </a:moveTo>
                <a:cubicBezTo>
                  <a:pt x="8483" y="14527"/>
                  <a:pt x="8462" y="14575"/>
                  <a:pt x="8458" y="14660"/>
                </a:cubicBezTo>
                <a:cubicBezTo>
                  <a:pt x="8454" y="14737"/>
                  <a:pt x="8455" y="14761"/>
                  <a:pt x="8458" y="14833"/>
                </a:cubicBezTo>
                <a:cubicBezTo>
                  <a:pt x="8461" y="14913"/>
                  <a:pt x="8478" y="14946"/>
                  <a:pt x="8533" y="15007"/>
                </a:cubicBezTo>
                <a:cubicBezTo>
                  <a:pt x="8592" y="15072"/>
                  <a:pt x="8620" y="15018"/>
                  <a:pt x="8632" y="14957"/>
                </a:cubicBezTo>
              </a:path>
              <a:path w="8261" h="2804">
                <a:moveTo>
                  <a:pt x="8434" y="13965"/>
                </a:moveTo>
                <a:cubicBezTo>
                  <a:pt x="8422" y="13986"/>
                  <a:pt x="8389" y="14097"/>
                  <a:pt x="8458" y="14089"/>
                </a:cubicBezTo>
                <a:cubicBezTo>
                  <a:pt x="8483" y="14064"/>
                  <a:pt x="8491" y="14056"/>
                  <a:pt x="8508" y="14039"/>
                </a:cubicBezTo>
                <a:cubicBezTo>
                  <a:pt x="8459" y="14010"/>
                  <a:pt x="8399" y="13996"/>
                  <a:pt x="8434" y="14064"/>
                </a:cubicBezTo>
              </a:path>
              <a:path w="8261" h="2804">
                <a:moveTo>
                  <a:pt x="8632" y="14114"/>
                </a:moveTo>
                <a:cubicBezTo>
                  <a:pt x="8741" y="14128"/>
                  <a:pt x="8745" y="14160"/>
                  <a:pt x="8781" y="14263"/>
                </a:cubicBezTo>
                <a:cubicBezTo>
                  <a:pt x="8811" y="14349"/>
                  <a:pt x="8806" y="14421"/>
                  <a:pt x="8806" y="14511"/>
                </a:cubicBezTo>
                <a:cubicBezTo>
                  <a:pt x="8806" y="14621"/>
                  <a:pt x="8828" y="14766"/>
                  <a:pt x="8781" y="14858"/>
                </a:cubicBezTo>
                <a:cubicBezTo>
                  <a:pt x="8790" y="14798"/>
                  <a:pt x="8795" y="14748"/>
                  <a:pt x="8806" y="14684"/>
                </a:cubicBezTo>
                <a:cubicBezTo>
                  <a:pt x="8822" y="14593"/>
                  <a:pt x="8841" y="14499"/>
                  <a:pt x="8855" y="14412"/>
                </a:cubicBezTo>
                <a:cubicBezTo>
                  <a:pt x="8872" y="14306"/>
                  <a:pt x="8863" y="14192"/>
                  <a:pt x="8880" y="14089"/>
                </a:cubicBezTo>
                <a:cubicBezTo>
                  <a:pt x="8892" y="14017"/>
                  <a:pt x="8866" y="13946"/>
                  <a:pt x="8930" y="13891"/>
                </a:cubicBezTo>
                <a:cubicBezTo>
                  <a:pt x="8970" y="13857"/>
                  <a:pt x="9078" y="13852"/>
                  <a:pt x="9128" y="13866"/>
                </a:cubicBezTo>
                <a:cubicBezTo>
                  <a:pt x="9199" y="13886"/>
                  <a:pt x="9250" y="13891"/>
                  <a:pt x="9327" y="13891"/>
                </a:cubicBezTo>
                <a:cubicBezTo>
                  <a:pt x="9414" y="13891"/>
                  <a:pt x="9486" y="13915"/>
                  <a:pt x="9575" y="13915"/>
                </a:cubicBezTo>
                <a:cubicBezTo>
                  <a:pt x="9648" y="13915"/>
                  <a:pt x="9705" y="13954"/>
                  <a:pt x="9773" y="13965"/>
                </a:cubicBezTo>
                <a:cubicBezTo>
                  <a:pt x="9838" y="13976"/>
                  <a:pt x="9863" y="13986"/>
                  <a:pt x="9847" y="13940"/>
                </a:cubicBezTo>
              </a:path>
              <a:path w="8261" h="2804">
                <a:moveTo>
                  <a:pt x="9029" y="14064"/>
                </a:moveTo>
                <a:cubicBezTo>
                  <a:pt x="9021" y="14072"/>
                  <a:pt x="9012" y="14081"/>
                  <a:pt x="9004" y="14089"/>
                </a:cubicBezTo>
                <a:cubicBezTo>
                  <a:pt x="9064" y="14125"/>
                  <a:pt x="9111" y="14095"/>
                  <a:pt x="9178" y="14114"/>
                </a:cubicBezTo>
                <a:cubicBezTo>
                  <a:pt x="9216" y="14125"/>
                  <a:pt x="9313" y="14138"/>
                  <a:pt x="9327" y="14188"/>
                </a:cubicBezTo>
                <a:cubicBezTo>
                  <a:pt x="9344" y="14247"/>
                  <a:pt x="9326" y="14317"/>
                  <a:pt x="9302" y="14362"/>
                </a:cubicBezTo>
                <a:cubicBezTo>
                  <a:pt x="9265" y="14432"/>
                  <a:pt x="9223" y="14433"/>
                  <a:pt x="9178" y="14486"/>
                </a:cubicBezTo>
                <a:cubicBezTo>
                  <a:pt x="9166" y="14501"/>
                  <a:pt x="9084" y="14591"/>
                  <a:pt x="9079" y="14610"/>
                </a:cubicBezTo>
                <a:cubicBezTo>
                  <a:pt x="9063" y="14669"/>
                  <a:pt x="9079" y="14724"/>
                  <a:pt x="9128" y="14759"/>
                </a:cubicBezTo>
                <a:cubicBezTo>
                  <a:pt x="9220" y="14826"/>
                  <a:pt x="9228" y="14795"/>
                  <a:pt x="9327" y="14759"/>
                </a:cubicBezTo>
              </a:path>
              <a:path w="8261" h="2804">
                <a:moveTo>
                  <a:pt x="9996" y="14114"/>
                </a:moveTo>
                <a:cubicBezTo>
                  <a:pt x="10061" y="14123"/>
                  <a:pt x="10135" y="14149"/>
                  <a:pt x="10195" y="14188"/>
                </a:cubicBezTo>
                <a:cubicBezTo>
                  <a:pt x="10240" y="14217"/>
                  <a:pt x="10272" y="14272"/>
                  <a:pt x="10220" y="14312"/>
                </a:cubicBezTo>
                <a:cubicBezTo>
                  <a:pt x="10171" y="14350"/>
                  <a:pt x="10079" y="14355"/>
                  <a:pt x="10021" y="14362"/>
                </a:cubicBezTo>
                <a:cubicBezTo>
                  <a:pt x="10096" y="14400"/>
                  <a:pt x="10158" y="14429"/>
                  <a:pt x="10220" y="14486"/>
                </a:cubicBezTo>
                <a:cubicBezTo>
                  <a:pt x="10247" y="14511"/>
                  <a:pt x="10298" y="14608"/>
                  <a:pt x="10294" y="14635"/>
                </a:cubicBezTo>
                <a:cubicBezTo>
                  <a:pt x="10281" y="14731"/>
                  <a:pt x="10187" y="14709"/>
                  <a:pt x="10120" y="14709"/>
                </a:cubicBezTo>
                <a:cubicBezTo>
                  <a:pt x="10057" y="14709"/>
                  <a:pt x="10024" y="14697"/>
                  <a:pt x="9971" y="14684"/>
                </a:cubicBezTo>
              </a:path>
              <a:path w="8261" h="2804">
                <a:moveTo>
                  <a:pt x="5581" y="15131"/>
                </a:moveTo>
                <a:cubicBezTo>
                  <a:pt x="5573" y="15139"/>
                  <a:pt x="5564" y="15148"/>
                  <a:pt x="5556" y="15156"/>
                </a:cubicBezTo>
              </a:path>
              <a:path w="8261" h="2804">
                <a:moveTo>
                  <a:pt x="5581" y="15131"/>
                </a:moveTo>
                <a:cubicBezTo>
                  <a:pt x="5581" y="15164"/>
                  <a:pt x="5581" y="15197"/>
                  <a:pt x="5581" y="15230"/>
                </a:cubicBezTo>
              </a:path>
              <a:path w="8261" h="2804">
                <a:moveTo>
                  <a:pt x="9426" y="14139"/>
                </a:moveTo>
                <a:cubicBezTo>
                  <a:pt x="9487" y="14139"/>
                  <a:pt x="9571" y="14138"/>
                  <a:pt x="9624" y="14163"/>
                </a:cubicBezTo>
                <a:cubicBezTo>
                  <a:pt x="9666" y="14183"/>
                  <a:pt x="9738" y="14265"/>
                  <a:pt x="9723" y="14312"/>
                </a:cubicBezTo>
                <a:cubicBezTo>
                  <a:pt x="9709" y="14355"/>
                  <a:pt x="9657" y="14403"/>
                  <a:pt x="9624" y="14436"/>
                </a:cubicBezTo>
                <a:cubicBezTo>
                  <a:pt x="9566" y="14493"/>
                  <a:pt x="9508" y="14552"/>
                  <a:pt x="9451" y="14610"/>
                </a:cubicBezTo>
                <a:cubicBezTo>
                  <a:pt x="9443" y="14618"/>
                  <a:pt x="9434" y="14627"/>
                  <a:pt x="9426" y="14635"/>
                </a:cubicBezTo>
                <a:cubicBezTo>
                  <a:pt x="9476" y="14665"/>
                  <a:pt x="9536" y="14681"/>
                  <a:pt x="9599" y="14684"/>
                </a:cubicBezTo>
                <a:cubicBezTo>
                  <a:pt x="9669" y="14688"/>
                  <a:pt x="9710" y="14705"/>
                  <a:pt x="9773" y="14709"/>
                </a:cubicBezTo>
                <a:cubicBezTo>
                  <a:pt x="9814" y="14709"/>
                  <a:pt x="9822" y="14709"/>
                  <a:pt x="9847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0"/>
          <p:cNvSpPr/>
          <p:nvPr/>
        </p:nvSpPr>
        <p:spPr>
          <a:xfrm>
            <a:off x="973080" y="5823000"/>
            <a:ext cx="1832040" cy="704880"/>
          </a:xfrm>
          <a:custGeom>
            <a:avLst/>
            <a:gdLst/>
            <a:ahLst/>
            <a:rect l="l" t="t" r="r" b="b"/>
            <a:pathLst>
              <a:path w="5086" h="1960">
                <a:moveTo>
                  <a:pt x="2729" y="16644"/>
                </a:moveTo>
                <a:cubicBezTo>
                  <a:pt x="2729" y="16905"/>
                  <a:pt x="2833" y="17448"/>
                  <a:pt x="2704" y="17661"/>
                </a:cubicBezTo>
              </a:path>
              <a:path w="5086" h="1960">
                <a:moveTo>
                  <a:pt x="3249" y="16966"/>
                </a:moveTo>
                <a:cubicBezTo>
                  <a:pt x="3241" y="17036"/>
                  <a:pt x="3211" y="17097"/>
                  <a:pt x="3200" y="17165"/>
                </a:cubicBezTo>
                <a:cubicBezTo>
                  <a:pt x="3189" y="17230"/>
                  <a:pt x="3179" y="17299"/>
                  <a:pt x="3175" y="17363"/>
                </a:cubicBezTo>
                <a:cubicBezTo>
                  <a:pt x="3175" y="17413"/>
                  <a:pt x="3175" y="17429"/>
                  <a:pt x="3175" y="17462"/>
                </a:cubicBezTo>
              </a:path>
              <a:path w="5086" h="1960">
                <a:moveTo>
                  <a:pt x="3026" y="17140"/>
                </a:moveTo>
                <a:cubicBezTo>
                  <a:pt x="3084" y="17173"/>
                  <a:pt x="3134" y="17203"/>
                  <a:pt x="3200" y="17214"/>
                </a:cubicBezTo>
                <a:cubicBezTo>
                  <a:pt x="3279" y="17227"/>
                  <a:pt x="3291" y="17229"/>
                  <a:pt x="3373" y="17214"/>
                </a:cubicBezTo>
              </a:path>
              <a:path w="5086" h="1960">
                <a:moveTo>
                  <a:pt x="3572" y="17016"/>
                </a:moveTo>
                <a:cubicBezTo>
                  <a:pt x="3548" y="17056"/>
                  <a:pt x="3527" y="17138"/>
                  <a:pt x="3547" y="17190"/>
                </a:cubicBezTo>
                <a:cubicBezTo>
                  <a:pt x="3569" y="17246"/>
                  <a:pt x="3599" y="17250"/>
                  <a:pt x="3646" y="17264"/>
                </a:cubicBezTo>
              </a:path>
              <a:path w="5086" h="1960">
                <a:moveTo>
                  <a:pt x="3621" y="16644"/>
                </a:moveTo>
                <a:cubicBezTo>
                  <a:pt x="3629" y="16652"/>
                  <a:pt x="3638" y="16661"/>
                  <a:pt x="3646" y="16669"/>
                </a:cubicBezTo>
              </a:path>
              <a:path w="5086" h="1960">
                <a:moveTo>
                  <a:pt x="3770" y="16942"/>
                </a:moveTo>
                <a:cubicBezTo>
                  <a:pt x="3794" y="17030"/>
                  <a:pt x="3795" y="17098"/>
                  <a:pt x="3795" y="17190"/>
                </a:cubicBezTo>
                <a:cubicBezTo>
                  <a:pt x="3795" y="17274"/>
                  <a:pt x="3802" y="17336"/>
                  <a:pt x="3820" y="17413"/>
                </a:cubicBezTo>
                <a:cubicBezTo>
                  <a:pt x="3820" y="17421"/>
                  <a:pt x="3820" y="17430"/>
                  <a:pt x="3820" y="17438"/>
                </a:cubicBezTo>
              </a:path>
              <a:path w="5086" h="1960">
                <a:moveTo>
                  <a:pt x="3820" y="17438"/>
                </a:moveTo>
                <a:cubicBezTo>
                  <a:pt x="3794" y="17368"/>
                  <a:pt x="3795" y="17315"/>
                  <a:pt x="3795" y="17239"/>
                </a:cubicBezTo>
                <a:cubicBezTo>
                  <a:pt x="3795" y="17157"/>
                  <a:pt x="3811" y="17094"/>
                  <a:pt x="3820" y="17016"/>
                </a:cubicBezTo>
                <a:cubicBezTo>
                  <a:pt x="3829" y="16937"/>
                  <a:pt x="3817" y="16842"/>
                  <a:pt x="3845" y="16768"/>
                </a:cubicBezTo>
                <a:cubicBezTo>
                  <a:pt x="3865" y="16716"/>
                  <a:pt x="3924" y="16674"/>
                  <a:pt x="3969" y="16669"/>
                </a:cubicBezTo>
                <a:cubicBezTo>
                  <a:pt x="4048" y="16660"/>
                  <a:pt x="4080" y="16727"/>
                  <a:pt x="4142" y="16743"/>
                </a:cubicBezTo>
                <a:cubicBezTo>
                  <a:pt x="4202" y="16759"/>
                  <a:pt x="4254" y="16770"/>
                  <a:pt x="4316" y="16793"/>
                </a:cubicBezTo>
              </a:path>
              <a:path w="5086" h="1960">
                <a:moveTo>
                  <a:pt x="4018" y="16892"/>
                </a:moveTo>
                <a:cubicBezTo>
                  <a:pt x="4062" y="16936"/>
                  <a:pt x="4093" y="16940"/>
                  <a:pt x="4142" y="16966"/>
                </a:cubicBezTo>
                <a:cubicBezTo>
                  <a:pt x="4159" y="16974"/>
                  <a:pt x="4175" y="16983"/>
                  <a:pt x="4192" y="16991"/>
                </a:cubicBezTo>
                <a:cubicBezTo>
                  <a:pt x="4156" y="17042"/>
                  <a:pt x="4102" y="17063"/>
                  <a:pt x="4068" y="17115"/>
                </a:cubicBezTo>
                <a:cubicBezTo>
                  <a:pt x="4040" y="17159"/>
                  <a:pt x="4023" y="17244"/>
                  <a:pt x="4093" y="17264"/>
                </a:cubicBezTo>
                <a:cubicBezTo>
                  <a:pt x="4144" y="17264"/>
                  <a:pt x="4163" y="17263"/>
                  <a:pt x="4192" y="17239"/>
                </a:cubicBezTo>
              </a:path>
              <a:path w="5086" h="1960">
                <a:moveTo>
                  <a:pt x="4291" y="16867"/>
                </a:moveTo>
                <a:cubicBezTo>
                  <a:pt x="4347" y="16889"/>
                  <a:pt x="4435" y="16909"/>
                  <a:pt x="4415" y="16991"/>
                </a:cubicBezTo>
                <a:cubicBezTo>
                  <a:pt x="4405" y="17033"/>
                  <a:pt x="4353" y="17092"/>
                  <a:pt x="4316" y="17115"/>
                </a:cubicBezTo>
                <a:cubicBezTo>
                  <a:pt x="4247" y="17159"/>
                  <a:pt x="4214" y="17178"/>
                  <a:pt x="4266" y="17264"/>
                </a:cubicBezTo>
                <a:cubicBezTo>
                  <a:pt x="4304" y="17326"/>
                  <a:pt x="4368" y="17280"/>
                  <a:pt x="4415" y="17264"/>
                </a:cubicBezTo>
              </a:path>
              <a:path w="5086" h="1960">
                <a:moveTo>
                  <a:pt x="4539" y="16917"/>
                </a:moveTo>
                <a:cubicBezTo>
                  <a:pt x="4579" y="16923"/>
                  <a:pt x="4667" y="16957"/>
                  <a:pt x="4663" y="17016"/>
                </a:cubicBezTo>
                <a:cubicBezTo>
                  <a:pt x="4657" y="17100"/>
                  <a:pt x="4584" y="17093"/>
                  <a:pt x="4539" y="17115"/>
                </a:cubicBezTo>
                <a:cubicBezTo>
                  <a:pt x="4483" y="17143"/>
                  <a:pt x="4537" y="17268"/>
                  <a:pt x="4539" y="17314"/>
                </a:cubicBezTo>
                <a:cubicBezTo>
                  <a:pt x="4542" y="17371"/>
                  <a:pt x="4508" y="17429"/>
                  <a:pt x="4440" y="17413"/>
                </a:cubicBezTo>
                <a:cubicBezTo>
                  <a:pt x="4376" y="17398"/>
                  <a:pt x="4337" y="17383"/>
                  <a:pt x="4291" y="17338"/>
                </a:cubicBezTo>
                <a:cubicBezTo>
                  <a:pt x="4266" y="17314"/>
                  <a:pt x="4258" y="17306"/>
                  <a:pt x="4242" y="17289"/>
                </a:cubicBezTo>
              </a:path>
              <a:path w="5086" h="1960">
                <a:moveTo>
                  <a:pt x="4812" y="17363"/>
                </a:moveTo>
                <a:cubicBezTo>
                  <a:pt x="4686" y="17393"/>
                  <a:pt x="4589" y="17392"/>
                  <a:pt x="4465" y="17413"/>
                </a:cubicBezTo>
                <a:cubicBezTo>
                  <a:pt x="4352" y="17432"/>
                  <a:pt x="4233" y="17452"/>
                  <a:pt x="4118" y="17462"/>
                </a:cubicBezTo>
                <a:cubicBezTo>
                  <a:pt x="3755" y="17492"/>
                  <a:pt x="3384" y="17435"/>
                  <a:pt x="3026" y="17487"/>
                </a:cubicBezTo>
                <a:cubicBezTo>
                  <a:pt x="2975" y="17487"/>
                  <a:pt x="2956" y="17488"/>
                  <a:pt x="2927" y="17512"/>
                </a:cubicBezTo>
              </a:path>
              <a:path w="5086" h="1960">
                <a:moveTo>
                  <a:pt x="3894" y="17413"/>
                </a:moveTo>
                <a:cubicBezTo>
                  <a:pt x="3942" y="17451"/>
                  <a:pt x="3998" y="17471"/>
                  <a:pt x="4043" y="17512"/>
                </a:cubicBezTo>
                <a:cubicBezTo>
                  <a:pt x="4087" y="17552"/>
                  <a:pt x="4072" y="17610"/>
                  <a:pt x="4018" y="17636"/>
                </a:cubicBezTo>
                <a:cubicBezTo>
                  <a:pt x="3945" y="17671"/>
                  <a:pt x="3878" y="17674"/>
                  <a:pt x="3870" y="17760"/>
                </a:cubicBezTo>
                <a:cubicBezTo>
                  <a:pt x="3860" y="17866"/>
                  <a:pt x="3902" y="17849"/>
                  <a:pt x="3969" y="17909"/>
                </a:cubicBezTo>
                <a:cubicBezTo>
                  <a:pt x="4013" y="17949"/>
                  <a:pt x="4058" y="17934"/>
                  <a:pt x="4118" y="17934"/>
                </a:cubicBezTo>
              </a:path>
              <a:path w="5086" h="1960">
                <a:moveTo>
                  <a:pt x="5159" y="17587"/>
                </a:moveTo>
                <a:cubicBezTo>
                  <a:pt x="5134" y="17701"/>
                  <a:pt x="5077" y="17820"/>
                  <a:pt x="5060" y="17934"/>
                </a:cubicBezTo>
                <a:cubicBezTo>
                  <a:pt x="5060" y="18017"/>
                  <a:pt x="5058" y="18051"/>
                  <a:pt x="5035" y="18107"/>
                </a:cubicBezTo>
              </a:path>
              <a:path w="5086" h="1960">
                <a:moveTo>
                  <a:pt x="5730" y="16842"/>
                </a:moveTo>
                <a:cubicBezTo>
                  <a:pt x="5772" y="16912"/>
                  <a:pt x="5733" y="16960"/>
                  <a:pt x="5730" y="17041"/>
                </a:cubicBezTo>
                <a:cubicBezTo>
                  <a:pt x="5726" y="17136"/>
                  <a:pt x="5705" y="17217"/>
                  <a:pt x="5705" y="17314"/>
                </a:cubicBezTo>
                <a:cubicBezTo>
                  <a:pt x="5705" y="17355"/>
                  <a:pt x="5705" y="17363"/>
                  <a:pt x="5705" y="17388"/>
                </a:cubicBezTo>
              </a:path>
              <a:path w="5086" h="1960">
                <a:moveTo>
                  <a:pt x="5978" y="16991"/>
                </a:moveTo>
                <a:cubicBezTo>
                  <a:pt x="6121" y="17013"/>
                  <a:pt x="6152" y="17006"/>
                  <a:pt x="6276" y="16991"/>
                </a:cubicBezTo>
              </a:path>
              <a:path w="5086" h="1960">
                <a:moveTo>
                  <a:pt x="6548" y="16644"/>
                </a:moveTo>
                <a:cubicBezTo>
                  <a:pt x="6581" y="16733"/>
                  <a:pt x="6562" y="16756"/>
                  <a:pt x="6548" y="16842"/>
                </a:cubicBezTo>
                <a:cubicBezTo>
                  <a:pt x="6526" y="16975"/>
                  <a:pt x="6556" y="17116"/>
                  <a:pt x="6524" y="17239"/>
                </a:cubicBezTo>
                <a:cubicBezTo>
                  <a:pt x="6524" y="17247"/>
                  <a:pt x="6524" y="17256"/>
                  <a:pt x="6524" y="17264"/>
                </a:cubicBezTo>
              </a:path>
              <a:path w="5086" h="1960">
                <a:moveTo>
                  <a:pt x="6598" y="16173"/>
                </a:moveTo>
                <a:cubicBezTo>
                  <a:pt x="6598" y="16214"/>
                  <a:pt x="6598" y="16222"/>
                  <a:pt x="6598" y="16247"/>
                </a:cubicBezTo>
              </a:path>
              <a:path w="5086" h="1960">
                <a:moveTo>
                  <a:pt x="6796" y="16694"/>
                </a:moveTo>
                <a:cubicBezTo>
                  <a:pt x="6796" y="16826"/>
                  <a:pt x="6796" y="16958"/>
                  <a:pt x="6796" y="17090"/>
                </a:cubicBezTo>
                <a:cubicBezTo>
                  <a:pt x="6757" y="17025"/>
                  <a:pt x="6792" y="16992"/>
                  <a:pt x="6796" y="16917"/>
                </a:cubicBezTo>
                <a:cubicBezTo>
                  <a:pt x="6800" y="16841"/>
                  <a:pt x="6797" y="16765"/>
                  <a:pt x="6821" y="16694"/>
                </a:cubicBezTo>
                <a:cubicBezTo>
                  <a:pt x="6843" y="16629"/>
                  <a:pt x="6848" y="16573"/>
                  <a:pt x="6896" y="16520"/>
                </a:cubicBezTo>
                <a:cubicBezTo>
                  <a:pt x="6968" y="16440"/>
                  <a:pt x="6980" y="16402"/>
                  <a:pt x="7094" y="16396"/>
                </a:cubicBezTo>
                <a:cubicBezTo>
                  <a:pt x="7200" y="16390"/>
                  <a:pt x="7294" y="16404"/>
                  <a:pt x="7392" y="16421"/>
                </a:cubicBezTo>
                <a:cubicBezTo>
                  <a:pt x="7408" y="16421"/>
                  <a:pt x="7425" y="16421"/>
                  <a:pt x="7441" y="16421"/>
                </a:cubicBezTo>
              </a:path>
              <a:path w="5086" h="1960">
                <a:moveTo>
                  <a:pt x="6970" y="16644"/>
                </a:moveTo>
                <a:cubicBezTo>
                  <a:pt x="7017" y="16628"/>
                  <a:pt x="7122" y="16578"/>
                  <a:pt x="7169" y="16594"/>
                </a:cubicBezTo>
                <a:cubicBezTo>
                  <a:pt x="7198" y="16624"/>
                  <a:pt x="7212" y="16636"/>
                  <a:pt x="7243" y="16644"/>
                </a:cubicBezTo>
                <a:cubicBezTo>
                  <a:pt x="7213" y="16704"/>
                  <a:pt x="7189" y="16769"/>
                  <a:pt x="7144" y="16818"/>
                </a:cubicBezTo>
                <a:cubicBezTo>
                  <a:pt x="7122" y="16843"/>
                  <a:pt x="7047" y="16929"/>
                  <a:pt x="7094" y="16966"/>
                </a:cubicBezTo>
                <a:cubicBezTo>
                  <a:pt x="7136" y="16966"/>
                  <a:pt x="7144" y="16966"/>
                  <a:pt x="7169" y="16966"/>
                </a:cubicBezTo>
              </a:path>
              <a:path w="5086" h="1960">
                <a:moveTo>
                  <a:pt x="7317" y="16570"/>
                </a:moveTo>
                <a:cubicBezTo>
                  <a:pt x="7365" y="16552"/>
                  <a:pt x="7457" y="16526"/>
                  <a:pt x="7491" y="16594"/>
                </a:cubicBezTo>
                <a:cubicBezTo>
                  <a:pt x="7513" y="16639"/>
                  <a:pt x="7450" y="16697"/>
                  <a:pt x="7417" y="16718"/>
                </a:cubicBezTo>
                <a:cubicBezTo>
                  <a:pt x="7381" y="16741"/>
                  <a:pt x="7290" y="16783"/>
                  <a:pt x="7293" y="16842"/>
                </a:cubicBezTo>
                <a:cubicBezTo>
                  <a:pt x="7298" y="16928"/>
                  <a:pt x="7376" y="16925"/>
                  <a:pt x="7417" y="16917"/>
                </a:cubicBezTo>
                <a:cubicBezTo>
                  <a:pt x="7425" y="16917"/>
                  <a:pt x="7433" y="16917"/>
                  <a:pt x="7441" y="16917"/>
                </a:cubicBezTo>
              </a:path>
              <a:path w="5086" h="1960">
                <a:moveTo>
                  <a:pt x="7640" y="16570"/>
                </a:moveTo>
                <a:cubicBezTo>
                  <a:pt x="7707" y="16590"/>
                  <a:pt x="7823" y="16610"/>
                  <a:pt x="7789" y="16718"/>
                </a:cubicBezTo>
                <a:cubicBezTo>
                  <a:pt x="7765" y="16795"/>
                  <a:pt x="7662" y="16750"/>
                  <a:pt x="7615" y="16768"/>
                </a:cubicBezTo>
                <a:cubicBezTo>
                  <a:pt x="7550" y="16793"/>
                  <a:pt x="7574" y="16869"/>
                  <a:pt x="7590" y="16917"/>
                </a:cubicBezTo>
                <a:cubicBezTo>
                  <a:pt x="7606" y="16965"/>
                  <a:pt x="7646" y="17061"/>
                  <a:pt x="7565" y="17090"/>
                </a:cubicBezTo>
                <a:cubicBezTo>
                  <a:pt x="7521" y="17106"/>
                  <a:pt x="7427" y="17041"/>
                  <a:pt x="7392" y="17016"/>
                </a:cubicBezTo>
                <a:cubicBezTo>
                  <a:pt x="7358" y="16992"/>
                  <a:pt x="7356" y="16976"/>
                  <a:pt x="7317" y="16966"/>
                </a:cubicBezTo>
              </a:path>
              <a:path w="5086" h="1960">
                <a:moveTo>
                  <a:pt x="7739" y="17016"/>
                </a:moveTo>
                <a:cubicBezTo>
                  <a:pt x="7690" y="17045"/>
                  <a:pt x="7625" y="17067"/>
                  <a:pt x="7565" y="17090"/>
                </a:cubicBezTo>
                <a:cubicBezTo>
                  <a:pt x="7417" y="17148"/>
                  <a:pt x="7266" y="17184"/>
                  <a:pt x="7119" y="17239"/>
                </a:cubicBezTo>
                <a:cubicBezTo>
                  <a:pt x="6986" y="17289"/>
                  <a:pt x="6859" y="17350"/>
                  <a:pt x="6722" y="17388"/>
                </a:cubicBezTo>
                <a:cubicBezTo>
                  <a:pt x="6598" y="17423"/>
                  <a:pt x="6442" y="17459"/>
                  <a:pt x="6325" y="17512"/>
                </a:cubicBezTo>
                <a:cubicBezTo>
                  <a:pt x="6247" y="17548"/>
                  <a:pt x="6186" y="17584"/>
                  <a:pt x="6102" y="17611"/>
                </a:cubicBezTo>
              </a:path>
              <a:path w="5086" h="1960">
                <a:moveTo>
                  <a:pt x="6573" y="17537"/>
                </a:moveTo>
                <a:cubicBezTo>
                  <a:pt x="6593" y="17539"/>
                  <a:pt x="6896" y="17528"/>
                  <a:pt x="6896" y="17636"/>
                </a:cubicBezTo>
                <a:cubicBezTo>
                  <a:pt x="6896" y="17711"/>
                  <a:pt x="6804" y="17802"/>
                  <a:pt x="6747" y="17835"/>
                </a:cubicBezTo>
                <a:cubicBezTo>
                  <a:pt x="6714" y="17854"/>
                  <a:pt x="6524" y="17916"/>
                  <a:pt x="6524" y="17959"/>
                </a:cubicBezTo>
                <a:cubicBezTo>
                  <a:pt x="6524" y="18045"/>
                  <a:pt x="6678" y="18114"/>
                  <a:pt x="6747" y="18132"/>
                </a:cubicBezTo>
                <a:cubicBezTo>
                  <a:pt x="6810" y="18148"/>
                  <a:pt x="6905" y="18132"/>
                  <a:pt x="6970" y="181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1"/>
          <p:cNvSpPr/>
          <p:nvPr/>
        </p:nvSpPr>
        <p:spPr>
          <a:xfrm>
            <a:off x="5402160" y="1347840"/>
            <a:ext cx="1312920" cy="492120"/>
          </a:xfrm>
          <a:custGeom>
            <a:avLst/>
            <a:gdLst/>
            <a:ahLst/>
            <a:rect l="l" t="t" r="r" b="b"/>
            <a:pathLst>
              <a:path w="3647" h="1365">
                <a:moveTo>
                  <a:pt x="15751" y="4217"/>
                </a:moveTo>
                <a:cubicBezTo>
                  <a:pt x="15689" y="4155"/>
                  <a:pt x="15717" y="4124"/>
                  <a:pt x="15701" y="4043"/>
                </a:cubicBezTo>
                <a:cubicBezTo>
                  <a:pt x="15686" y="3969"/>
                  <a:pt x="15678" y="3901"/>
                  <a:pt x="15627" y="3845"/>
                </a:cubicBezTo>
                <a:cubicBezTo>
                  <a:pt x="15581" y="3794"/>
                  <a:pt x="15548" y="3774"/>
                  <a:pt x="15478" y="3770"/>
                </a:cubicBezTo>
                <a:cubicBezTo>
                  <a:pt x="15426" y="3767"/>
                  <a:pt x="15339" y="3804"/>
                  <a:pt x="15304" y="3845"/>
                </a:cubicBezTo>
                <a:cubicBezTo>
                  <a:pt x="15241" y="3919"/>
                  <a:pt x="15255" y="4029"/>
                  <a:pt x="15255" y="4118"/>
                </a:cubicBezTo>
                <a:cubicBezTo>
                  <a:pt x="15255" y="4231"/>
                  <a:pt x="15268" y="4331"/>
                  <a:pt x="15280" y="4440"/>
                </a:cubicBezTo>
                <a:cubicBezTo>
                  <a:pt x="15298" y="4597"/>
                  <a:pt x="15337" y="4950"/>
                  <a:pt x="15255" y="5085"/>
                </a:cubicBezTo>
              </a:path>
              <a:path w="3647" h="1365">
                <a:moveTo>
                  <a:pt x="15007" y="4738"/>
                </a:moveTo>
                <a:cubicBezTo>
                  <a:pt x="15071" y="4729"/>
                  <a:pt x="15109" y="4713"/>
                  <a:pt x="15180" y="4713"/>
                </a:cubicBezTo>
                <a:cubicBezTo>
                  <a:pt x="15289" y="4713"/>
                  <a:pt x="15388" y="4688"/>
                  <a:pt x="15503" y="4688"/>
                </a:cubicBezTo>
              </a:path>
              <a:path w="3647" h="1365">
                <a:moveTo>
                  <a:pt x="16073" y="4167"/>
                </a:moveTo>
                <a:cubicBezTo>
                  <a:pt x="16064" y="4236"/>
                  <a:pt x="16026" y="4273"/>
                  <a:pt x="15999" y="4341"/>
                </a:cubicBezTo>
                <a:cubicBezTo>
                  <a:pt x="15958" y="4443"/>
                  <a:pt x="15932" y="4507"/>
                  <a:pt x="15900" y="4614"/>
                </a:cubicBezTo>
                <a:cubicBezTo>
                  <a:pt x="15870" y="4713"/>
                  <a:pt x="15870" y="4811"/>
                  <a:pt x="15900" y="4911"/>
                </a:cubicBezTo>
                <a:cubicBezTo>
                  <a:pt x="15913" y="4953"/>
                  <a:pt x="15962" y="5065"/>
                  <a:pt x="16024" y="5060"/>
                </a:cubicBezTo>
                <a:cubicBezTo>
                  <a:pt x="16032" y="5052"/>
                  <a:pt x="16041" y="5043"/>
                  <a:pt x="16049" y="5035"/>
                </a:cubicBezTo>
              </a:path>
              <a:path w="3647" h="1365">
                <a:moveTo>
                  <a:pt x="16098" y="4589"/>
                </a:moveTo>
                <a:cubicBezTo>
                  <a:pt x="16106" y="4646"/>
                  <a:pt x="16129" y="4706"/>
                  <a:pt x="16148" y="4762"/>
                </a:cubicBezTo>
                <a:cubicBezTo>
                  <a:pt x="16170" y="4826"/>
                  <a:pt x="16214" y="4880"/>
                  <a:pt x="16247" y="4936"/>
                </a:cubicBezTo>
                <a:cubicBezTo>
                  <a:pt x="16281" y="4992"/>
                  <a:pt x="16331" y="5046"/>
                  <a:pt x="16371" y="4986"/>
                </a:cubicBezTo>
              </a:path>
              <a:path w="3647" h="1365">
                <a:moveTo>
                  <a:pt x="16346" y="4390"/>
                </a:moveTo>
                <a:cubicBezTo>
                  <a:pt x="16289" y="4488"/>
                  <a:pt x="16253" y="4592"/>
                  <a:pt x="16197" y="4688"/>
                </a:cubicBezTo>
                <a:cubicBezTo>
                  <a:pt x="16154" y="4763"/>
                  <a:pt x="16116" y="4839"/>
                  <a:pt x="16073" y="4911"/>
                </a:cubicBezTo>
                <a:cubicBezTo>
                  <a:pt x="16045" y="4958"/>
                  <a:pt x="16024" y="5011"/>
                  <a:pt x="15999" y="5060"/>
                </a:cubicBezTo>
              </a:path>
              <a:path w="3647" h="1365">
                <a:moveTo>
                  <a:pt x="16446" y="3969"/>
                </a:moveTo>
                <a:cubicBezTo>
                  <a:pt x="16503" y="4075"/>
                  <a:pt x="16535" y="4175"/>
                  <a:pt x="16570" y="4291"/>
                </a:cubicBezTo>
                <a:cubicBezTo>
                  <a:pt x="16607" y="4412"/>
                  <a:pt x="16594" y="4537"/>
                  <a:pt x="16594" y="4663"/>
                </a:cubicBezTo>
                <a:cubicBezTo>
                  <a:pt x="16594" y="4763"/>
                  <a:pt x="16563" y="4846"/>
                  <a:pt x="16520" y="4936"/>
                </a:cubicBezTo>
                <a:cubicBezTo>
                  <a:pt x="16493" y="4993"/>
                  <a:pt x="16434" y="5091"/>
                  <a:pt x="16371" y="5110"/>
                </a:cubicBezTo>
                <a:cubicBezTo>
                  <a:pt x="16288" y="5134"/>
                  <a:pt x="16338" y="5094"/>
                  <a:pt x="16346" y="5060"/>
                </a:cubicBezTo>
              </a:path>
              <a:path w="3647" h="1365">
                <a:moveTo>
                  <a:pt x="16718" y="4539"/>
                </a:moveTo>
                <a:cubicBezTo>
                  <a:pt x="16795" y="4530"/>
                  <a:pt x="16863" y="4514"/>
                  <a:pt x="16942" y="4514"/>
                </a:cubicBezTo>
                <a:cubicBezTo>
                  <a:pt x="16950" y="4514"/>
                  <a:pt x="16958" y="4514"/>
                  <a:pt x="16966" y="4514"/>
                </a:cubicBezTo>
              </a:path>
              <a:path w="3647" h="1365">
                <a:moveTo>
                  <a:pt x="16669" y="4738"/>
                </a:moveTo>
                <a:cubicBezTo>
                  <a:pt x="16736" y="4712"/>
                  <a:pt x="16793" y="4704"/>
                  <a:pt x="16867" y="4688"/>
                </a:cubicBezTo>
              </a:path>
              <a:path w="3647" h="1365">
                <a:moveTo>
                  <a:pt x="17264" y="4291"/>
                </a:moveTo>
                <a:cubicBezTo>
                  <a:pt x="17294" y="4341"/>
                  <a:pt x="17310" y="4402"/>
                  <a:pt x="17314" y="4465"/>
                </a:cubicBezTo>
                <a:cubicBezTo>
                  <a:pt x="17320" y="4565"/>
                  <a:pt x="17373" y="4669"/>
                  <a:pt x="17413" y="4762"/>
                </a:cubicBezTo>
                <a:cubicBezTo>
                  <a:pt x="17449" y="4844"/>
                  <a:pt x="17470" y="4862"/>
                  <a:pt x="17537" y="4911"/>
                </a:cubicBezTo>
                <a:cubicBezTo>
                  <a:pt x="17590" y="4950"/>
                  <a:pt x="17589" y="4961"/>
                  <a:pt x="17661" y="4961"/>
                </a:cubicBezTo>
              </a:path>
              <a:path w="3647" h="1365">
                <a:moveTo>
                  <a:pt x="17487" y="4316"/>
                </a:moveTo>
                <a:cubicBezTo>
                  <a:pt x="17423" y="4406"/>
                  <a:pt x="17353" y="4510"/>
                  <a:pt x="17314" y="4614"/>
                </a:cubicBezTo>
                <a:cubicBezTo>
                  <a:pt x="17280" y="4706"/>
                  <a:pt x="17256" y="4797"/>
                  <a:pt x="17214" y="4887"/>
                </a:cubicBezTo>
                <a:cubicBezTo>
                  <a:pt x="17197" y="4924"/>
                  <a:pt x="17140" y="5085"/>
                  <a:pt x="17190" y="4911"/>
                </a:cubicBezTo>
              </a:path>
              <a:path w="3647" h="1365">
                <a:moveTo>
                  <a:pt x="17661" y="3845"/>
                </a:moveTo>
                <a:cubicBezTo>
                  <a:pt x="17702" y="3814"/>
                  <a:pt x="17798" y="3742"/>
                  <a:pt x="17859" y="3746"/>
                </a:cubicBezTo>
                <a:cubicBezTo>
                  <a:pt x="17937" y="3751"/>
                  <a:pt x="17899" y="3864"/>
                  <a:pt x="17884" y="3894"/>
                </a:cubicBezTo>
                <a:cubicBezTo>
                  <a:pt x="17857" y="3947"/>
                  <a:pt x="17827" y="3977"/>
                  <a:pt x="17785" y="4018"/>
                </a:cubicBezTo>
                <a:cubicBezTo>
                  <a:pt x="17755" y="4048"/>
                  <a:pt x="17741" y="4059"/>
                  <a:pt x="17711" y="4068"/>
                </a:cubicBezTo>
                <a:cubicBezTo>
                  <a:pt x="17773" y="4077"/>
                  <a:pt x="17831" y="4099"/>
                  <a:pt x="17884" y="4142"/>
                </a:cubicBezTo>
                <a:cubicBezTo>
                  <a:pt x="17935" y="4184"/>
                  <a:pt x="17907" y="4256"/>
                  <a:pt x="17859" y="4291"/>
                </a:cubicBezTo>
                <a:cubicBezTo>
                  <a:pt x="17829" y="4313"/>
                  <a:pt x="17636" y="4348"/>
                  <a:pt x="17611" y="4316"/>
                </a:cubicBezTo>
                <a:cubicBezTo>
                  <a:pt x="17634" y="4293"/>
                  <a:pt x="17638" y="4285"/>
                  <a:pt x="17661" y="4291"/>
                </a:cubicBezTo>
              </a:path>
              <a:path w="3647" h="1365">
                <a:moveTo>
                  <a:pt x="18455" y="4167"/>
                </a:moveTo>
                <a:cubicBezTo>
                  <a:pt x="18455" y="4266"/>
                  <a:pt x="18442" y="4349"/>
                  <a:pt x="18430" y="4440"/>
                </a:cubicBezTo>
                <a:cubicBezTo>
                  <a:pt x="18419" y="4528"/>
                  <a:pt x="18430" y="4624"/>
                  <a:pt x="18430" y="4713"/>
                </a:cubicBezTo>
              </a:path>
              <a:path w="3647" h="1365">
                <a:moveTo>
                  <a:pt x="18182" y="4440"/>
                </a:moveTo>
                <a:cubicBezTo>
                  <a:pt x="18278" y="4440"/>
                  <a:pt x="18365" y="4426"/>
                  <a:pt x="18455" y="4415"/>
                </a:cubicBezTo>
                <a:cubicBezTo>
                  <a:pt x="18546" y="4415"/>
                  <a:pt x="18588" y="4412"/>
                  <a:pt x="18653" y="43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2"/>
          <p:cNvSpPr/>
          <p:nvPr/>
        </p:nvSpPr>
        <p:spPr>
          <a:xfrm>
            <a:off x="6848640" y="1384200"/>
            <a:ext cx="420480" cy="42084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19075" y="4093"/>
                </a:moveTo>
                <a:cubicBezTo>
                  <a:pt x="19075" y="4170"/>
                  <a:pt x="19053" y="4223"/>
                  <a:pt x="19050" y="4291"/>
                </a:cubicBezTo>
                <a:cubicBezTo>
                  <a:pt x="19046" y="4382"/>
                  <a:pt x="19016" y="4406"/>
                  <a:pt x="19075" y="4490"/>
                </a:cubicBezTo>
                <a:cubicBezTo>
                  <a:pt x="19105" y="4533"/>
                  <a:pt x="19249" y="4527"/>
                  <a:pt x="19298" y="4514"/>
                </a:cubicBezTo>
                <a:cubicBezTo>
                  <a:pt x="19345" y="4502"/>
                  <a:pt x="19386" y="4469"/>
                  <a:pt x="19422" y="4440"/>
                </a:cubicBezTo>
              </a:path>
              <a:path w="1167" h="1167">
                <a:moveTo>
                  <a:pt x="19422" y="3845"/>
                </a:moveTo>
                <a:cubicBezTo>
                  <a:pt x="19388" y="3913"/>
                  <a:pt x="19397" y="3987"/>
                  <a:pt x="19397" y="4068"/>
                </a:cubicBezTo>
                <a:cubicBezTo>
                  <a:pt x="19397" y="4343"/>
                  <a:pt x="19370" y="4654"/>
                  <a:pt x="19422" y="4911"/>
                </a:cubicBezTo>
                <a:cubicBezTo>
                  <a:pt x="19436" y="4983"/>
                  <a:pt x="19426" y="4957"/>
                  <a:pt x="19472" y="4911"/>
                </a:cubicBezTo>
              </a:path>
              <a:path w="1167" h="1167">
                <a:moveTo>
                  <a:pt x="19720" y="4415"/>
                </a:moveTo>
                <a:cubicBezTo>
                  <a:pt x="19741" y="4472"/>
                  <a:pt x="19766" y="4592"/>
                  <a:pt x="19794" y="4638"/>
                </a:cubicBezTo>
                <a:cubicBezTo>
                  <a:pt x="19840" y="4712"/>
                  <a:pt x="19901" y="4761"/>
                  <a:pt x="19968" y="4812"/>
                </a:cubicBezTo>
                <a:cubicBezTo>
                  <a:pt x="20015" y="4848"/>
                  <a:pt x="20076" y="4887"/>
                  <a:pt x="20141" y="4862"/>
                </a:cubicBezTo>
                <a:cubicBezTo>
                  <a:pt x="20176" y="4827"/>
                  <a:pt x="20189" y="4805"/>
                  <a:pt x="20191" y="4762"/>
                </a:cubicBezTo>
              </a:path>
              <a:path w="1167" h="1167">
                <a:moveTo>
                  <a:pt x="20017" y="4465"/>
                </a:moveTo>
                <a:cubicBezTo>
                  <a:pt x="19960" y="4568"/>
                  <a:pt x="19910" y="4694"/>
                  <a:pt x="19844" y="4787"/>
                </a:cubicBezTo>
                <a:cubicBezTo>
                  <a:pt x="19804" y="4842"/>
                  <a:pt x="19745" y="4943"/>
                  <a:pt x="19695" y="4986"/>
                </a:cubicBezTo>
                <a:cubicBezTo>
                  <a:pt x="19678" y="4994"/>
                  <a:pt x="19662" y="5003"/>
                  <a:pt x="19645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3"/>
          <p:cNvSpPr/>
          <p:nvPr/>
        </p:nvSpPr>
        <p:spPr>
          <a:xfrm>
            <a:off x="5411880" y="2044800"/>
            <a:ext cx="847800" cy="492120"/>
          </a:xfrm>
          <a:custGeom>
            <a:avLst/>
            <a:gdLst/>
            <a:ahLst/>
            <a:rect l="l" t="t" r="r" b="b"/>
            <a:pathLst>
              <a:path w="2357" h="1366">
                <a:moveTo>
                  <a:pt x="15131" y="5680"/>
                </a:moveTo>
                <a:cubicBezTo>
                  <a:pt x="15081" y="5742"/>
                  <a:pt x="15064" y="5824"/>
                  <a:pt x="15056" y="5904"/>
                </a:cubicBezTo>
                <a:cubicBezTo>
                  <a:pt x="15046" y="6013"/>
                  <a:pt x="15032" y="6115"/>
                  <a:pt x="15032" y="6226"/>
                </a:cubicBezTo>
                <a:cubicBezTo>
                  <a:pt x="15032" y="6352"/>
                  <a:pt x="15020" y="6477"/>
                  <a:pt x="15056" y="6598"/>
                </a:cubicBezTo>
                <a:cubicBezTo>
                  <a:pt x="15089" y="6710"/>
                  <a:pt x="15095" y="6773"/>
                  <a:pt x="15156" y="6871"/>
                </a:cubicBezTo>
                <a:cubicBezTo>
                  <a:pt x="15185" y="6917"/>
                  <a:pt x="15260" y="7024"/>
                  <a:pt x="15304" y="7045"/>
                </a:cubicBezTo>
                <a:cubicBezTo>
                  <a:pt x="15349" y="7066"/>
                  <a:pt x="15493" y="7053"/>
                  <a:pt x="15528" y="7020"/>
                </a:cubicBezTo>
                <a:cubicBezTo>
                  <a:pt x="15583" y="6969"/>
                  <a:pt x="15646" y="6897"/>
                  <a:pt x="15677" y="6821"/>
                </a:cubicBezTo>
                <a:cubicBezTo>
                  <a:pt x="15713" y="6733"/>
                  <a:pt x="15701" y="6641"/>
                  <a:pt x="15701" y="6548"/>
                </a:cubicBezTo>
                <a:cubicBezTo>
                  <a:pt x="15701" y="6403"/>
                  <a:pt x="15691" y="6288"/>
                  <a:pt x="15627" y="6152"/>
                </a:cubicBezTo>
                <a:cubicBezTo>
                  <a:pt x="15586" y="6066"/>
                  <a:pt x="15513" y="5954"/>
                  <a:pt x="15453" y="5879"/>
                </a:cubicBezTo>
                <a:cubicBezTo>
                  <a:pt x="15396" y="5808"/>
                  <a:pt x="15334" y="5770"/>
                  <a:pt x="15255" y="5730"/>
                </a:cubicBezTo>
                <a:cubicBezTo>
                  <a:pt x="15186" y="5695"/>
                  <a:pt x="15105" y="5700"/>
                  <a:pt x="15032" y="5680"/>
                </a:cubicBezTo>
              </a:path>
              <a:path w="2357" h="1366">
                <a:moveTo>
                  <a:pt x="15999" y="6003"/>
                </a:moveTo>
                <a:cubicBezTo>
                  <a:pt x="16053" y="5995"/>
                  <a:pt x="16117" y="5994"/>
                  <a:pt x="16173" y="5978"/>
                </a:cubicBezTo>
                <a:cubicBezTo>
                  <a:pt x="16235" y="5946"/>
                  <a:pt x="16266" y="5938"/>
                  <a:pt x="16321" y="5953"/>
                </a:cubicBezTo>
              </a:path>
              <a:path w="2357" h="1366">
                <a:moveTo>
                  <a:pt x="16197" y="6201"/>
                </a:moveTo>
                <a:cubicBezTo>
                  <a:pt x="16256" y="6218"/>
                  <a:pt x="16322" y="6201"/>
                  <a:pt x="16396" y="6201"/>
                </a:cubicBezTo>
              </a:path>
              <a:path w="2357" h="1366">
                <a:moveTo>
                  <a:pt x="16892" y="5804"/>
                </a:moveTo>
                <a:cubicBezTo>
                  <a:pt x="16927" y="5909"/>
                  <a:pt x="16971" y="6003"/>
                  <a:pt x="17016" y="6102"/>
                </a:cubicBezTo>
                <a:cubicBezTo>
                  <a:pt x="17053" y="6184"/>
                  <a:pt x="17126" y="6248"/>
                  <a:pt x="17165" y="6325"/>
                </a:cubicBezTo>
                <a:cubicBezTo>
                  <a:pt x="17203" y="6400"/>
                  <a:pt x="17240" y="6477"/>
                  <a:pt x="17289" y="6548"/>
                </a:cubicBezTo>
                <a:cubicBezTo>
                  <a:pt x="17320" y="6593"/>
                  <a:pt x="17348" y="6633"/>
                  <a:pt x="17388" y="6672"/>
                </a:cubicBezTo>
              </a:path>
              <a:path w="2357" h="1366">
                <a:moveTo>
                  <a:pt x="17289" y="5829"/>
                </a:moveTo>
                <a:cubicBezTo>
                  <a:pt x="17235" y="5942"/>
                  <a:pt x="17182" y="6095"/>
                  <a:pt x="17115" y="6201"/>
                </a:cubicBezTo>
                <a:cubicBezTo>
                  <a:pt x="17064" y="6281"/>
                  <a:pt x="17015" y="6363"/>
                  <a:pt x="16966" y="6449"/>
                </a:cubicBezTo>
                <a:cubicBezTo>
                  <a:pt x="16932" y="6509"/>
                  <a:pt x="16913" y="6572"/>
                  <a:pt x="16867" y="6623"/>
                </a:cubicBezTo>
                <a:cubicBezTo>
                  <a:pt x="16845" y="6645"/>
                  <a:pt x="16836" y="6650"/>
                  <a:pt x="16842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4"/>
          <p:cNvSpPr/>
          <p:nvPr/>
        </p:nvSpPr>
        <p:spPr>
          <a:xfrm>
            <a:off x="6429240" y="1955880"/>
            <a:ext cx="714600" cy="465120"/>
          </a:xfrm>
          <a:custGeom>
            <a:avLst/>
            <a:gdLst/>
            <a:ahLst/>
            <a:rect l="l" t="t" r="r" b="b"/>
            <a:pathLst>
              <a:path w="1986" h="1291">
                <a:moveTo>
                  <a:pt x="18008" y="5432"/>
                </a:moveTo>
                <a:cubicBezTo>
                  <a:pt x="18001" y="5505"/>
                  <a:pt x="17982" y="5582"/>
                  <a:pt x="17959" y="5655"/>
                </a:cubicBezTo>
                <a:cubicBezTo>
                  <a:pt x="17925" y="5763"/>
                  <a:pt x="17901" y="5841"/>
                  <a:pt x="17884" y="5953"/>
                </a:cubicBezTo>
                <a:cubicBezTo>
                  <a:pt x="17867" y="6062"/>
                  <a:pt x="17863" y="6188"/>
                  <a:pt x="17884" y="6300"/>
                </a:cubicBezTo>
                <a:cubicBezTo>
                  <a:pt x="17900" y="6386"/>
                  <a:pt x="17922" y="6468"/>
                  <a:pt x="17959" y="6548"/>
                </a:cubicBezTo>
                <a:cubicBezTo>
                  <a:pt x="17980" y="6593"/>
                  <a:pt x="18017" y="6668"/>
                  <a:pt x="18058" y="6697"/>
                </a:cubicBezTo>
                <a:cubicBezTo>
                  <a:pt x="18107" y="6722"/>
                  <a:pt x="18124" y="6730"/>
                  <a:pt x="18157" y="6697"/>
                </a:cubicBezTo>
              </a:path>
              <a:path w="1986" h="1291">
                <a:moveTo>
                  <a:pt x="18306" y="5978"/>
                </a:moveTo>
                <a:cubicBezTo>
                  <a:pt x="18372" y="6045"/>
                  <a:pt x="18384" y="6096"/>
                  <a:pt x="18430" y="6176"/>
                </a:cubicBezTo>
                <a:cubicBezTo>
                  <a:pt x="18476" y="6256"/>
                  <a:pt x="18529" y="6326"/>
                  <a:pt x="18579" y="6400"/>
                </a:cubicBezTo>
                <a:cubicBezTo>
                  <a:pt x="18625" y="6468"/>
                  <a:pt x="18642" y="6494"/>
                  <a:pt x="18703" y="6548"/>
                </a:cubicBezTo>
                <a:cubicBezTo>
                  <a:pt x="18734" y="6576"/>
                  <a:pt x="18739" y="6588"/>
                  <a:pt x="18777" y="6598"/>
                </a:cubicBezTo>
              </a:path>
              <a:path w="1986" h="1291">
                <a:moveTo>
                  <a:pt x="18628" y="5879"/>
                </a:moveTo>
                <a:cubicBezTo>
                  <a:pt x="18601" y="5955"/>
                  <a:pt x="18572" y="6032"/>
                  <a:pt x="18529" y="6102"/>
                </a:cubicBezTo>
                <a:cubicBezTo>
                  <a:pt x="18469" y="6199"/>
                  <a:pt x="18448" y="6295"/>
                  <a:pt x="18405" y="6400"/>
                </a:cubicBezTo>
                <a:cubicBezTo>
                  <a:pt x="18375" y="6472"/>
                  <a:pt x="18351" y="6558"/>
                  <a:pt x="18306" y="6623"/>
                </a:cubicBezTo>
                <a:cubicBezTo>
                  <a:pt x="18283" y="6646"/>
                  <a:pt x="18275" y="6657"/>
                  <a:pt x="18281" y="6623"/>
                </a:cubicBezTo>
              </a:path>
              <a:path w="1986" h="1291">
                <a:moveTo>
                  <a:pt x="18802" y="5507"/>
                </a:moveTo>
                <a:cubicBezTo>
                  <a:pt x="18883" y="5462"/>
                  <a:pt x="18936" y="5441"/>
                  <a:pt x="19025" y="5482"/>
                </a:cubicBezTo>
                <a:cubicBezTo>
                  <a:pt x="19092" y="5513"/>
                  <a:pt x="19088" y="5649"/>
                  <a:pt x="19075" y="5705"/>
                </a:cubicBezTo>
                <a:cubicBezTo>
                  <a:pt x="19063" y="5759"/>
                  <a:pt x="19003" y="5808"/>
                  <a:pt x="18976" y="5854"/>
                </a:cubicBezTo>
                <a:cubicBezTo>
                  <a:pt x="18915" y="5957"/>
                  <a:pt x="19017" y="5969"/>
                  <a:pt x="19100" y="5953"/>
                </a:cubicBezTo>
                <a:cubicBezTo>
                  <a:pt x="19157" y="5934"/>
                  <a:pt x="19164" y="5925"/>
                  <a:pt x="19199" y="5928"/>
                </a:cubicBezTo>
              </a:path>
              <a:path w="1986" h="1291">
                <a:moveTo>
                  <a:pt x="19695" y="5904"/>
                </a:moveTo>
                <a:cubicBezTo>
                  <a:pt x="19717" y="5985"/>
                  <a:pt x="19720" y="6044"/>
                  <a:pt x="19720" y="6127"/>
                </a:cubicBezTo>
                <a:cubicBezTo>
                  <a:pt x="19720" y="6181"/>
                  <a:pt x="19731" y="6271"/>
                  <a:pt x="19745" y="6325"/>
                </a:cubicBezTo>
                <a:cubicBezTo>
                  <a:pt x="19765" y="6366"/>
                  <a:pt x="19773" y="6372"/>
                  <a:pt x="19769" y="6400"/>
                </a:cubicBezTo>
              </a:path>
              <a:path w="1986" h="1291">
                <a:moveTo>
                  <a:pt x="19521" y="6127"/>
                </a:moveTo>
                <a:cubicBezTo>
                  <a:pt x="19629" y="6127"/>
                  <a:pt x="19736" y="6127"/>
                  <a:pt x="19844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5"/>
          <p:cNvSpPr/>
          <p:nvPr/>
        </p:nvSpPr>
        <p:spPr>
          <a:xfrm>
            <a:off x="7331040" y="1830240"/>
            <a:ext cx="438120" cy="696960"/>
          </a:xfrm>
          <a:custGeom>
            <a:avLst/>
            <a:gdLst/>
            <a:ahLst/>
            <a:rect l="l" t="t" r="r" b="b"/>
            <a:pathLst>
              <a:path w="1216" h="1936">
                <a:moveTo>
                  <a:pt x="20489" y="5730"/>
                </a:moveTo>
                <a:cubicBezTo>
                  <a:pt x="20489" y="5813"/>
                  <a:pt x="20457" y="5817"/>
                  <a:pt x="20439" y="5879"/>
                </a:cubicBezTo>
                <a:cubicBezTo>
                  <a:pt x="20422" y="5938"/>
                  <a:pt x="20376" y="5995"/>
                  <a:pt x="20365" y="6052"/>
                </a:cubicBezTo>
                <a:cubicBezTo>
                  <a:pt x="20365" y="6069"/>
                  <a:pt x="20365" y="6085"/>
                  <a:pt x="20365" y="6102"/>
                </a:cubicBezTo>
                <a:cubicBezTo>
                  <a:pt x="20513" y="6102"/>
                  <a:pt x="20670" y="6121"/>
                  <a:pt x="20811" y="6077"/>
                </a:cubicBezTo>
                <a:cubicBezTo>
                  <a:pt x="20836" y="6069"/>
                  <a:pt x="20861" y="6060"/>
                  <a:pt x="20886" y="6052"/>
                </a:cubicBezTo>
              </a:path>
              <a:path w="1216" h="1936">
                <a:moveTo>
                  <a:pt x="20811" y="5556"/>
                </a:moveTo>
                <a:cubicBezTo>
                  <a:pt x="20803" y="5675"/>
                  <a:pt x="20786" y="5782"/>
                  <a:pt x="20786" y="5904"/>
                </a:cubicBezTo>
                <a:cubicBezTo>
                  <a:pt x="20786" y="6065"/>
                  <a:pt x="20775" y="6216"/>
                  <a:pt x="20762" y="6375"/>
                </a:cubicBezTo>
                <a:cubicBezTo>
                  <a:pt x="20757" y="6442"/>
                  <a:pt x="20723" y="6636"/>
                  <a:pt x="20786" y="6548"/>
                </a:cubicBezTo>
              </a:path>
              <a:path w="1216" h="1936">
                <a:moveTo>
                  <a:pt x="21109" y="5085"/>
                </a:moveTo>
                <a:cubicBezTo>
                  <a:pt x="21202" y="5178"/>
                  <a:pt x="21263" y="5248"/>
                  <a:pt x="21332" y="5358"/>
                </a:cubicBezTo>
                <a:cubicBezTo>
                  <a:pt x="21408" y="5480"/>
                  <a:pt x="21472" y="5615"/>
                  <a:pt x="21506" y="5755"/>
                </a:cubicBezTo>
                <a:cubicBezTo>
                  <a:pt x="21543" y="5911"/>
                  <a:pt x="21576" y="6067"/>
                  <a:pt x="21580" y="6226"/>
                </a:cubicBezTo>
                <a:cubicBezTo>
                  <a:pt x="21584" y="6388"/>
                  <a:pt x="21537" y="6508"/>
                  <a:pt x="21456" y="6648"/>
                </a:cubicBezTo>
                <a:cubicBezTo>
                  <a:pt x="21392" y="6757"/>
                  <a:pt x="21326" y="6817"/>
                  <a:pt x="21233" y="6896"/>
                </a:cubicBezTo>
                <a:cubicBezTo>
                  <a:pt x="21170" y="6950"/>
                  <a:pt x="21106" y="6984"/>
                  <a:pt x="21034" y="70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6"/>
          <p:cNvSpPr/>
          <p:nvPr/>
        </p:nvSpPr>
        <p:spPr>
          <a:xfrm>
            <a:off x="5232240" y="2776680"/>
            <a:ext cx="642960" cy="411120"/>
          </a:xfrm>
          <a:custGeom>
            <a:avLst/>
            <a:gdLst/>
            <a:ahLst/>
            <a:rect l="l" t="t" r="r" b="b"/>
            <a:pathLst>
              <a:path w="1786" h="1142">
                <a:moveTo>
                  <a:pt x="14560" y="7739"/>
                </a:moveTo>
                <a:cubicBezTo>
                  <a:pt x="14593" y="7796"/>
                  <a:pt x="14623" y="7858"/>
                  <a:pt x="14660" y="7913"/>
                </a:cubicBezTo>
                <a:cubicBezTo>
                  <a:pt x="14729" y="8015"/>
                  <a:pt x="14796" y="8127"/>
                  <a:pt x="14858" y="8235"/>
                </a:cubicBezTo>
                <a:cubicBezTo>
                  <a:pt x="14903" y="8314"/>
                  <a:pt x="14915" y="8405"/>
                  <a:pt x="14957" y="8483"/>
                </a:cubicBezTo>
                <a:cubicBezTo>
                  <a:pt x="14995" y="8554"/>
                  <a:pt x="15016" y="8624"/>
                  <a:pt x="15032" y="8706"/>
                </a:cubicBezTo>
                <a:cubicBezTo>
                  <a:pt x="15040" y="8750"/>
                  <a:pt x="15032" y="8811"/>
                  <a:pt x="15032" y="8855"/>
                </a:cubicBezTo>
              </a:path>
              <a:path w="1786" h="1142">
                <a:moveTo>
                  <a:pt x="15106" y="7714"/>
                </a:moveTo>
                <a:cubicBezTo>
                  <a:pt x="15022" y="7726"/>
                  <a:pt x="15021" y="7760"/>
                  <a:pt x="14982" y="7838"/>
                </a:cubicBezTo>
                <a:cubicBezTo>
                  <a:pt x="14934" y="7933"/>
                  <a:pt x="14882" y="8015"/>
                  <a:pt x="14833" y="8111"/>
                </a:cubicBezTo>
                <a:cubicBezTo>
                  <a:pt x="14762" y="8251"/>
                  <a:pt x="14672" y="8369"/>
                  <a:pt x="14610" y="8508"/>
                </a:cubicBezTo>
                <a:cubicBezTo>
                  <a:pt x="14606" y="8518"/>
                  <a:pt x="14517" y="8697"/>
                  <a:pt x="14536" y="8706"/>
                </a:cubicBezTo>
                <a:cubicBezTo>
                  <a:pt x="14561" y="8706"/>
                  <a:pt x="14585" y="8706"/>
                  <a:pt x="14610" y="8706"/>
                </a:cubicBezTo>
              </a:path>
              <a:path w="1786" h="1142">
                <a:moveTo>
                  <a:pt x="15106" y="8186"/>
                </a:moveTo>
                <a:cubicBezTo>
                  <a:pt x="15171" y="8224"/>
                  <a:pt x="15185" y="8190"/>
                  <a:pt x="15255" y="8186"/>
                </a:cubicBezTo>
                <a:cubicBezTo>
                  <a:pt x="15316" y="8183"/>
                  <a:pt x="15418" y="8127"/>
                  <a:pt x="15478" y="8161"/>
                </a:cubicBezTo>
                <a:cubicBezTo>
                  <a:pt x="15478" y="8169"/>
                  <a:pt x="15478" y="8178"/>
                  <a:pt x="15478" y="8186"/>
                </a:cubicBezTo>
              </a:path>
              <a:path w="1786" h="1142">
                <a:moveTo>
                  <a:pt x="15230" y="8409"/>
                </a:moveTo>
                <a:cubicBezTo>
                  <a:pt x="15327" y="8409"/>
                  <a:pt x="15366" y="8383"/>
                  <a:pt x="15429" y="8359"/>
                </a:cubicBezTo>
                <a:cubicBezTo>
                  <a:pt x="15470" y="8343"/>
                  <a:pt x="15532" y="8340"/>
                  <a:pt x="15577" y="8334"/>
                </a:cubicBezTo>
              </a:path>
              <a:path w="1786" h="1142">
                <a:moveTo>
                  <a:pt x="15949" y="7962"/>
                </a:moveTo>
                <a:cubicBezTo>
                  <a:pt x="15924" y="8032"/>
                  <a:pt x="15884" y="8115"/>
                  <a:pt x="15875" y="8186"/>
                </a:cubicBezTo>
                <a:cubicBezTo>
                  <a:pt x="15864" y="8270"/>
                  <a:pt x="15850" y="8348"/>
                  <a:pt x="15850" y="8434"/>
                </a:cubicBezTo>
                <a:cubicBezTo>
                  <a:pt x="15850" y="8538"/>
                  <a:pt x="15841" y="8627"/>
                  <a:pt x="15925" y="8706"/>
                </a:cubicBezTo>
                <a:cubicBezTo>
                  <a:pt x="16034" y="8809"/>
                  <a:pt x="16031" y="8737"/>
                  <a:pt x="16148" y="8706"/>
                </a:cubicBezTo>
                <a:cubicBezTo>
                  <a:pt x="16219" y="8687"/>
                  <a:pt x="16271" y="8592"/>
                  <a:pt x="16297" y="8508"/>
                </a:cubicBezTo>
                <a:cubicBezTo>
                  <a:pt x="16321" y="8433"/>
                  <a:pt x="16330" y="8376"/>
                  <a:pt x="16297" y="8310"/>
                </a:cubicBezTo>
                <a:cubicBezTo>
                  <a:pt x="16239" y="8193"/>
                  <a:pt x="16187" y="8169"/>
                  <a:pt x="16073" y="8111"/>
                </a:cubicBezTo>
                <a:cubicBezTo>
                  <a:pt x="15975" y="8062"/>
                  <a:pt x="15960" y="8071"/>
                  <a:pt x="15949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7"/>
          <p:cNvSpPr/>
          <p:nvPr/>
        </p:nvSpPr>
        <p:spPr>
          <a:xfrm>
            <a:off x="6357960" y="2678040"/>
            <a:ext cx="1571760" cy="492120"/>
          </a:xfrm>
          <a:custGeom>
            <a:avLst/>
            <a:gdLst/>
            <a:ahLst/>
            <a:rect l="l" t="t" r="r" b="b"/>
            <a:pathLst>
              <a:path w="4367" h="1366">
                <a:moveTo>
                  <a:pt x="17785" y="7838"/>
                </a:moveTo>
                <a:cubicBezTo>
                  <a:pt x="17795" y="7906"/>
                  <a:pt x="17826" y="7924"/>
                  <a:pt x="17859" y="7987"/>
                </a:cubicBezTo>
                <a:cubicBezTo>
                  <a:pt x="17899" y="8062"/>
                  <a:pt x="17958" y="8118"/>
                  <a:pt x="18008" y="8186"/>
                </a:cubicBezTo>
                <a:cubicBezTo>
                  <a:pt x="18076" y="8278"/>
                  <a:pt x="18142" y="8340"/>
                  <a:pt x="18207" y="8434"/>
                </a:cubicBezTo>
                <a:cubicBezTo>
                  <a:pt x="18250" y="8496"/>
                  <a:pt x="18260" y="8571"/>
                  <a:pt x="18306" y="8632"/>
                </a:cubicBezTo>
                <a:cubicBezTo>
                  <a:pt x="18314" y="8640"/>
                  <a:pt x="18323" y="8649"/>
                  <a:pt x="18331" y="8657"/>
                </a:cubicBezTo>
              </a:path>
              <a:path w="4367" h="1366">
                <a:moveTo>
                  <a:pt x="18207" y="7888"/>
                </a:moveTo>
                <a:cubicBezTo>
                  <a:pt x="18135" y="8011"/>
                  <a:pt x="18070" y="8172"/>
                  <a:pt x="17983" y="8285"/>
                </a:cubicBezTo>
                <a:cubicBezTo>
                  <a:pt x="17910" y="8379"/>
                  <a:pt x="17873" y="8481"/>
                  <a:pt x="17810" y="8582"/>
                </a:cubicBezTo>
                <a:cubicBezTo>
                  <a:pt x="17785" y="8622"/>
                  <a:pt x="17587" y="8930"/>
                  <a:pt x="17711" y="8731"/>
                </a:cubicBezTo>
              </a:path>
              <a:path w="4367" h="1366">
                <a:moveTo>
                  <a:pt x="18430" y="7565"/>
                </a:moveTo>
                <a:cubicBezTo>
                  <a:pt x="18463" y="7518"/>
                  <a:pt x="18516" y="7435"/>
                  <a:pt x="18579" y="7441"/>
                </a:cubicBezTo>
                <a:cubicBezTo>
                  <a:pt x="18660" y="7449"/>
                  <a:pt x="18699" y="7494"/>
                  <a:pt x="18703" y="7565"/>
                </a:cubicBezTo>
                <a:cubicBezTo>
                  <a:pt x="18707" y="7639"/>
                  <a:pt x="18698" y="7680"/>
                  <a:pt x="18653" y="7739"/>
                </a:cubicBezTo>
                <a:cubicBezTo>
                  <a:pt x="18605" y="7803"/>
                  <a:pt x="18625" y="7854"/>
                  <a:pt x="18703" y="7863"/>
                </a:cubicBezTo>
                <a:cubicBezTo>
                  <a:pt x="18762" y="7870"/>
                  <a:pt x="18802" y="7838"/>
                  <a:pt x="18852" y="7813"/>
                </a:cubicBezTo>
              </a:path>
              <a:path w="4367" h="1366">
                <a:moveTo>
                  <a:pt x="19174" y="7888"/>
                </a:moveTo>
                <a:cubicBezTo>
                  <a:pt x="19174" y="8011"/>
                  <a:pt x="19180" y="8120"/>
                  <a:pt x="19199" y="8235"/>
                </a:cubicBezTo>
                <a:cubicBezTo>
                  <a:pt x="19199" y="8277"/>
                  <a:pt x="19199" y="8285"/>
                  <a:pt x="19199" y="8310"/>
                </a:cubicBezTo>
              </a:path>
              <a:path w="4367" h="1366">
                <a:moveTo>
                  <a:pt x="18951" y="8012"/>
                </a:moveTo>
                <a:cubicBezTo>
                  <a:pt x="19091" y="8012"/>
                  <a:pt x="19232" y="8012"/>
                  <a:pt x="19372" y="8012"/>
                </a:cubicBezTo>
              </a:path>
              <a:path w="4367" h="1366">
                <a:moveTo>
                  <a:pt x="19645" y="7789"/>
                </a:moveTo>
                <a:cubicBezTo>
                  <a:pt x="19629" y="7855"/>
                  <a:pt x="19595" y="7967"/>
                  <a:pt x="19621" y="8037"/>
                </a:cubicBezTo>
                <a:cubicBezTo>
                  <a:pt x="19630" y="8061"/>
                  <a:pt x="19689" y="8154"/>
                  <a:pt x="19720" y="8161"/>
                </a:cubicBezTo>
                <a:cubicBezTo>
                  <a:pt x="19784" y="8175"/>
                  <a:pt x="19859" y="8133"/>
                  <a:pt x="19918" y="8111"/>
                </a:cubicBezTo>
              </a:path>
              <a:path w="4367" h="1366">
                <a:moveTo>
                  <a:pt x="20141" y="7516"/>
                </a:moveTo>
                <a:cubicBezTo>
                  <a:pt x="20100" y="7599"/>
                  <a:pt x="20087" y="7654"/>
                  <a:pt x="20067" y="7739"/>
                </a:cubicBezTo>
                <a:cubicBezTo>
                  <a:pt x="20032" y="7887"/>
                  <a:pt x="20021" y="8003"/>
                  <a:pt x="20017" y="8161"/>
                </a:cubicBezTo>
                <a:cubicBezTo>
                  <a:pt x="20014" y="8270"/>
                  <a:pt x="19993" y="8372"/>
                  <a:pt x="19993" y="8483"/>
                </a:cubicBezTo>
                <a:cubicBezTo>
                  <a:pt x="19993" y="8564"/>
                  <a:pt x="19975" y="8627"/>
                  <a:pt x="19968" y="8706"/>
                </a:cubicBezTo>
              </a:path>
              <a:path w="4367" h="1366">
                <a:moveTo>
                  <a:pt x="20513" y="8012"/>
                </a:moveTo>
                <a:cubicBezTo>
                  <a:pt x="20590" y="7996"/>
                  <a:pt x="20689" y="8007"/>
                  <a:pt x="20762" y="7987"/>
                </a:cubicBezTo>
                <a:cubicBezTo>
                  <a:pt x="20820" y="7971"/>
                  <a:pt x="20847" y="7962"/>
                  <a:pt x="20910" y="7962"/>
                </a:cubicBezTo>
              </a:path>
              <a:path w="4367" h="1366">
                <a:moveTo>
                  <a:pt x="20613" y="8285"/>
                </a:moveTo>
                <a:cubicBezTo>
                  <a:pt x="20683" y="8254"/>
                  <a:pt x="20763" y="8222"/>
                  <a:pt x="20836" y="8210"/>
                </a:cubicBezTo>
                <a:cubicBezTo>
                  <a:pt x="20853" y="8210"/>
                  <a:pt x="20869" y="8210"/>
                  <a:pt x="20886" y="8210"/>
                </a:cubicBezTo>
              </a:path>
              <a:path w="4367" h="1366">
                <a:moveTo>
                  <a:pt x="21431" y="7838"/>
                </a:moveTo>
                <a:cubicBezTo>
                  <a:pt x="21406" y="7901"/>
                  <a:pt x="21347" y="7971"/>
                  <a:pt x="21332" y="8037"/>
                </a:cubicBezTo>
                <a:cubicBezTo>
                  <a:pt x="21315" y="8112"/>
                  <a:pt x="21307" y="8180"/>
                  <a:pt x="21307" y="8260"/>
                </a:cubicBezTo>
                <a:cubicBezTo>
                  <a:pt x="21307" y="8334"/>
                  <a:pt x="21321" y="8371"/>
                  <a:pt x="21357" y="8434"/>
                </a:cubicBezTo>
                <a:cubicBezTo>
                  <a:pt x="21391" y="8494"/>
                  <a:pt x="21451" y="8523"/>
                  <a:pt x="21530" y="8508"/>
                </a:cubicBezTo>
                <a:cubicBezTo>
                  <a:pt x="21614" y="8492"/>
                  <a:pt x="21686" y="8466"/>
                  <a:pt x="21754" y="8409"/>
                </a:cubicBezTo>
                <a:cubicBezTo>
                  <a:pt x="21828" y="8347"/>
                  <a:pt x="21910" y="8331"/>
                  <a:pt x="21952" y="8235"/>
                </a:cubicBezTo>
                <a:cubicBezTo>
                  <a:pt x="21982" y="8167"/>
                  <a:pt x="22040" y="8063"/>
                  <a:pt x="22027" y="7987"/>
                </a:cubicBezTo>
                <a:cubicBezTo>
                  <a:pt x="22014" y="7911"/>
                  <a:pt x="21966" y="7833"/>
                  <a:pt x="21903" y="7789"/>
                </a:cubicBezTo>
                <a:cubicBezTo>
                  <a:pt x="21848" y="7750"/>
                  <a:pt x="21743" y="7700"/>
                  <a:pt x="21679" y="7689"/>
                </a:cubicBezTo>
                <a:cubicBezTo>
                  <a:pt x="21594" y="7675"/>
                  <a:pt x="21519" y="7665"/>
                  <a:pt x="21431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8"/>
          <p:cNvSpPr/>
          <p:nvPr/>
        </p:nvSpPr>
        <p:spPr>
          <a:xfrm>
            <a:off x="6518160" y="3160800"/>
            <a:ext cx="1411560" cy="1189080"/>
          </a:xfrm>
          <a:custGeom>
            <a:avLst/>
            <a:gdLst/>
            <a:ahLst/>
            <a:rect l="l" t="t" r="r" b="b"/>
            <a:pathLst>
              <a:path w="3921" h="3300">
                <a:moveTo>
                  <a:pt x="18976" y="9302"/>
                </a:moveTo>
                <a:cubicBezTo>
                  <a:pt x="19094" y="9302"/>
                  <a:pt x="19143" y="9282"/>
                  <a:pt x="19248" y="9252"/>
                </a:cubicBezTo>
                <a:cubicBezTo>
                  <a:pt x="19298" y="9252"/>
                  <a:pt x="19315" y="9252"/>
                  <a:pt x="19348" y="9252"/>
                </a:cubicBezTo>
              </a:path>
              <a:path w="3921" h="3300">
                <a:moveTo>
                  <a:pt x="19695" y="9079"/>
                </a:moveTo>
                <a:cubicBezTo>
                  <a:pt x="19695" y="9185"/>
                  <a:pt x="19687" y="9233"/>
                  <a:pt x="19645" y="9327"/>
                </a:cubicBezTo>
                <a:cubicBezTo>
                  <a:pt x="19604" y="9419"/>
                  <a:pt x="19618" y="9441"/>
                  <a:pt x="19720" y="9451"/>
                </a:cubicBezTo>
                <a:cubicBezTo>
                  <a:pt x="19787" y="9458"/>
                  <a:pt x="19815" y="9389"/>
                  <a:pt x="19893" y="9376"/>
                </a:cubicBezTo>
                <a:cubicBezTo>
                  <a:pt x="19996" y="9359"/>
                  <a:pt x="20017" y="9379"/>
                  <a:pt x="20117" y="9327"/>
                </a:cubicBezTo>
                <a:cubicBezTo>
                  <a:pt x="20133" y="9319"/>
                  <a:pt x="20150" y="9310"/>
                  <a:pt x="20166" y="9302"/>
                </a:cubicBezTo>
              </a:path>
              <a:path w="3921" h="3300">
                <a:moveTo>
                  <a:pt x="20166" y="8930"/>
                </a:moveTo>
                <a:cubicBezTo>
                  <a:pt x="20140" y="9032"/>
                  <a:pt x="20141" y="9121"/>
                  <a:pt x="20141" y="9227"/>
                </a:cubicBezTo>
                <a:cubicBezTo>
                  <a:pt x="20141" y="9323"/>
                  <a:pt x="20126" y="9412"/>
                  <a:pt x="20117" y="9500"/>
                </a:cubicBezTo>
                <a:cubicBezTo>
                  <a:pt x="20108" y="9592"/>
                  <a:pt x="20071" y="9656"/>
                  <a:pt x="20067" y="9748"/>
                </a:cubicBezTo>
                <a:cubicBezTo>
                  <a:pt x="20067" y="9773"/>
                  <a:pt x="20067" y="9798"/>
                  <a:pt x="20067" y="9823"/>
                </a:cubicBezTo>
              </a:path>
              <a:path w="3921" h="3300">
                <a:moveTo>
                  <a:pt x="20886" y="9401"/>
                </a:moveTo>
                <a:cubicBezTo>
                  <a:pt x="20985" y="9401"/>
                  <a:pt x="21014" y="9442"/>
                  <a:pt x="21109" y="9451"/>
                </a:cubicBezTo>
                <a:cubicBezTo>
                  <a:pt x="21158" y="9456"/>
                  <a:pt x="21209" y="9451"/>
                  <a:pt x="21258" y="9451"/>
                </a:cubicBezTo>
              </a:path>
              <a:path w="3921" h="3300">
                <a:moveTo>
                  <a:pt x="21580" y="9079"/>
                </a:moveTo>
                <a:cubicBezTo>
                  <a:pt x="21580" y="9153"/>
                  <a:pt x="21580" y="9228"/>
                  <a:pt x="21580" y="9302"/>
                </a:cubicBezTo>
                <a:cubicBezTo>
                  <a:pt x="21656" y="9313"/>
                  <a:pt x="21673" y="9307"/>
                  <a:pt x="21754" y="9302"/>
                </a:cubicBezTo>
                <a:cubicBezTo>
                  <a:pt x="21849" y="9297"/>
                  <a:pt x="21877" y="9316"/>
                  <a:pt x="21952" y="9252"/>
                </a:cubicBezTo>
                <a:cubicBezTo>
                  <a:pt x="21980" y="9224"/>
                  <a:pt x="21994" y="9215"/>
                  <a:pt x="22027" y="9227"/>
                </a:cubicBezTo>
              </a:path>
              <a:path w="3921" h="3300">
                <a:moveTo>
                  <a:pt x="22002" y="8806"/>
                </a:moveTo>
                <a:cubicBezTo>
                  <a:pt x="21977" y="8798"/>
                  <a:pt x="21952" y="8789"/>
                  <a:pt x="21927" y="8781"/>
                </a:cubicBezTo>
                <a:cubicBezTo>
                  <a:pt x="21890" y="8845"/>
                  <a:pt x="21881" y="8925"/>
                  <a:pt x="21878" y="9004"/>
                </a:cubicBezTo>
                <a:cubicBezTo>
                  <a:pt x="21871" y="9181"/>
                  <a:pt x="21915" y="9386"/>
                  <a:pt x="21853" y="9550"/>
                </a:cubicBezTo>
              </a:path>
              <a:path w="3921" h="3300">
                <a:moveTo>
                  <a:pt x="18876" y="10567"/>
                </a:moveTo>
                <a:cubicBezTo>
                  <a:pt x="18940" y="10630"/>
                  <a:pt x="18969" y="10696"/>
                  <a:pt x="19025" y="10765"/>
                </a:cubicBezTo>
                <a:cubicBezTo>
                  <a:pt x="19093" y="10849"/>
                  <a:pt x="19114" y="10934"/>
                  <a:pt x="19149" y="11038"/>
                </a:cubicBezTo>
                <a:cubicBezTo>
                  <a:pt x="19180" y="11132"/>
                  <a:pt x="19200" y="11219"/>
                  <a:pt x="19224" y="11311"/>
                </a:cubicBezTo>
                <a:cubicBezTo>
                  <a:pt x="19231" y="11337"/>
                  <a:pt x="19263" y="11477"/>
                  <a:pt x="19298" y="11485"/>
                </a:cubicBezTo>
                <a:cubicBezTo>
                  <a:pt x="19306" y="11477"/>
                  <a:pt x="19315" y="11468"/>
                  <a:pt x="19323" y="11460"/>
                </a:cubicBezTo>
              </a:path>
              <a:path w="3921" h="3300">
                <a:moveTo>
                  <a:pt x="19273" y="10418"/>
                </a:moveTo>
                <a:cubicBezTo>
                  <a:pt x="19213" y="10522"/>
                  <a:pt x="19177" y="10631"/>
                  <a:pt x="19124" y="10740"/>
                </a:cubicBezTo>
                <a:cubicBezTo>
                  <a:pt x="19039" y="10916"/>
                  <a:pt x="18966" y="11092"/>
                  <a:pt x="18876" y="11261"/>
                </a:cubicBezTo>
                <a:cubicBezTo>
                  <a:pt x="18828" y="11350"/>
                  <a:pt x="18780" y="11461"/>
                  <a:pt x="18752" y="11559"/>
                </a:cubicBezTo>
                <a:cubicBezTo>
                  <a:pt x="18752" y="11567"/>
                  <a:pt x="18752" y="11576"/>
                  <a:pt x="18752" y="11584"/>
                </a:cubicBezTo>
              </a:path>
              <a:path w="3921" h="3300">
                <a:moveTo>
                  <a:pt x="19372" y="10145"/>
                </a:moveTo>
                <a:cubicBezTo>
                  <a:pt x="19395" y="10135"/>
                  <a:pt x="19632" y="10016"/>
                  <a:pt x="19645" y="10120"/>
                </a:cubicBezTo>
                <a:cubicBezTo>
                  <a:pt x="19652" y="10175"/>
                  <a:pt x="19550" y="10306"/>
                  <a:pt x="19521" y="10344"/>
                </a:cubicBezTo>
                <a:cubicBezTo>
                  <a:pt x="19480" y="10398"/>
                  <a:pt x="19456" y="10428"/>
                  <a:pt x="19447" y="10492"/>
                </a:cubicBezTo>
                <a:cubicBezTo>
                  <a:pt x="19514" y="10532"/>
                  <a:pt x="19566" y="10501"/>
                  <a:pt x="19645" y="10492"/>
                </a:cubicBezTo>
              </a:path>
              <a:path w="3921" h="3300">
                <a:moveTo>
                  <a:pt x="19596" y="10765"/>
                </a:moveTo>
                <a:cubicBezTo>
                  <a:pt x="19660" y="10756"/>
                  <a:pt x="19698" y="10740"/>
                  <a:pt x="19769" y="10740"/>
                </a:cubicBezTo>
                <a:cubicBezTo>
                  <a:pt x="19811" y="10740"/>
                  <a:pt x="19819" y="10740"/>
                  <a:pt x="19844" y="10740"/>
                </a:cubicBezTo>
              </a:path>
              <a:path w="3921" h="3300">
                <a:moveTo>
                  <a:pt x="19645" y="10988"/>
                </a:moveTo>
                <a:cubicBezTo>
                  <a:pt x="19707" y="10966"/>
                  <a:pt x="19780" y="10929"/>
                  <a:pt x="19844" y="10914"/>
                </a:cubicBezTo>
                <a:cubicBezTo>
                  <a:pt x="19860" y="10914"/>
                  <a:pt x="19877" y="10914"/>
                  <a:pt x="19893" y="10914"/>
                </a:cubicBezTo>
              </a:path>
              <a:path w="3921" h="3300">
                <a:moveTo>
                  <a:pt x="20340" y="10716"/>
                </a:moveTo>
                <a:cubicBezTo>
                  <a:pt x="20423" y="10731"/>
                  <a:pt x="20480" y="10727"/>
                  <a:pt x="20563" y="10740"/>
                </a:cubicBezTo>
                <a:cubicBezTo>
                  <a:pt x="20605" y="10740"/>
                  <a:pt x="20613" y="10740"/>
                  <a:pt x="20638" y="10740"/>
                </a:cubicBezTo>
              </a:path>
              <a:path w="3921" h="3300">
                <a:moveTo>
                  <a:pt x="21109" y="10344"/>
                </a:moveTo>
                <a:cubicBezTo>
                  <a:pt x="21102" y="10409"/>
                  <a:pt x="21105" y="10450"/>
                  <a:pt x="21084" y="10517"/>
                </a:cubicBezTo>
                <a:cubicBezTo>
                  <a:pt x="21068" y="10567"/>
                  <a:pt x="21023" y="10715"/>
                  <a:pt x="21059" y="10765"/>
                </a:cubicBezTo>
                <a:cubicBezTo>
                  <a:pt x="21101" y="10823"/>
                  <a:pt x="21271" y="10766"/>
                  <a:pt x="21307" y="10740"/>
                </a:cubicBezTo>
                <a:cubicBezTo>
                  <a:pt x="21385" y="10662"/>
                  <a:pt x="21388" y="10629"/>
                  <a:pt x="21456" y="10641"/>
                </a:cubicBezTo>
              </a:path>
              <a:path w="3921" h="3300">
                <a:moveTo>
                  <a:pt x="21530" y="10145"/>
                </a:moveTo>
                <a:cubicBezTo>
                  <a:pt x="21485" y="10204"/>
                  <a:pt x="21415" y="10289"/>
                  <a:pt x="21406" y="10368"/>
                </a:cubicBezTo>
                <a:cubicBezTo>
                  <a:pt x="21392" y="10493"/>
                  <a:pt x="21361" y="10614"/>
                  <a:pt x="21357" y="10740"/>
                </a:cubicBezTo>
                <a:cubicBezTo>
                  <a:pt x="21353" y="10867"/>
                  <a:pt x="21336" y="10986"/>
                  <a:pt x="21332" y="11112"/>
                </a:cubicBezTo>
                <a:cubicBezTo>
                  <a:pt x="21332" y="11212"/>
                  <a:pt x="21332" y="11245"/>
                  <a:pt x="21332" y="11311"/>
                </a:cubicBezTo>
              </a:path>
              <a:path w="3921" h="3300">
                <a:moveTo>
                  <a:pt x="18107" y="10864"/>
                </a:moveTo>
                <a:cubicBezTo>
                  <a:pt x="18140" y="10922"/>
                  <a:pt x="18182" y="10974"/>
                  <a:pt x="18207" y="11038"/>
                </a:cubicBezTo>
                <a:cubicBezTo>
                  <a:pt x="18239" y="11121"/>
                  <a:pt x="18275" y="11203"/>
                  <a:pt x="18306" y="11286"/>
                </a:cubicBezTo>
                <a:cubicBezTo>
                  <a:pt x="18349" y="11401"/>
                  <a:pt x="18353" y="11537"/>
                  <a:pt x="18380" y="11658"/>
                </a:cubicBezTo>
                <a:cubicBezTo>
                  <a:pt x="18403" y="11762"/>
                  <a:pt x="18405" y="11850"/>
                  <a:pt x="18405" y="11956"/>
                </a:cubicBezTo>
                <a:cubicBezTo>
                  <a:pt x="18405" y="11972"/>
                  <a:pt x="18405" y="11989"/>
                  <a:pt x="18405" y="12005"/>
                </a:cubicBezTo>
              </a:path>
              <a:path w="3921" h="3300">
                <a:moveTo>
                  <a:pt x="18405" y="12080"/>
                </a:moveTo>
                <a:cubicBezTo>
                  <a:pt x="18401" y="11971"/>
                  <a:pt x="18359" y="11819"/>
                  <a:pt x="18380" y="11708"/>
                </a:cubicBezTo>
                <a:cubicBezTo>
                  <a:pt x="18402" y="11591"/>
                  <a:pt x="18405" y="11483"/>
                  <a:pt x="18405" y="11361"/>
                </a:cubicBezTo>
                <a:cubicBezTo>
                  <a:pt x="18405" y="11232"/>
                  <a:pt x="18418" y="11114"/>
                  <a:pt x="18430" y="10988"/>
                </a:cubicBezTo>
                <a:cubicBezTo>
                  <a:pt x="18441" y="10872"/>
                  <a:pt x="18433" y="10755"/>
                  <a:pt x="18455" y="10641"/>
                </a:cubicBezTo>
                <a:cubicBezTo>
                  <a:pt x="18472" y="10556"/>
                  <a:pt x="18519" y="10447"/>
                  <a:pt x="18554" y="10368"/>
                </a:cubicBezTo>
                <a:cubicBezTo>
                  <a:pt x="18616" y="10227"/>
                  <a:pt x="18653" y="10230"/>
                  <a:pt x="18777" y="10145"/>
                </a:cubicBezTo>
                <a:cubicBezTo>
                  <a:pt x="18864" y="10085"/>
                  <a:pt x="18953" y="10038"/>
                  <a:pt x="19050" y="9996"/>
                </a:cubicBezTo>
                <a:cubicBezTo>
                  <a:pt x="19178" y="9940"/>
                  <a:pt x="19298" y="9888"/>
                  <a:pt x="19422" y="9823"/>
                </a:cubicBezTo>
                <a:cubicBezTo>
                  <a:pt x="19527" y="9768"/>
                  <a:pt x="19677" y="9695"/>
                  <a:pt x="19794" y="9674"/>
                </a:cubicBezTo>
                <a:cubicBezTo>
                  <a:pt x="19892" y="9656"/>
                  <a:pt x="19964" y="9636"/>
                  <a:pt x="20067" y="9624"/>
                </a:cubicBezTo>
              </a:path>
              <a:path w="3921" h="3300">
                <a:moveTo>
                  <a:pt x="20340" y="10492"/>
                </a:moveTo>
                <a:cubicBezTo>
                  <a:pt x="20340" y="10567"/>
                  <a:pt x="20332" y="10645"/>
                  <a:pt x="20315" y="10716"/>
                </a:cubicBezTo>
                <a:cubicBezTo>
                  <a:pt x="20288" y="10832"/>
                  <a:pt x="20247" y="10947"/>
                  <a:pt x="20216" y="11063"/>
                </a:cubicBezTo>
              </a:path>
              <a:path w="3921" h="3300">
                <a:moveTo>
                  <a:pt x="20166" y="11658"/>
                </a:moveTo>
                <a:cubicBezTo>
                  <a:pt x="20166" y="11529"/>
                  <a:pt x="20180" y="11414"/>
                  <a:pt x="20191" y="11286"/>
                </a:cubicBezTo>
                <a:cubicBezTo>
                  <a:pt x="20200" y="11177"/>
                  <a:pt x="20204" y="11072"/>
                  <a:pt x="20216" y="10964"/>
                </a:cubicBezTo>
                <a:cubicBezTo>
                  <a:pt x="20233" y="10818"/>
                  <a:pt x="20239" y="10661"/>
                  <a:pt x="20265" y="10517"/>
                </a:cubicBezTo>
                <a:cubicBezTo>
                  <a:pt x="20281" y="10427"/>
                  <a:pt x="20323" y="10302"/>
                  <a:pt x="20365" y="10220"/>
                </a:cubicBezTo>
                <a:cubicBezTo>
                  <a:pt x="20393" y="10166"/>
                  <a:pt x="20459" y="10099"/>
                  <a:pt x="20513" y="10071"/>
                </a:cubicBezTo>
                <a:cubicBezTo>
                  <a:pt x="20565" y="10044"/>
                  <a:pt x="20649" y="9980"/>
                  <a:pt x="20712" y="9971"/>
                </a:cubicBezTo>
                <a:cubicBezTo>
                  <a:pt x="20812" y="9956"/>
                  <a:pt x="20889" y="9943"/>
                  <a:pt x="20985" y="9922"/>
                </a:cubicBezTo>
                <a:cubicBezTo>
                  <a:pt x="21105" y="9896"/>
                  <a:pt x="21217" y="9875"/>
                  <a:pt x="21332" y="9847"/>
                </a:cubicBezTo>
                <a:cubicBezTo>
                  <a:pt x="21418" y="9826"/>
                  <a:pt x="21491" y="9823"/>
                  <a:pt x="21580" y="9823"/>
                </a:cubicBezTo>
                <a:cubicBezTo>
                  <a:pt x="21638" y="9823"/>
                  <a:pt x="21646" y="9823"/>
                  <a:pt x="21679" y="9823"/>
                </a:cubicBezTo>
              </a:path>
              <a:path w="3921" h="3300">
                <a:moveTo>
                  <a:pt x="20216" y="9748"/>
                </a:moveTo>
                <a:cubicBezTo>
                  <a:pt x="20175" y="9789"/>
                  <a:pt x="20202" y="9895"/>
                  <a:pt x="20166" y="9971"/>
                </a:cubicBezTo>
                <a:cubicBezTo>
                  <a:pt x="20143" y="10019"/>
                  <a:pt x="20133" y="10060"/>
                  <a:pt x="20117" y="10120"/>
                </a:cubicBezTo>
              </a:path>
              <a:path w="3921" h="3300">
                <a:moveTo>
                  <a:pt x="19869" y="10071"/>
                </a:moveTo>
                <a:cubicBezTo>
                  <a:pt x="19966" y="10050"/>
                  <a:pt x="20042" y="10046"/>
                  <a:pt x="20141" y="10046"/>
                </a:cubicBezTo>
                <a:cubicBezTo>
                  <a:pt x="20158" y="10046"/>
                  <a:pt x="20174" y="10046"/>
                  <a:pt x="20191" y="10046"/>
                </a:cubicBezTo>
              </a:path>
              <a:path w="3921" h="3300">
                <a:moveTo>
                  <a:pt x="19943" y="10344"/>
                </a:moveTo>
                <a:cubicBezTo>
                  <a:pt x="20001" y="10344"/>
                  <a:pt x="20059" y="10344"/>
                  <a:pt x="20117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19"/>
          <p:cNvSpPr/>
          <p:nvPr/>
        </p:nvSpPr>
        <p:spPr>
          <a:xfrm>
            <a:off x="6831000" y="4367160"/>
            <a:ext cx="357120" cy="446040"/>
          </a:xfrm>
          <a:custGeom>
            <a:avLst/>
            <a:gdLst/>
            <a:ahLst/>
            <a:rect l="l" t="t" r="r" b="b"/>
            <a:pathLst>
              <a:path w="993" h="1242">
                <a:moveTo>
                  <a:pt x="19224" y="12502"/>
                </a:moveTo>
                <a:cubicBezTo>
                  <a:pt x="19257" y="12559"/>
                  <a:pt x="19269" y="12633"/>
                  <a:pt x="19298" y="12700"/>
                </a:cubicBezTo>
                <a:cubicBezTo>
                  <a:pt x="19338" y="12794"/>
                  <a:pt x="19344" y="12877"/>
                  <a:pt x="19372" y="12973"/>
                </a:cubicBezTo>
                <a:cubicBezTo>
                  <a:pt x="19394" y="13048"/>
                  <a:pt x="19416" y="13127"/>
                  <a:pt x="19447" y="13196"/>
                </a:cubicBezTo>
                <a:cubicBezTo>
                  <a:pt x="19476" y="13261"/>
                  <a:pt x="19471" y="13294"/>
                  <a:pt x="19521" y="13345"/>
                </a:cubicBezTo>
                <a:cubicBezTo>
                  <a:pt x="19529" y="13353"/>
                  <a:pt x="19538" y="13362"/>
                  <a:pt x="19546" y="13370"/>
                </a:cubicBezTo>
              </a:path>
              <a:path w="993" h="1242">
                <a:moveTo>
                  <a:pt x="19596" y="12129"/>
                </a:moveTo>
                <a:cubicBezTo>
                  <a:pt x="19517" y="12208"/>
                  <a:pt x="19475" y="12279"/>
                  <a:pt x="19422" y="12378"/>
                </a:cubicBezTo>
                <a:cubicBezTo>
                  <a:pt x="19347" y="12519"/>
                  <a:pt x="19273" y="12657"/>
                  <a:pt x="19199" y="12799"/>
                </a:cubicBezTo>
                <a:cubicBezTo>
                  <a:pt x="19114" y="12961"/>
                  <a:pt x="19053" y="13129"/>
                  <a:pt x="18976" y="13295"/>
                </a:cubicBezTo>
              </a:path>
              <a:path w="993" h="1242">
                <a:moveTo>
                  <a:pt x="19645" y="12675"/>
                </a:moveTo>
                <a:cubicBezTo>
                  <a:pt x="19756" y="12675"/>
                  <a:pt x="19866" y="12661"/>
                  <a:pt x="19968" y="12700"/>
                </a:cubicBezTo>
              </a:path>
              <a:path w="993" h="1242">
                <a:moveTo>
                  <a:pt x="19695" y="12898"/>
                </a:moveTo>
                <a:cubicBezTo>
                  <a:pt x="19760" y="12923"/>
                  <a:pt x="19794" y="12923"/>
                  <a:pt x="19844" y="12973"/>
                </a:cubicBezTo>
                <a:cubicBezTo>
                  <a:pt x="19866" y="12995"/>
                  <a:pt x="19871" y="13004"/>
                  <a:pt x="19893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20"/>
          <p:cNvSpPr/>
          <p:nvPr/>
        </p:nvSpPr>
        <p:spPr>
          <a:xfrm>
            <a:off x="7296120" y="4187880"/>
            <a:ext cx="642960" cy="581040"/>
          </a:xfrm>
          <a:custGeom>
            <a:avLst/>
            <a:gdLst/>
            <a:ahLst/>
            <a:rect l="l" t="t" r="r" b="b"/>
            <a:pathLst>
              <a:path w="1787" h="1614">
                <a:moveTo>
                  <a:pt x="20538" y="11857"/>
                </a:moveTo>
                <a:cubicBezTo>
                  <a:pt x="20538" y="11942"/>
                  <a:pt x="20533" y="12024"/>
                  <a:pt x="20513" y="12105"/>
                </a:cubicBezTo>
                <a:cubicBezTo>
                  <a:pt x="20493" y="12187"/>
                  <a:pt x="20477" y="12273"/>
                  <a:pt x="20464" y="12353"/>
                </a:cubicBezTo>
                <a:cubicBezTo>
                  <a:pt x="20464" y="12394"/>
                  <a:pt x="20464" y="12402"/>
                  <a:pt x="20464" y="12427"/>
                </a:cubicBezTo>
              </a:path>
              <a:path w="1787" h="1614">
                <a:moveTo>
                  <a:pt x="20265" y="12179"/>
                </a:moveTo>
                <a:cubicBezTo>
                  <a:pt x="20368" y="12153"/>
                  <a:pt x="20457" y="12133"/>
                  <a:pt x="20563" y="12129"/>
                </a:cubicBezTo>
                <a:cubicBezTo>
                  <a:pt x="20624" y="12126"/>
                  <a:pt x="20659" y="12152"/>
                  <a:pt x="20712" y="12179"/>
                </a:cubicBezTo>
              </a:path>
              <a:path w="1787" h="1614">
                <a:moveTo>
                  <a:pt x="20489" y="12750"/>
                </a:moveTo>
                <a:cubicBezTo>
                  <a:pt x="20570" y="12750"/>
                  <a:pt x="20643" y="12761"/>
                  <a:pt x="20712" y="12774"/>
                </a:cubicBezTo>
                <a:cubicBezTo>
                  <a:pt x="20757" y="12774"/>
                  <a:pt x="20770" y="12770"/>
                  <a:pt x="20786" y="12799"/>
                </a:cubicBezTo>
              </a:path>
              <a:path w="1787" h="1614">
                <a:moveTo>
                  <a:pt x="21084" y="12055"/>
                </a:moveTo>
                <a:cubicBezTo>
                  <a:pt x="21092" y="11998"/>
                  <a:pt x="21101" y="11934"/>
                  <a:pt x="21134" y="11881"/>
                </a:cubicBezTo>
                <a:cubicBezTo>
                  <a:pt x="21162" y="11836"/>
                  <a:pt x="21177" y="11804"/>
                  <a:pt x="21208" y="11757"/>
                </a:cubicBezTo>
                <a:cubicBezTo>
                  <a:pt x="21227" y="11727"/>
                  <a:pt x="21266" y="11645"/>
                  <a:pt x="21307" y="11633"/>
                </a:cubicBezTo>
                <a:cubicBezTo>
                  <a:pt x="21364" y="11617"/>
                  <a:pt x="21424" y="11633"/>
                  <a:pt x="21456" y="11683"/>
                </a:cubicBezTo>
                <a:cubicBezTo>
                  <a:pt x="21501" y="11752"/>
                  <a:pt x="21523" y="11849"/>
                  <a:pt x="21506" y="11931"/>
                </a:cubicBezTo>
                <a:cubicBezTo>
                  <a:pt x="21484" y="12035"/>
                  <a:pt x="21482" y="12153"/>
                  <a:pt x="21456" y="12254"/>
                </a:cubicBezTo>
                <a:cubicBezTo>
                  <a:pt x="21423" y="12381"/>
                  <a:pt x="21375" y="12503"/>
                  <a:pt x="21332" y="12626"/>
                </a:cubicBezTo>
                <a:cubicBezTo>
                  <a:pt x="21303" y="12710"/>
                  <a:pt x="21271" y="12794"/>
                  <a:pt x="21233" y="12874"/>
                </a:cubicBezTo>
                <a:cubicBezTo>
                  <a:pt x="21209" y="12923"/>
                  <a:pt x="21147" y="13022"/>
                  <a:pt x="21084" y="13022"/>
                </a:cubicBezTo>
                <a:cubicBezTo>
                  <a:pt x="20995" y="13022"/>
                  <a:pt x="21000" y="12904"/>
                  <a:pt x="21010" y="12849"/>
                </a:cubicBezTo>
                <a:cubicBezTo>
                  <a:pt x="21024" y="12773"/>
                  <a:pt x="21057" y="12727"/>
                  <a:pt x="21109" y="12675"/>
                </a:cubicBezTo>
                <a:cubicBezTo>
                  <a:pt x="21156" y="12628"/>
                  <a:pt x="21202" y="12614"/>
                  <a:pt x="21258" y="12675"/>
                </a:cubicBezTo>
                <a:cubicBezTo>
                  <a:pt x="21308" y="12729"/>
                  <a:pt x="21293" y="12902"/>
                  <a:pt x="21282" y="12973"/>
                </a:cubicBezTo>
                <a:cubicBezTo>
                  <a:pt x="21266" y="13078"/>
                  <a:pt x="21236" y="13149"/>
                  <a:pt x="21258" y="13246"/>
                </a:cubicBezTo>
                <a:cubicBezTo>
                  <a:pt x="21310" y="13178"/>
                  <a:pt x="21338" y="13097"/>
                  <a:pt x="21382" y="13022"/>
                </a:cubicBezTo>
              </a:path>
              <a:path w="1787" h="1614">
                <a:moveTo>
                  <a:pt x="21754" y="12303"/>
                </a:moveTo>
                <a:cubicBezTo>
                  <a:pt x="21726" y="12378"/>
                  <a:pt x="21714" y="12470"/>
                  <a:pt x="21704" y="12551"/>
                </a:cubicBezTo>
                <a:cubicBezTo>
                  <a:pt x="21692" y="12646"/>
                  <a:pt x="21693" y="12764"/>
                  <a:pt x="21729" y="12849"/>
                </a:cubicBezTo>
                <a:cubicBezTo>
                  <a:pt x="21766" y="12936"/>
                  <a:pt x="21816" y="12941"/>
                  <a:pt x="21903" y="12898"/>
                </a:cubicBezTo>
                <a:cubicBezTo>
                  <a:pt x="21958" y="12871"/>
                  <a:pt x="22028" y="12713"/>
                  <a:pt x="22051" y="12675"/>
                </a:cubicBezTo>
              </a:path>
              <a:path w="1787" h="1614">
                <a:moveTo>
                  <a:pt x="21903" y="11931"/>
                </a:moveTo>
                <a:cubicBezTo>
                  <a:pt x="21903" y="11873"/>
                  <a:pt x="21906" y="11853"/>
                  <a:pt x="21878" y="11807"/>
                </a:cubicBezTo>
              </a:path>
              <a:path w="1787" h="1614">
                <a:moveTo>
                  <a:pt x="21903" y="11931"/>
                </a:moveTo>
                <a:cubicBezTo>
                  <a:pt x="21903" y="11890"/>
                  <a:pt x="21903" y="11848"/>
                  <a:pt x="21903" y="11807"/>
                </a:cubicBezTo>
              </a:path>
              <a:path w="1787" h="1614">
                <a:moveTo>
                  <a:pt x="21903" y="11807"/>
                </a:moveTo>
                <a:cubicBezTo>
                  <a:pt x="21924" y="11763"/>
                  <a:pt x="21937" y="11752"/>
                  <a:pt x="21903" y="11733"/>
                </a:cubicBezTo>
                <a:cubicBezTo>
                  <a:pt x="21841" y="11742"/>
                  <a:pt x="21804" y="11762"/>
                  <a:pt x="21754" y="11807"/>
                </a:cubicBezTo>
                <a:cubicBezTo>
                  <a:pt x="21726" y="11835"/>
                  <a:pt x="21717" y="11848"/>
                  <a:pt x="21729" y="11881"/>
                </a:cubicBezTo>
                <a:cubicBezTo>
                  <a:pt x="21793" y="11850"/>
                  <a:pt x="21861" y="11810"/>
                  <a:pt x="21903" y="11757"/>
                </a:cubicBezTo>
                <a:cubicBezTo>
                  <a:pt x="21911" y="11741"/>
                  <a:pt x="21919" y="11724"/>
                  <a:pt x="21927" y="11708"/>
                </a:cubicBezTo>
                <a:cubicBezTo>
                  <a:pt x="21882" y="11662"/>
                  <a:pt x="21860" y="11636"/>
                  <a:pt x="21803" y="11683"/>
                </a:cubicBezTo>
                <a:cubicBezTo>
                  <a:pt x="21773" y="11707"/>
                  <a:pt x="21762" y="11724"/>
                  <a:pt x="21754" y="11757"/>
                </a:cubicBezTo>
              </a:path>
              <a:path w="1787" h="1614">
                <a:moveTo>
                  <a:pt x="21779" y="11807"/>
                </a:moveTo>
                <a:cubicBezTo>
                  <a:pt x="21787" y="11807"/>
                  <a:pt x="21795" y="11807"/>
                  <a:pt x="21803" y="11807"/>
                </a:cubicBezTo>
              </a:path>
              <a:path w="1787" h="1614">
                <a:moveTo>
                  <a:pt x="21779" y="11807"/>
                </a:moveTo>
                <a:cubicBezTo>
                  <a:pt x="21787" y="11807"/>
                  <a:pt x="21795" y="11807"/>
                  <a:pt x="21803" y="11807"/>
                </a:cubicBezTo>
              </a:path>
              <a:path w="1787" h="1614">
                <a:moveTo>
                  <a:pt x="21803" y="11807"/>
                </a:moveTo>
                <a:cubicBezTo>
                  <a:pt x="21845" y="11765"/>
                  <a:pt x="21852" y="11779"/>
                  <a:pt x="21828" y="11733"/>
                </a:cubicBezTo>
              </a:path>
              <a:path w="1787" h="1614">
                <a:moveTo>
                  <a:pt x="21803" y="11807"/>
                </a:moveTo>
                <a:cubicBezTo>
                  <a:pt x="21820" y="11807"/>
                  <a:pt x="21836" y="11807"/>
                  <a:pt x="21853" y="11807"/>
                </a:cubicBezTo>
              </a:path>
              <a:path w="1787" h="1614">
                <a:moveTo>
                  <a:pt x="21853" y="11807"/>
                </a:moveTo>
                <a:cubicBezTo>
                  <a:pt x="21877" y="11758"/>
                  <a:pt x="21853" y="11732"/>
                  <a:pt x="21803" y="11757"/>
                </a:cubicBezTo>
                <a:cubicBezTo>
                  <a:pt x="21760" y="11779"/>
                  <a:pt x="21748" y="11783"/>
                  <a:pt x="21729" y="11807"/>
                </a:cubicBezTo>
                <a:cubicBezTo>
                  <a:pt x="21729" y="11824"/>
                  <a:pt x="21729" y="11840"/>
                  <a:pt x="21729" y="11857"/>
                </a:cubicBezTo>
                <a:cubicBezTo>
                  <a:pt x="21776" y="11850"/>
                  <a:pt x="21843" y="11822"/>
                  <a:pt x="21878" y="11782"/>
                </a:cubicBezTo>
                <a:cubicBezTo>
                  <a:pt x="21920" y="11734"/>
                  <a:pt x="21920" y="11701"/>
                  <a:pt x="21903" y="11658"/>
                </a:cubicBezTo>
                <a:cubicBezTo>
                  <a:pt x="21857" y="11704"/>
                  <a:pt x="21818" y="11735"/>
                  <a:pt x="21779" y="11782"/>
                </a:cubicBezTo>
                <a:cubicBezTo>
                  <a:pt x="21744" y="11824"/>
                  <a:pt x="21760" y="11821"/>
                  <a:pt x="21803" y="118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21"/>
          <p:cNvSpPr/>
          <p:nvPr/>
        </p:nvSpPr>
        <p:spPr>
          <a:xfrm>
            <a:off x="6323040" y="4938840"/>
            <a:ext cx="1909800" cy="936360"/>
          </a:xfrm>
          <a:custGeom>
            <a:avLst/>
            <a:gdLst/>
            <a:ahLst/>
            <a:rect l="l" t="t" r="r" b="b"/>
            <a:pathLst>
              <a:path w="5309" h="2605">
                <a:moveTo>
                  <a:pt x="17934" y="14461"/>
                </a:moveTo>
                <a:cubicBezTo>
                  <a:pt x="17894" y="14496"/>
                  <a:pt x="17845" y="14522"/>
                  <a:pt x="17810" y="14560"/>
                </a:cubicBezTo>
                <a:cubicBezTo>
                  <a:pt x="17760" y="14615"/>
                  <a:pt x="17721" y="14693"/>
                  <a:pt x="17686" y="14759"/>
                </a:cubicBezTo>
                <a:cubicBezTo>
                  <a:pt x="17648" y="14830"/>
                  <a:pt x="17623" y="14905"/>
                  <a:pt x="17611" y="14982"/>
                </a:cubicBezTo>
                <a:cubicBezTo>
                  <a:pt x="17598" y="15067"/>
                  <a:pt x="17587" y="15143"/>
                  <a:pt x="17587" y="15230"/>
                </a:cubicBezTo>
                <a:cubicBezTo>
                  <a:pt x="17587" y="15345"/>
                  <a:pt x="17641" y="15462"/>
                  <a:pt x="17661" y="15577"/>
                </a:cubicBezTo>
                <a:cubicBezTo>
                  <a:pt x="17675" y="15656"/>
                  <a:pt x="17691" y="15720"/>
                  <a:pt x="17760" y="15776"/>
                </a:cubicBezTo>
                <a:cubicBezTo>
                  <a:pt x="17799" y="15808"/>
                  <a:pt x="17859" y="15862"/>
                  <a:pt x="17909" y="15875"/>
                </a:cubicBezTo>
                <a:cubicBezTo>
                  <a:pt x="17970" y="15891"/>
                  <a:pt x="18018" y="15897"/>
                  <a:pt x="18083" y="15875"/>
                </a:cubicBezTo>
                <a:cubicBezTo>
                  <a:pt x="18163" y="15848"/>
                  <a:pt x="18242" y="15805"/>
                  <a:pt x="18306" y="15751"/>
                </a:cubicBezTo>
                <a:cubicBezTo>
                  <a:pt x="18368" y="15699"/>
                  <a:pt x="18424" y="15603"/>
                  <a:pt x="18455" y="15528"/>
                </a:cubicBezTo>
                <a:cubicBezTo>
                  <a:pt x="18485" y="15456"/>
                  <a:pt x="18501" y="15357"/>
                  <a:pt x="18504" y="15280"/>
                </a:cubicBezTo>
                <a:cubicBezTo>
                  <a:pt x="18508" y="15190"/>
                  <a:pt x="18467" y="15120"/>
                  <a:pt x="18455" y="15032"/>
                </a:cubicBezTo>
                <a:cubicBezTo>
                  <a:pt x="18439" y="14919"/>
                  <a:pt x="18386" y="14859"/>
                  <a:pt x="18331" y="14759"/>
                </a:cubicBezTo>
                <a:cubicBezTo>
                  <a:pt x="18286" y="14678"/>
                  <a:pt x="18238" y="14651"/>
                  <a:pt x="18157" y="14610"/>
                </a:cubicBezTo>
                <a:cubicBezTo>
                  <a:pt x="18092" y="14577"/>
                  <a:pt x="18049" y="14558"/>
                  <a:pt x="17983" y="14536"/>
                </a:cubicBezTo>
                <a:cubicBezTo>
                  <a:pt x="17888" y="14504"/>
                  <a:pt x="17877" y="14524"/>
                  <a:pt x="17785" y="14560"/>
                </a:cubicBezTo>
                <a:cubicBezTo>
                  <a:pt x="17708" y="14590"/>
                  <a:pt x="17636" y="14622"/>
                  <a:pt x="17562" y="14660"/>
                </a:cubicBezTo>
              </a:path>
              <a:path w="5309" h="2605">
                <a:moveTo>
                  <a:pt x="18752" y="15503"/>
                </a:moveTo>
                <a:cubicBezTo>
                  <a:pt x="18743" y="15600"/>
                  <a:pt x="18712" y="15682"/>
                  <a:pt x="18678" y="15776"/>
                </a:cubicBezTo>
                <a:cubicBezTo>
                  <a:pt x="18626" y="15920"/>
                  <a:pt x="18551" y="16092"/>
                  <a:pt x="18529" y="16247"/>
                </a:cubicBezTo>
                <a:cubicBezTo>
                  <a:pt x="18529" y="16272"/>
                  <a:pt x="18529" y="16296"/>
                  <a:pt x="18529" y="16321"/>
                </a:cubicBezTo>
              </a:path>
              <a:path w="5309" h="2605">
                <a:moveTo>
                  <a:pt x="19075" y="14387"/>
                </a:moveTo>
                <a:cubicBezTo>
                  <a:pt x="19109" y="14269"/>
                  <a:pt x="19133" y="14255"/>
                  <a:pt x="19199" y="14163"/>
                </a:cubicBezTo>
                <a:cubicBezTo>
                  <a:pt x="19241" y="14105"/>
                  <a:pt x="19268" y="14057"/>
                  <a:pt x="19348" y="14039"/>
                </a:cubicBezTo>
                <a:cubicBezTo>
                  <a:pt x="19407" y="14026"/>
                  <a:pt x="19482" y="14002"/>
                  <a:pt x="19546" y="14015"/>
                </a:cubicBezTo>
                <a:cubicBezTo>
                  <a:pt x="19652" y="14037"/>
                  <a:pt x="19684" y="14103"/>
                  <a:pt x="19720" y="14188"/>
                </a:cubicBezTo>
                <a:cubicBezTo>
                  <a:pt x="19751" y="14262"/>
                  <a:pt x="19758" y="14354"/>
                  <a:pt x="19745" y="14436"/>
                </a:cubicBezTo>
                <a:cubicBezTo>
                  <a:pt x="19726" y="14556"/>
                  <a:pt x="19701" y="14666"/>
                  <a:pt x="19670" y="14784"/>
                </a:cubicBezTo>
                <a:cubicBezTo>
                  <a:pt x="19633" y="14926"/>
                  <a:pt x="19561" y="15049"/>
                  <a:pt x="19496" y="15180"/>
                </a:cubicBezTo>
                <a:cubicBezTo>
                  <a:pt x="19431" y="15310"/>
                  <a:pt x="19348" y="15429"/>
                  <a:pt x="19273" y="15553"/>
                </a:cubicBezTo>
                <a:cubicBezTo>
                  <a:pt x="19219" y="15641"/>
                  <a:pt x="19158" y="15737"/>
                  <a:pt x="19075" y="15801"/>
                </a:cubicBezTo>
                <a:cubicBezTo>
                  <a:pt x="19021" y="15843"/>
                  <a:pt x="18985" y="15872"/>
                  <a:pt x="18926" y="15825"/>
                </a:cubicBezTo>
                <a:cubicBezTo>
                  <a:pt x="18853" y="15766"/>
                  <a:pt x="18863" y="15636"/>
                  <a:pt x="18876" y="15553"/>
                </a:cubicBezTo>
                <a:cubicBezTo>
                  <a:pt x="18894" y="15440"/>
                  <a:pt x="18920" y="15379"/>
                  <a:pt x="18976" y="15280"/>
                </a:cubicBezTo>
                <a:cubicBezTo>
                  <a:pt x="19016" y="15209"/>
                  <a:pt x="19059" y="15151"/>
                  <a:pt x="19124" y="15106"/>
                </a:cubicBezTo>
                <a:cubicBezTo>
                  <a:pt x="19176" y="15071"/>
                  <a:pt x="19236" y="15019"/>
                  <a:pt x="19298" y="15081"/>
                </a:cubicBezTo>
                <a:cubicBezTo>
                  <a:pt x="19357" y="15140"/>
                  <a:pt x="19369" y="15200"/>
                  <a:pt x="19372" y="15280"/>
                </a:cubicBezTo>
                <a:cubicBezTo>
                  <a:pt x="19376" y="15393"/>
                  <a:pt x="19352" y="15491"/>
                  <a:pt x="19348" y="15602"/>
                </a:cubicBezTo>
                <a:cubicBezTo>
                  <a:pt x="19346" y="15668"/>
                  <a:pt x="19348" y="15735"/>
                  <a:pt x="19348" y="15801"/>
                </a:cubicBezTo>
              </a:path>
              <a:path w="5309" h="2605">
                <a:moveTo>
                  <a:pt x="20042" y="15007"/>
                </a:moveTo>
                <a:cubicBezTo>
                  <a:pt x="20005" y="15100"/>
                  <a:pt x="20015" y="15136"/>
                  <a:pt x="19993" y="15230"/>
                </a:cubicBezTo>
                <a:cubicBezTo>
                  <a:pt x="19971" y="15320"/>
                  <a:pt x="19947" y="15407"/>
                  <a:pt x="19943" y="15503"/>
                </a:cubicBezTo>
                <a:cubicBezTo>
                  <a:pt x="19939" y="15606"/>
                  <a:pt x="19922" y="15733"/>
                  <a:pt x="19968" y="15825"/>
                </a:cubicBezTo>
                <a:cubicBezTo>
                  <a:pt x="19996" y="15880"/>
                  <a:pt x="20048" y="15902"/>
                  <a:pt x="20092" y="15875"/>
                </a:cubicBezTo>
                <a:cubicBezTo>
                  <a:pt x="20170" y="15828"/>
                  <a:pt x="20178" y="15802"/>
                  <a:pt x="20216" y="15726"/>
                </a:cubicBezTo>
              </a:path>
              <a:path w="5309" h="2605">
                <a:moveTo>
                  <a:pt x="20216" y="14238"/>
                </a:moveTo>
                <a:cubicBezTo>
                  <a:pt x="20127" y="14274"/>
                  <a:pt x="20100" y="14292"/>
                  <a:pt x="20042" y="14362"/>
                </a:cubicBezTo>
                <a:cubicBezTo>
                  <a:pt x="20020" y="14388"/>
                  <a:pt x="19993" y="14412"/>
                  <a:pt x="19968" y="14436"/>
                </a:cubicBezTo>
                <a:cubicBezTo>
                  <a:pt x="20032" y="14405"/>
                  <a:pt x="20076" y="14371"/>
                  <a:pt x="20141" y="14362"/>
                </a:cubicBezTo>
              </a:path>
              <a:path w="5309" h="2605">
                <a:moveTo>
                  <a:pt x="20737" y="15478"/>
                </a:moveTo>
                <a:cubicBezTo>
                  <a:pt x="20709" y="15640"/>
                  <a:pt x="20690" y="15791"/>
                  <a:pt x="20662" y="15949"/>
                </a:cubicBezTo>
              </a:path>
              <a:path w="5309" h="2605">
                <a:moveTo>
                  <a:pt x="21010" y="14709"/>
                </a:moveTo>
                <a:cubicBezTo>
                  <a:pt x="21053" y="14682"/>
                  <a:pt x="21129" y="14669"/>
                  <a:pt x="21183" y="14660"/>
                </a:cubicBezTo>
                <a:cubicBezTo>
                  <a:pt x="21236" y="14651"/>
                  <a:pt x="21304" y="14660"/>
                  <a:pt x="21357" y="14660"/>
                </a:cubicBezTo>
              </a:path>
              <a:path w="5309" h="2605">
                <a:moveTo>
                  <a:pt x="21853" y="13915"/>
                </a:moveTo>
                <a:cubicBezTo>
                  <a:pt x="21906" y="13849"/>
                  <a:pt x="21947" y="13800"/>
                  <a:pt x="22027" y="13767"/>
                </a:cubicBezTo>
                <a:cubicBezTo>
                  <a:pt x="22091" y="13740"/>
                  <a:pt x="22122" y="13721"/>
                  <a:pt x="22200" y="13717"/>
                </a:cubicBezTo>
                <a:cubicBezTo>
                  <a:pt x="22291" y="13713"/>
                  <a:pt x="22334" y="13740"/>
                  <a:pt x="22374" y="13816"/>
                </a:cubicBezTo>
                <a:cubicBezTo>
                  <a:pt x="22402" y="13869"/>
                  <a:pt x="22416" y="13981"/>
                  <a:pt x="22423" y="14039"/>
                </a:cubicBezTo>
                <a:cubicBezTo>
                  <a:pt x="22433" y="14121"/>
                  <a:pt x="22412" y="14254"/>
                  <a:pt x="22399" y="14337"/>
                </a:cubicBezTo>
                <a:cubicBezTo>
                  <a:pt x="22362" y="14571"/>
                  <a:pt x="22285" y="14814"/>
                  <a:pt x="22200" y="15032"/>
                </a:cubicBezTo>
                <a:cubicBezTo>
                  <a:pt x="22165" y="15123"/>
                  <a:pt x="22143" y="15216"/>
                  <a:pt x="22101" y="15304"/>
                </a:cubicBezTo>
                <a:cubicBezTo>
                  <a:pt x="22077" y="15354"/>
                  <a:pt x="22048" y="15449"/>
                  <a:pt x="21977" y="15453"/>
                </a:cubicBezTo>
                <a:cubicBezTo>
                  <a:pt x="21930" y="15456"/>
                  <a:pt x="21856" y="15389"/>
                  <a:pt x="21828" y="15354"/>
                </a:cubicBezTo>
                <a:cubicBezTo>
                  <a:pt x="21773" y="15286"/>
                  <a:pt x="21779" y="15243"/>
                  <a:pt x="21779" y="15156"/>
                </a:cubicBezTo>
                <a:cubicBezTo>
                  <a:pt x="21779" y="15070"/>
                  <a:pt x="21800" y="15022"/>
                  <a:pt x="21853" y="14957"/>
                </a:cubicBezTo>
                <a:cubicBezTo>
                  <a:pt x="21886" y="14916"/>
                  <a:pt x="21921" y="14873"/>
                  <a:pt x="21977" y="14883"/>
                </a:cubicBezTo>
                <a:cubicBezTo>
                  <a:pt x="22064" y="14898"/>
                  <a:pt x="22091" y="14963"/>
                  <a:pt x="22126" y="15032"/>
                </a:cubicBezTo>
                <a:cubicBezTo>
                  <a:pt x="22168" y="15115"/>
                  <a:pt x="22151" y="15212"/>
                  <a:pt x="22151" y="15304"/>
                </a:cubicBezTo>
                <a:cubicBezTo>
                  <a:pt x="22151" y="15387"/>
                  <a:pt x="22142" y="15501"/>
                  <a:pt x="22175" y="15577"/>
                </a:cubicBezTo>
                <a:cubicBezTo>
                  <a:pt x="22183" y="15585"/>
                  <a:pt x="22192" y="15594"/>
                  <a:pt x="22200" y="15602"/>
                </a:cubicBezTo>
              </a:path>
              <a:path w="5309" h="2605">
                <a:moveTo>
                  <a:pt x="22647" y="14759"/>
                </a:moveTo>
                <a:cubicBezTo>
                  <a:pt x="22647" y="14951"/>
                  <a:pt x="22643" y="15145"/>
                  <a:pt x="22671" y="15329"/>
                </a:cubicBezTo>
                <a:cubicBezTo>
                  <a:pt x="22676" y="15365"/>
                  <a:pt x="22677" y="15533"/>
                  <a:pt x="22746" y="15528"/>
                </a:cubicBezTo>
                <a:cubicBezTo>
                  <a:pt x="22807" y="15524"/>
                  <a:pt x="22841" y="15470"/>
                  <a:pt x="22870" y="15429"/>
                </a:cubicBezTo>
              </a:path>
              <a:path w="5309" h="2605">
                <a:moveTo>
                  <a:pt x="22845" y="13940"/>
                </a:moveTo>
                <a:cubicBezTo>
                  <a:pt x="22822" y="13963"/>
                  <a:pt x="22814" y="13967"/>
                  <a:pt x="22820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22"/>
          <p:cNvSpPr/>
          <p:nvPr/>
        </p:nvSpPr>
        <p:spPr>
          <a:xfrm>
            <a:off x="1241280" y="4653000"/>
            <a:ext cx="2884680" cy="106200"/>
          </a:xfrm>
          <a:custGeom>
            <a:avLst/>
            <a:gdLst/>
            <a:ahLst/>
            <a:rect l="l" t="t" r="r" b="b"/>
            <a:pathLst>
              <a:path w="8013" h="299">
                <a:moveTo>
                  <a:pt x="11460" y="13221"/>
                </a:moveTo>
                <a:cubicBezTo>
                  <a:pt x="11358" y="13217"/>
                  <a:pt x="11285" y="13213"/>
                  <a:pt x="11187" y="13196"/>
                </a:cubicBezTo>
                <a:cubicBezTo>
                  <a:pt x="11100" y="13181"/>
                  <a:pt x="11001" y="13153"/>
                  <a:pt x="10914" y="13146"/>
                </a:cubicBezTo>
                <a:cubicBezTo>
                  <a:pt x="10804" y="13138"/>
                  <a:pt x="10700" y="13136"/>
                  <a:pt x="10592" y="13122"/>
                </a:cubicBezTo>
                <a:cubicBezTo>
                  <a:pt x="10466" y="13106"/>
                  <a:pt x="10348" y="13079"/>
                  <a:pt x="10220" y="13072"/>
                </a:cubicBezTo>
                <a:cubicBezTo>
                  <a:pt x="10048" y="13063"/>
                  <a:pt x="9868" y="13054"/>
                  <a:pt x="9699" y="13047"/>
                </a:cubicBezTo>
                <a:cubicBezTo>
                  <a:pt x="9352" y="13034"/>
                  <a:pt x="9001" y="13036"/>
                  <a:pt x="8657" y="13022"/>
                </a:cubicBezTo>
                <a:cubicBezTo>
                  <a:pt x="8491" y="13015"/>
                  <a:pt x="8326" y="13018"/>
                  <a:pt x="8161" y="12998"/>
                </a:cubicBezTo>
                <a:cubicBezTo>
                  <a:pt x="7986" y="12977"/>
                  <a:pt x="7817" y="12950"/>
                  <a:pt x="7640" y="12948"/>
                </a:cubicBezTo>
                <a:cubicBezTo>
                  <a:pt x="7455" y="12946"/>
                  <a:pt x="7277" y="12925"/>
                  <a:pt x="7094" y="12923"/>
                </a:cubicBezTo>
                <a:cubicBezTo>
                  <a:pt x="6605" y="12917"/>
                  <a:pt x="6116" y="12929"/>
                  <a:pt x="5631" y="12948"/>
                </a:cubicBezTo>
                <a:cubicBezTo>
                  <a:pt x="5425" y="12956"/>
                  <a:pt x="5215" y="12965"/>
                  <a:pt x="5011" y="12973"/>
                </a:cubicBezTo>
                <a:cubicBezTo>
                  <a:pt x="4566" y="12991"/>
                  <a:pt x="4110" y="12970"/>
                  <a:pt x="3671" y="12948"/>
                </a:cubicBezTo>
                <a:cubicBezTo>
                  <a:pt x="3588" y="12944"/>
                  <a:pt x="3556" y="12952"/>
                  <a:pt x="3473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3"/>
          <p:cNvSpPr/>
          <p:nvPr/>
        </p:nvSpPr>
        <p:spPr>
          <a:xfrm>
            <a:off x="750960" y="5724360"/>
            <a:ext cx="2151000" cy="857520"/>
          </a:xfrm>
          <a:custGeom>
            <a:avLst/>
            <a:gdLst/>
            <a:ahLst/>
            <a:rect l="l" t="t" r="r" b="b"/>
            <a:pathLst>
              <a:path w="5979" h="2382">
                <a:moveTo>
                  <a:pt x="7516" y="16123"/>
                </a:moveTo>
                <a:cubicBezTo>
                  <a:pt x="7452" y="16101"/>
                  <a:pt x="7412" y="16087"/>
                  <a:pt x="7342" y="16073"/>
                </a:cubicBezTo>
                <a:cubicBezTo>
                  <a:pt x="7249" y="16054"/>
                  <a:pt x="7162" y="16039"/>
                  <a:pt x="7069" y="16024"/>
                </a:cubicBezTo>
                <a:cubicBezTo>
                  <a:pt x="6961" y="16007"/>
                  <a:pt x="6855" y="15989"/>
                  <a:pt x="6747" y="15974"/>
                </a:cubicBezTo>
                <a:cubicBezTo>
                  <a:pt x="6613" y="15955"/>
                  <a:pt x="6487" y="15941"/>
                  <a:pt x="6350" y="15949"/>
                </a:cubicBezTo>
                <a:cubicBezTo>
                  <a:pt x="6209" y="15957"/>
                  <a:pt x="6069" y="15963"/>
                  <a:pt x="5928" y="15974"/>
                </a:cubicBezTo>
                <a:cubicBezTo>
                  <a:pt x="5777" y="15985"/>
                  <a:pt x="5632" y="16002"/>
                  <a:pt x="5482" y="16024"/>
                </a:cubicBezTo>
                <a:cubicBezTo>
                  <a:pt x="5332" y="16046"/>
                  <a:pt x="5185" y="16076"/>
                  <a:pt x="5035" y="16098"/>
                </a:cubicBezTo>
                <a:cubicBezTo>
                  <a:pt x="4811" y="16131"/>
                  <a:pt x="4589" y="16170"/>
                  <a:pt x="4366" y="16197"/>
                </a:cubicBezTo>
                <a:cubicBezTo>
                  <a:pt x="4225" y="16214"/>
                  <a:pt x="4085" y="16230"/>
                  <a:pt x="3944" y="16247"/>
                </a:cubicBezTo>
                <a:cubicBezTo>
                  <a:pt x="3810" y="16264"/>
                  <a:pt x="3682" y="16289"/>
                  <a:pt x="3547" y="16297"/>
                </a:cubicBezTo>
                <a:cubicBezTo>
                  <a:pt x="3426" y="16304"/>
                  <a:pt x="3316" y="16287"/>
                  <a:pt x="3200" y="16272"/>
                </a:cubicBezTo>
                <a:cubicBezTo>
                  <a:pt x="3093" y="16258"/>
                  <a:pt x="2984" y="16260"/>
                  <a:pt x="2877" y="16247"/>
                </a:cubicBezTo>
                <a:cubicBezTo>
                  <a:pt x="2796" y="16237"/>
                  <a:pt x="2717" y="16224"/>
                  <a:pt x="2629" y="16222"/>
                </a:cubicBezTo>
                <a:cubicBezTo>
                  <a:pt x="2571" y="16221"/>
                  <a:pt x="2500" y="16205"/>
                  <a:pt x="2431" y="16222"/>
                </a:cubicBezTo>
                <a:cubicBezTo>
                  <a:pt x="2369" y="16238"/>
                  <a:pt x="2310" y="16257"/>
                  <a:pt x="2257" y="16297"/>
                </a:cubicBezTo>
                <a:cubicBezTo>
                  <a:pt x="2215" y="16329"/>
                  <a:pt x="2183" y="16400"/>
                  <a:pt x="2158" y="16446"/>
                </a:cubicBezTo>
                <a:cubicBezTo>
                  <a:pt x="2128" y="16503"/>
                  <a:pt x="2094" y="16552"/>
                  <a:pt x="2084" y="16619"/>
                </a:cubicBezTo>
                <a:cubicBezTo>
                  <a:pt x="2061" y="16765"/>
                  <a:pt x="2088" y="16924"/>
                  <a:pt x="2108" y="17066"/>
                </a:cubicBezTo>
                <a:cubicBezTo>
                  <a:pt x="2118" y="17139"/>
                  <a:pt x="2123" y="17223"/>
                  <a:pt x="2158" y="17289"/>
                </a:cubicBezTo>
                <a:cubicBezTo>
                  <a:pt x="2182" y="17334"/>
                  <a:pt x="2221" y="17375"/>
                  <a:pt x="2257" y="17413"/>
                </a:cubicBezTo>
                <a:cubicBezTo>
                  <a:pt x="2334" y="17494"/>
                  <a:pt x="2411" y="17510"/>
                  <a:pt x="2505" y="17562"/>
                </a:cubicBezTo>
                <a:cubicBezTo>
                  <a:pt x="2546" y="17585"/>
                  <a:pt x="2585" y="17615"/>
                  <a:pt x="2629" y="17636"/>
                </a:cubicBezTo>
                <a:cubicBezTo>
                  <a:pt x="2681" y="17660"/>
                  <a:pt x="2746" y="17685"/>
                  <a:pt x="2803" y="17711"/>
                </a:cubicBezTo>
                <a:cubicBezTo>
                  <a:pt x="2866" y="17740"/>
                  <a:pt x="2943" y="17764"/>
                  <a:pt x="3001" y="17785"/>
                </a:cubicBezTo>
                <a:cubicBezTo>
                  <a:pt x="3077" y="17812"/>
                  <a:pt x="3169" y="17839"/>
                  <a:pt x="3249" y="17859"/>
                </a:cubicBezTo>
                <a:cubicBezTo>
                  <a:pt x="3324" y="17878"/>
                  <a:pt x="3395" y="17872"/>
                  <a:pt x="3473" y="17884"/>
                </a:cubicBezTo>
                <a:cubicBezTo>
                  <a:pt x="3541" y="17895"/>
                  <a:pt x="3602" y="17900"/>
                  <a:pt x="3671" y="17909"/>
                </a:cubicBezTo>
                <a:cubicBezTo>
                  <a:pt x="3761" y="17921"/>
                  <a:pt x="3854" y="17922"/>
                  <a:pt x="3944" y="17934"/>
                </a:cubicBezTo>
                <a:cubicBezTo>
                  <a:pt x="4023" y="17944"/>
                  <a:pt x="4108" y="17951"/>
                  <a:pt x="4192" y="17959"/>
                </a:cubicBezTo>
                <a:cubicBezTo>
                  <a:pt x="4256" y="17965"/>
                  <a:pt x="4349" y="17970"/>
                  <a:pt x="4415" y="17983"/>
                </a:cubicBezTo>
                <a:cubicBezTo>
                  <a:pt x="4490" y="17998"/>
                  <a:pt x="4561" y="18019"/>
                  <a:pt x="4638" y="18033"/>
                </a:cubicBezTo>
                <a:cubicBezTo>
                  <a:pt x="4728" y="18049"/>
                  <a:pt x="4819" y="18067"/>
                  <a:pt x="4911" y="18083"/>
                </a:cubicBezTo>
                <a:cubicBezTo>
                  <a:pt x="4989" y="18097"/>
                  <a:pt x="5053" y="18102"/>
                  <a:pt x="5135" y="18107"/>
                </a:cubicBezTo>
                <a:cubicBezTo>
                  <a:pt x="5238" y="18113"/>
                  <a:pt x="5332" y="18127"/>
                  <a:pt x="5432" y="18132"/>
                </a:cubicBezTo>
                <a:cubicBezTo>
                  <a:pt x="5568" y="18139"/>
                  <a:pt x="5696" y="18138"/>
                  <a:pt x="5829" y="18157"/>
                </a:cubicBezTo>
                <a:cubicBezTo>
                  <a:pt x="5952" y="18175"/>
                  <a:pt x="6079" y="18186"/>
                  <a:pt x="6201" y="18207"/>
                </a:cubicBezTo>
                <a:cubicBezTo>
                  <a:pt x="6330" y="18230"/>
                  <a:pt x="6469" y="18272"/>
                  <a:pt x="6598" y="18281"/>
                </a:cubicBezTo>
                <a:cubicBezTo>
                  <a:pt x="6752" y="18292"/>
                  <a:pt x="6919" y="18290"/>
                  <a:pt x="7069" y="18256"/>
                </a:cubicBezTo>
                <a:cubicBezTo>
                  <a:pt x="7230" y="18220"/>
                  <a:pt x="7410" y="18148"/>
                  <a:pt x="7541" y="18058"/>
                </a:cubicBezTo>
                <a:cubicBezTo>
                  <a:pt x="7616" y="18006"/>
                  <a:pt x="7707" y="17933"/>
                  <a:pt x="7764" y="17859"/>
                </a:cubicBezTo>
                <a:cubicBezTo>
                  <a:pt x="7819" y="17789"/>
                  <a:pt x="7871" y="17716"/>
                  <a:pt x="7913" y="17636"/>
                </a:cubicBezTo>
                <a:cubicBezTo>
                  <a:pt x="7956" y="17553"/>
                  <a:pt x="7987" y="17466"/>
                  <a:pt x="8012" y="17363"/>
                </a:cubicBezTo>
                <a:cubicBezTo>
                  <a:pt x="8037" y="17260"/>
                  <a:pt x="8024" y="17170"/>
                  <a:pt x="8037" y="17066"/>
                </a:cubicBezTo>
                <a:cubicBezTo>
                  <a:pt x="8051" y="16955"/>
                  <a:pt x="8054" y="16906"/>
                  <a:pt x="8037" y="16793"/>
                </a:cubicBezTo>
                <a:cubicBezTo>
                  <a:pt x="8024" y="16707"/>
                  <a:pt x="8013" y="16626"/>
                  <a:pt x="7987" y="16545"/>
                </a:cubicBezTo>
                <a:cubicBezTo>
                  <a:pt x="7963" y="16469"/>
                  <a:pt x="7930" y="16362"/>
                  <a:pt x="7888" y="16297"/>
                </a:cubicBezTo>
                <a:cubicBezTo>
                  <a:pt x="7870" y="16269"/>
                  <a:pt x="7794" y="16177"/>
                  <a:pt x="7764" y="16148"/>
                </a:cubicBezTo>
                <a:cubicBezTo>
                  <a:pt x="7735" y="16120"/>
                  <a:pt x="7652" y="16065"/>
                  <a:pt x="7615" y="16049"/>
                </a:cubicBezTo>
                <a:cubicBezTo>
                  <a:pt x="7528" y="16010"/>
                  <a:pt x="7434" y="16017"/>
                  <a:pt x="7342" y="15999"/>
                </a:cubicBezTo>
                <a:cubicBezTo>
                  <a:pt x="7254" y="15982"/>
                  <a:pt x="7160" y="15973"/>
                  <a:pt x="7069" y="15949"/>
                </a:cubicBezTo>
                <a:cubicBezTo>
                  <a:pt x="7020" y="15933"/>
                  <a:pt x="6970" y="15916"/>
                  <a:pt x="6921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4"/>
          <p:cNvSpPr/>
          <p:nvPr/>
        </p:nvSpPr>
        <p:spPr>
          <a:xfrm>
            <a:off x="6072120" y="4653000"/>
            <a:ext cx="2394000" cy="1258920"/>
          </a:xfrm>
          <a:custGeom>
            <a:avLst/>
            <a:gdLst/>
            <a:ahLst/>
            <a:rect l="l" t="t" r="r" b="b"/>
            <a:pathLst>
              <a:path w="6649" h="3499">
                <a:moveTo>
                  <a:pt x="23515" y="13271"/>
                </a:moveTo>
                <a:cubicBezTo>
                  <a:pt x="23473" y="13151"/>
                  <a:pt x="23527" y="13141"/>
                  <a:pt x="23440" y="13047"/>
                </a:cubicBezTo>
                <a:cubicBezTo>
                  <a:pt x="23392" y="12995"/>
                  <a:pt x="23341" y="13000"/>
                  <a:pt x="23292" y="12973"/>
                </a:cubicBezTo>
                <a:cubicBezTo>
                  <a:pt x="23224" y="12935"/>
                  <a:pt x="23144" y="12930"/>
                  <a:pt x="23068" y="12923"/>
                </a:cubicBezTo>
                <a:cubicBezTo>
                  <a:pt x="22790" y="12898"/>
                  <a:pt x="22499" y="12927"/>
                  <a:pt x="22225" y="12948"/>
                </a:cubicBezTo>
                <a:cubicBezTo>
                  <a:pt x="22076" y="12960"/>
                  <a:pt x="21927" y="12981"/>
                  <a:pt x="21779" y="12998"/>
                </a:cubicBezTo>
                <a:cubicBezTo>
                  <a:pt x="21634" y="13015"/>
                  <a:pt x="21500" y="13041"/>
                  <a:pt x="21357" y="13072"/>
                </a:cubicBezTo>
                <a:cubicBezTo>
                  <a:pt x="21097" y="13129"/>
                  <a:pt x="20844" y="13205"/>
                  <a:pt x="20588" y="13271"/>
                </a:cubicBezTo>
                <a:cubicBezTo>
                  <a:pt x="20430" y="13312"/>
                  <a:pt x="20273" y="13349"/>
                  <a:pt x="20117" y="13395"/>
                </a:cubicBezTo>
                <a:cubicBezTo>
                  <a:pt x="19962" y="13440"/>
                  <a:pt x="19806" y="13492"/>
                  <a:pt x="19645" y="13519"/>
                </a:cubicBezTo>
                <a:cubicBezTo>
                  <a:pt x="19503" y="13543"/>
                  <a:pt x="19344" y="13551"/>
                  <a:pt x="19199" y="13543"/>
                </a:cubicBezTo>
                <a:cubicBezTo>
                  <a:pt x="19080" y="13537"/>
                  <a:pt x="18967" y="13511"/>
                  <a:pt x="18852" y="13494"/>
                </a:cubicBezTo>
                <a:cubicBezTo>
                  <a:pt x="18750" y="13479"/>
                  <a:pt x="18630" y="13450"/>
                  <a:pt x="18529" y="13444"/>
                </a:cubicBezTo>
                <a:cubicBezTo>
                  <a:pt x="18415" y="13437"/>
                  <a:pt x="18263" y="13433"/>
                  <a:pt x="18157" y="13469"/>
                </a:cubicBezTo>
                <a:cubicBezTo>
                  <a:pt x="18037" y="13510"/>
                  <a:pt x="17938" y="13573"/>
                  <a:pt x="17835" y="13643"/>
                </a:cubicBezTo>
                <a:cubicBezTo>
                  <a:pt x="17713" y="13725"/>
                  <a:pt x="17646" y="13828"/>
                  <a:pt x="17562" y="13940"/>
                </a:cubicBezTo>
                <a:cubicBezTo>
                  <a:pt x="17471" y="14061"/>
                  <a:pt x="17390" y="14178"/>
                  <a:pt x="17314" y="14312"/>
                </a:cubicBezTo>
                <a:cubicBezTo>
                  <a:pt x="17172" y="14564"/>
                  <a:pt x="17076" y="14833"/>
                  <a:pt x="16991" y="15106"/>
                </a:cubicBezTo>
                <a:cubicBezTo>
                  <a:pt x="16945" y="15255"/>
                  <a:pt x="16905" y="15397"/>
                  <a:pt x="16892" y="15553"/>
                </a:cubicBezTo>
                <a:cubicBezTo>
                  <a:pt x="16882" y="15677"/>
                  <a:pt x="16873" y="15802"/>
                  <a:pt x="16867" y="15925"/>
                </a:cubicBezTo>
                <a:cubicBezTo>
                  <a:pt x="16862" y="16034"/>
                  <a:pt x="16878" y="16119"/>
                  <a:pt x="16892" y="16222"/>
                </a:cubicBezTo>
                <a:cubicBezTo>
                  <a:pt x="16900" y="16279"/>
                  <a:pt x="16897" y="16355"/>
                  <a:pt x="16942" y="16396"/>
                </a:cubicBezTo>
                <a:cubicBezTo>
                  <a:pt x="16988" y="16439"/>
                  <a:pt x="17101" y="16426"/>
                  <a:pt x="17165" y="16421"/>
                </a:cubicBezTo>
                <a:cubicBezTo>
                  <a:pt x="17262" y="16413"/>
                  <a:pt x="17362" y="16385"/>
                  <a:pt x="17462" y="16371"/>
                </a:cubicBezTo>
                <a:cubicBezTo>
                  <a:pt x="17535" y="16361"/>
                  <a:pt x="17613" y="16349"/>
                  <a:pt x="17686" y="16346"/>
                </a:cubicBezTo>
                <a:cubicBezTo>
                  <a:pt x="18031" y="16331"/>
                  <a:pt x="18363" y="16332"/>
                  <a:pt x="18703" y="16297"/>
                </a:cubicBezTo>
                <a:cubicBezTo>
                  <a:pt x="18900" y="16277"/>
                  <a:pt x="19102" y="16257"/>
                  <a:pt x="19298" y="16247"/>
                </a:cubicBezTo>
                <a:cubicBezTo>
                  <a:pt x="19474" y="16238"/>
                  <a:pt x="19645" y="16241"/>
                  <a:pt x="19819" y="16222"/>
                </a:cubicBezTo>
                <a:cubicBezTo>
                  <a:pt x="19959" y="16207"/>
                  <a:pt x="20101" y="16189"/>
                  <a:pt x="20241" y="16173"/>
                </a:cubicBezTo>
                <a:cubicBezTo>
                  <a:pt x="20538" y="16140"/>
                  <a:pt x="20817" y="16162"/>
                  <a:pt x="21109" y="16173"/>
                </a:cubicBezTo>
                <a:cubicBezTo>
                  <a:pt x="21268" y="16179"/>
                  <a:pt x="21400" y="16199"/>
                  <a:pt x="21555" y="16222"/>
                </a:cubicBezTo>
                <a:cubicBezTo>
                  <a:pt x="21728" y="16248"/>
                  <a:pt x="21905" y="16261"/>
                  <a:pt x="22076" y="16297"/>
                </a:cubicBezTo>
                <a:cubicBezTo>
                  <a:pt x="22193" y="16322"/>
                  <a:pt x="22305" y="16351"/>
                  <a:pt x="22423" y="16371"/>
                </a:cubicBezTo>
                <a:cubicBezTo>
                  <a:pt x="22518" y="16387"/>
                  <a:pt x="22600" y="16414"/>
                  <a:pt x="22696" y="16421"/>
                </a:cubicBezTo>
                <a:cubicBezTo>
                  <a:pt x="22777" y="16427"/>
                  <a:pt x="22853" y="16424"/>
                  <a:pt x="22920" y="16396"/>
                </a:cubicBezTo>
                <a:cubicBezTo>
                  <a:pt x="23009" y="16359"/>
                  <a:pt x="23010" y="16314"/>
                  <a:pt x="23044" y="16247"/>
                </a:cubicBezTo>
                <a:cubicBezTo>
                  <a:pt x="23087" y="16160"/>
                  <a:pt x="23101" y="16069"/>
                  <a:pt x="23118" y="15974"/>
                </a:cubicBezTo>
                <a:cubicBezTo>
                  <a:pt x="23143" y="15834"/>
                  <a:pt x="23160" y="15694"/>
                  <a:pt x="23168" y="15553"/>
                </a:cubicBezTo>
                <a:cubicBezTo>
                  <a:pt x="23178" y="15370"/>
                  <a:pt x="23176" y="15189"/>
                  <a:pt x="23192" y="15007"/>
                </a:cubicBezTo>
                <a:cubicBezTo>
                  <a:pt x="23210" y="14807"/>
                  <a:pt x="23243" y="14612"/>
                  <a:pt x="23267" y="14412"/>
                </a:cubicBezTo>
                <a:cubicBezTo>
                  <a:pt x="23283" y="14275"/>
                  <a:pt x="23308" y="14127"/>
                  <a:pt x="23316" y="13990"/>
                </a:cubicBezTo>
                <a:cubicBezTo>
                  <a:pt x="23323" y="13864"/>
                  <a:pt x="23315" y="13736"/>
                  <a:pt x="23292" y="13618"/>
                </a:cubicBezTo>
                <a:cubicBezTo>
                  <a:pt x="23277" y="13541"/>
                  <a:pt x="23224" y="13438"/>
                  <a:pt x="23217" y="13370"/>
                </a:cubicBezTo>
                <a:cubicBezTo>
                  <a:pt x="23225" y="13345"/>
                  <a:pt x="23234" y="13320"/>
                  <a:pt x="23242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en a function is difficult to solve, use the “root test”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oot T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9" name="Object 13"/>
          <p:cNvGraphicFramePr/>
          <p:nvPr/>
        </p:nvGraphicFramePr>
        <p:xfrm>
          <a:off x="1219320" y="2514600"/>
          <a:ext cx="66294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294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nd all zeros o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11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39x + 29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Ink 5"/>
          <p:cNvSpPr/>
          <p:nvPr/>
        </p:nvSpPr>
        <p:spPr>
          <a:xfrm>
            <a:off x="509760" y="2384280"/>
            <a:ext cx="990360" cy="509760"/>
          </a:xfrm>
          <a:custGeom>
            <a:avLst/>
            <a:gdLst/>
            <a:ahLst/>
            <a:rect l="l" t="t" r="r" b="b"/>
            <a:pathLst>
              <a:path w="2754" h="1415">
                <a:moveTo>
                  <a:pt x="1414" y="7268"/>
                </a:moveTo>
                <a:cubicBezTo>
                  <a:pt x="1645" y="7268"/>
                  <a:pt x="1877" y="7268"/>
                  <a:pt x="2108" y="7268"/>
                </a:cubicBezTo>
              </a:path>
              <a:path w="2754" h="1415">
                <a:moveTo>
                  <a:pt x="2381" y="6821"/>
                </a:moveTo>
                <a:cubicBezTo>
                  <a:pt x="2381" y="6952"/>
                  <a:pt x="2388" y="7067"/>
                  <a:pt x="2406" y="7193"/>
                </a:cubicBezTo>
                <a:cubicBezTo>
                  <a:pt x="2430" y="7359"/>
                  <a:pt x="2406" y="7546"/>
                  <a:pt x="2406" y="7714"/>
                </a:cubicBezTo>
              </a:path>
              <a:path w="2754" h="1415">
                <a:moveTo>
                  <a:pt x="2853" y="6623"/>
                </a:moveTo>
                <a:cubicBezTo>
                  <a:pt x="2853" y="6768"/>
                  <a:pt x="2857" y="6904"/>
                  <a:pt x="2877" y="7045"/>
                </a:cubicBezTo>
                <a:cubicBezTo>
                  <a:pt x="2888" y="7125"/>
                  <a:pt x="2899" y="7213"/>
                  <a:pt x="2902" y="7293"/>
                </a:cubicBezTo>
                <a:cubicBezTo>
                  <a:pt x="2906" y="7396"/>
                  <a:pt x="2938" y="7489"/>
                  <a:pt x="2952" y="7590"/>
                </a:cubicBezTo>
                <a:cubicBezTo>
                  <a:pt x="2962" y="7666"/>
                  <a:pt x="2977" y="7735"/>
                  <a:pt x="2977" y="7813"/>
                </a:cubicBezTo>
                <a:cubicBezTo>
                  <a:pt x="2977" y="7845"/>
                  <a:pt x="3032" y="7960"/>
                  <a:pt x="3001" y="7987"/>
                </a:cubicBezTo>
                <a:cubicBezTo>
                  <a:pt x="2943" y="8037"/>
                  <a:pt x="2874" y="7993"/>
                  <a:pt x="2803" y="8012"/>
                </a:cubicBezTo>
                <a:cubicBezTo>
                  <a:pt x="2718" y="8035"/>
                  <a:pt x="2648" y="8037"/>
                  <a:pt x="2555" y="8037"/>
                </a:cubicBezTo>
                <a:cubicBezTo>
                  <a:pt x="2256" y="8037"/>
                  <a:pt x="1845" y="8107"/>
                  <a:pt x="1563" y="8012"/>
                </a:cubicBezTo>
              </a:path>
              <a:path w="2754" h="1415">
                <a:moveTo>
                  <a:pt x="4142" y="6821"/>
                </a:moveTo>
                <a:cubicBezTo>
                  <a:pt x="4132" y="6893"/>
                  <a:pt x="4118" y="6938"/>
                  <a:pt x="4118" y="7020"/>
                </a:cubicBezTo>
                <a:cubicBezTo>
                  <a:pt x="4118" y="7120"/>
                  <a:pt x="4142" y="7208"/>
                  <a:pt x="4142" y="7317"/>
                </a:cubicBezTo>
                <a:cubicBezTo>
                  <a:pt x="4142" y="7411"/>
                  <a:pt x="4167" y="7492"/>
                  <a:pt x="4167" y="7590"/>
                </a:cubicBezTo>
                <a:cubicBezTo>
                  <a:pt x="4167" y="7651"/>
                  <a:pt x="4167" y="7866"/>
                  <a:pt x="4167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6"/>
          <p:cNvSpPr/>
          <p:nvPr/>
        </p:nvSpPr>
        <p:spPr>
          <a:xfrm>
            <a:off x="1697040" y="1473120"/>
            <a:ext cx="1303200" cy="500040"/>
          </a:xfrm>
          <a:custGeom>
            <a:avLst/>
            <a:gdLst/>
            <a:ahLst/>
            <a:rect l="l" t="t" r="r" b="b"/>
            <a:pathLst>
              <a:path w="3622" h="1390">
                <a:moveTo>
                  <a:pt x="4713" y="5482"/>
                </a:moveTo>
                <a:cubicBezTo>
                  <a:pt x="4771" y="5469"/>
                  <a:pt x="4821" y="5448"/>
                  <a:pt x="4887" y="5457"/>
                </a:cubicBezTo>
                <a:cubicBezTo>
                  <a:pt x="4942" y="5464"/>
                  <a:pt x="5015" y="5480"/>
                  <a:pt x="5085" y="5482"/>
                </a:cubicBezTo>
                <a:cubicBezTo>
                  <a:pt x="5189" y="5485"/>
                  <a:pt x="5285" y="5463"/>
                  <a:pt x="5383" y="5457"/>
                </a:cubicBezTo>
                <a:cubicBezTo>
                  <a:pt x="5516" y="5449"/>
                  <a:pt x="5653" y="5443"/>
                  <a:pt x="5779" y="5432"/>
                </a:cubicBezTo>
                <a:cubicBezTo>
                  <a:pt x="5926" y="5419"/>
                  <a:pt x="6085" y="5418"/>
                  <a:pt x="6226" y="5407"/>
                </a:cubicBezTo>
                <a:cubicBezTo>
                  <a:pt x="6382" y="5395"/>
                  <a:pt x="6547" y="5395"/>
                  <a:pt x="6697" y="5383"/>
                </a:cubicBezTo>
                <a:cubicBezTo>
                  <a:pt x="6831" y="5372"/>
                  <a:pt x="6963" y="5373"/>
                  <a:pt x="7094" y="5358"/>
                </a:cubicBezTo>
                <a:cubicBezTo>
                  <a:pt x="7369" y="5327"/>
                  <a:pt x="7668" y="5353"/>
                  <a:pt x="7938" y="5333"/>
                </a:cubicBezTo>
                <a:cubicBezTo>
                  <a:pt x="8068" y="5323"/>
                  <a:pt x="8203" y="5333"/>
                  <a:pt x="8334" y="5333"/>
                </a:cubicBezTo>
              </a:path>
              <a:path w="3622" h="1390">
                <a:moveTo>
                  <a:pt x="5556" y="4217"/>
                </a:moveTo>
                <a:cubicBezTo>
                  <a:pt x="5556" y="4297"/>
                  <a:pt x="5531" y="4505"/>
                  <a:pt x="5581" y="4490"/>
                </a:cubicBezTo>
              </a:path>
              <a:path w="3622" h="1390">
                <a:moveTo>
                  <a:pt x="5358" y="4316"/>
                </a:moveTo>
                <a:cubicBezTo>
                  <a:pt x="5424" y="4356"/>
                  <a:pt x="5435" y="4320"/>
                  <a:pt x="5507" y="4316"/>
                </a:cubicBezTo>
                <a:cubicBezTo>
                  <a:pt x="5614" y="4310"/>
                  <a:pt x="5792" y="4289"/>
                  <a:pt x="5879" y="4341"/>
                </a:cubicBezTo>
              </a:path>
              <a:path w="3622" h="1390">
                <a:moveTo>
                  <a:pt x="5358" y="4787"/>
                </a:moveTo>
                <a:cubicBezTo>
                  <a:pt x="5419" y="4787"/>
                  <a:pt x="5457" y="4787"/>
                  <a:pt x="5507" y="4812"/>
                </a:cubicBezTo>
                <a:cubicBezTo>
                  <a:pt x="5561" y="4779"/>
                  <a:pt x="5612" y="4787"/>
                  <a:pt x="5680" y="4787"/>
                </a:cubicBezTo>
              </a:path>
              <a:path w="3622" h="1390">
                <a:moveTo>
                  <a:pt x="6152" y="4862"/>
                </a:moveTo>
                <a:cubicBezTo>
                  <a:pt x="6128" y="4933"/>
                  <a:pt x="6105" y="5009"/>
                  <a:pt x="6102" y="5085"/>
                </a:cubicBezTo>
                <a:cubicBezTo>
                  <a:pt x="6099" y="5151"/>
                  <a:pt x="6102" y="5217"/>
                  <a:pt x="6102" y="5283"/>
                </a:cubicBezTo>
              </a:path>
              <a:path w="3622" h="1390">
                <a:moveTo>
                  <a:pt x="6077" y="4192"/>
                </a:moveTo>
                <a:cubicBezTo>
                  <a:pt x="6069" y="4184"/>
                  <a:pt x="6060" y="4175"/>
                  <a:pt x="6052" y="4167"/>
                </a:cubicBezTo>
              </a:path>
              <a:path w="3622" h="1390">
                <a:moveTo>
                  <a:pt x="6077" y="4192"/>
                </a:moveTo>
                <a:cubicBezTo>
                  <a:pt x="6052" y="4200"/>
                  <a:pt x="6028" y="4209"/>
                  <a:pt x="6003" y="4217"/>
                </a:cubicBezTo>
              </a:path>
              <a:path w="3622" h="1390">
                <a:moveTo>
                  <a:pt x="6003" y="4217"/>
                </a:moveTo>
                <a:cubicBezTo>
                  <a:pt x="6003" y="4322"/>
                  <a:pt x="5991" y="4416"/>
                  <a:pt x="5978" y="4514"/>
                </a:cubicBezTo>
                <a:cubicBezTo>
                  <a:pt x="5968" y="4593"/>
                  <a:pt x="5978" y="4838"/>
                  <a:pt x="5978" y="4837"/>
                </a:cubicBezTo>
              </a:path>
              <a:path w="3622" h="1390">
                <a:moveTo>
                  <a:pt x="6796" y="4093"/>
                </a:moveTo>
                <a:cubicBezTo>
                  <a:pt x="6814" y="4192"/>
                  <a:pt x="6821" y="4268"/>
                  <a:pt x="6821" y="4366"/>
                </a:cubicBezTo>
                <a:cubicBezTo>
                  <a:pt x="6821" y="4407"/>
                  <a:pt x="6821" y="4415"/>
                  <a:pt x="6821" y="4440"/>
                </a:cubicBezTo>
              </a:path>
              <a:path w="3622" h="1390">
                <a:moveTo>
                  <a:pt x="6672" y="4341"/>
                </a:moveTo>
                <a:cubicBezTo>
                  <a:pt x="6755" y="4341"/>
                  <a:pt x="6838" y="4341"/>
                  <a:pt x="6921" y="4341"/>
                </a:cubicBezTo>
              </a:path>
              <a:path w="3622" h="1390">
                <a:moveTo>
                  <a:pt x="6672" y="4738"/>
                </a:moveTo>
                <a:cubicBezTo>
                  <a:pt x="6798" y="4757"/>
                  <a:pt x="6776" y="4733"/>
                  <a:pt x="6896" y="4713"/>
                </a:cubicBezTo>
              </a:path>
              <a:path w="3622" h="1390">
                <a:moveTo>
                  <a:pt x="7169" y="4266"/>
                </a:moveTo>
                <a:cubicBezTo>
                  <a:pt x="7233" y="4220"/>
                  <a:pt x="7323" y="4130"/>
                  <a:pt x="7417" y="4167"/>
                </a:cubicBezTo>
                <a:cubicBezTo>
                  <a:pt x="7519" y="4207"/>
                  <a:pt x="7494" y="4313"/>
                  <a:pt x="7466" y="4390"/>
                </a:cubicBezTo>
                <a:cubicBezTo>
                  <a:pt x="7436" y="4472"/>
                  <a:pt x="7389" y="4506"/>
                  <a:pt x="7342" y="4564"/>
                </a:cubicBezTo>
                <a:cubicBezTo>
                  <a:pt x="7305" y="4611"/>
                  <a:pt x="7271" y="4685"/>
                  <a:pt x="7243" y="4738"/>
                </a:cubicBezTo>
                <a:cubicBezTo>
                  <a:pt x="7214" y="4793"/>
                  <a:pt x="7191" y="4905"/>
                  <a:pt x="7293" y="4887"/>
                </a:cubicBezTo>
                <a:cubicBezTo>
                  <a:pt x="7348" y="4877"/>
                  <a:pt x="7414" y="4835"/>
                  <a:pt x="7466" y="4812"/>
                </a:cubicBezTo>
              </a:path>
              <a:path w="3622" h="1390">
                <a:moveTo>
                  <a:pt x="7913" y="4415"/>
                </a:moveTo>
                <a:cubicBezTo>
                  <a:pt x="7963" y="4314"/>
                  <a:pt x="8017" y="4252"/>
                  <a:pt x="7962" y="4142"/>
                </a:cubicBezTo>
                <a:cubicBezTo>
                  <a:pt x="7925" y="4067"/>
                  <a:pt x="7850" y="4095"/>
                  <a:pt x="7789" y="4118"/>
                </a:cubicBezTo>
                <a:cubicBezTo>
                  <a:pt x="7725" y="4142"/>
                  <a:pt x="7695" y="4208"/>
                  <a:pt x="7665" y="4266"/>
                </a:cubicBezTo>
                <a:cubicBezTo>
                  <a:pt x="7627" y="4338"/>
                  <a:pt x="7641" y="4369"/>
                  <a:pt x="7665" y="4440"/>
                </a:cubicBezTo>
                <a:cubicBezTo>
                  <a:pt x="7740" y="4459"/>
                  <a:pt x="7775" y="4448"/>
                  <a:pt x="7838" y="4390"/>
                </a:cubicBezTo>
                <a:cubicBezTo>
                  <a:pt x="7887" y="4345"/>
                  <a:pt x="7906" y="4322"/>
                  <a:pt x="7938" y="4266"/>
                </a:cubicBezTo>
                <a:cubicBezTo>
                  <a:pt x="7938" y="4348"/>
                  <a:pt x="7917" y="4409"/>
                  <a:pt x="7913" y="4490"/>
                </a:cubicBezTo>
                <a:cubicBezTo>
                  <a:pt x="7908" y="4593"/>
                  <a:pt x="7939" y="4727"/>
                  <a:pt x="7888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7"/>
          <p:cNvSpPr/>
          <p:nvPr/>
        </p:nvSpPr>
        <p:spPr>
          <a:xfrm>
            <a:off x="1384200" y="2938320"/>
            <a:ext cx="223920" cy="874800"/>
          </a:xfrm>
          <a:custGeom>
            <a:avLst/>
            <a:gdLst/>
            <a:ahLst/>
            <a:rect l="l" t="t" r="r" b="b"/>
            <a:pathLst>
              <a:path w="621" h="2432">
                <a:moveTo>
                  <a:pt x="4167" y="8161"/>
                </a:moveTo>
                <a:cubicBezTo>
                  <a:pt x="4186" y="8209"/>
                  <a:pt x="4167" y="8266"/>
                  <a:pt x="4167" y="8334"/>
                </a:cubicBezTo>
                <a:cubicBezTo>
                  <a:pt x="4167" y="8557"/>
                  <a:pt x="4167" y="8781"/>
                  <a:pt x="4167" y="9004"/>
                </a:cubicBezTo>
              </a:path>
              <a:path w="621" h="2432">
                <a:moveTo>
                  <a:pt x="3845" y="8781"/>
                </a:moveTo>
                <a:cubicBezTo>
                  <a:pt x="3893" y="8793"/>
                  <a:pt x="3917" y="8836"/>
                  <a:pt x="3944" y="8880"/>
                </a:cubicBezTo>
                <a:cubicBezTo>
                  <a:pt x="3962" y="8910"/>
                  <a:pt x="4011" y="8991"/>
                  <a:pt x="4018" y="9004"/>
                </a:cubicBezTo>
                <a:cubicBezTo>
                  <a:pt x="4042" y="9050"/>
                  <a:pt x="4072" y="9117"/>
                  <a:pt x="4118" y="9153"/>
                </a:cubicBezTo>
                <a:cubicBezTo>
                  <a:pt x="4173" y="9196"/>
                  <a:pt x="4219" y="9112"/>
                  <a:pt x="4242" y="9079"/>
                </a:cubicBezTo>
                <a:cubicBezTo>
                  <a:pt x="4290" y="9010"/>
                  <a:pt x="4313" y="8972"/>
                  <a:pt x="4366" y="8930"/>
                </a:cubicBezTo>
                <a:cubicBezTo>
                  <a:pt x="4415" y="8891"/>
                  <a:pt x="4413" y="8868"/>
                  <a:pt x="4465" y="8855"/>
                </a:cubicBezTo>
              </a:path>
              <a:path w="621" h="2432">
                <a:moveTo>
                  <a:pt x="4217" y="9451"/>
                </a:moveTo>
                <a:cubicBezTo>
                  <a:pt x="4198" y="9501"/>
                  <a:pt x="4174" y="9579"/>
                  <a:pt x="4167" y="9624"/>
                </a:cubicBezTo>
                <a:cubicBezTo>
                  <a:pt x="4154" y="9711"/>
                  <a:pt x="4152" y="9811"/>
                  <a:pt x="4142" y="9897"/>
                </a:cubicBezTo>
                <a:cubicBezTo>
                  <a:pt x="4133" y="9974"/>
                  <a:pt x="4121" y="10044"/>
                  <a:pt x="4118" y="10120"/>
                </a:cubicBezTo>
                <a:cubicBezTo>
                  <a:pt x="4113" y="10242"/>
                  <a:pt x="4160" y="10492"/>
                  <a:pt x="4142" y="10567"/>
                </a:cubicBezTo>
                <a:cubicBezTo>
                  <a:pt x="4134" y="10575"/>
                  <a:pt x="4126" y="10584"/>
                  <a:pt x="4118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8"/>
          <p:cNvSpPr/>
          <p:nvPr/>
        </p:nvSpPr>
        <p:spPr>
          <a:xfrm>
            <a:off x="2224080" y="3000240"/>
            <a:ext cx="561960" cy="857520"/>
          </a:xfrm>
          <a:custGeom>
            <a:avLst/>
            <a:gdLst/>
            <a:ahLst/>
            <a:rect l="l" t="t" r="r" b="b"/>
            <a:pathLst>
              <a:path w="1564" h="2383">
                <a:moveTo>
                  <a:pt x="6176" y="8657"/>
                </a:moveTo>
                <a:cubicBezTo>
                  <a:pt x="6260" y="8712"/>
                  <a:pt x="6298" y="8706"/>
                  <a:pt x="6400" y="8706"/>
                </a:cubicBezTo>
                <a:cubicBezTo>
                  <a:pt x="6459" y="8706"/>
                  <a:pt x="6485" y="8709"/>
                  <a:pt x="6524" y="8731"/>
                </a:cubicBezTo>
              </a:path>
              <a:path w="1564" h="2383">
                <a:moveTo>
                  <a:pt x="7144" y="8334"/>
                </a:moveTo>
                <a:cubicBezTo>
                  <a:pt x="7164" y="8426"/>
                  <a:pt x="7144" y="8405"/>
                  <a:pt x="7144" y="8508"/>
                </a:cubicBezTo>
                <a:cubicBezTo>
                  <a:pt x="7144" y="8614"/>
                  <a:pt x="7137" y="8714"/>
                  <a:pt x="7119" y="8806"/>
                </a:cubicBezTo>
                <a:cubicBezTo>
                  <a:pt x="7117" y="8818"/>
                  <a:pt x="7123" y="9089"/>
                  <a:pt x="7144" y="9079"/>
                </a:cubicBezTo>
                <a:cubicBezTo>
                  <a:pt x="7152" y="9054"/>
                  <a:pt x="7161" y="9029"/>
                  <a:pt x="7169" y="9004"/>
                </a:cubicBezTo>
              </a:path>
              <a:path w="1564" h="2383">
                <a:moveTo>
                  <a:pt x="6672" y="9599"/>
                </a:moveTo>
                <a:cubicBezTo>
                  <a:pt x="6683" y="9654"/>
                  <a:pt x="6697" y="9689"/>
                  <a:pt x="6697" y="9748"/>
                </a:cubicBezTo>
                <a:cubicBezTo>
                  <a:pt x="6697" y="9833"/>
                  <a:pt x="6717" y="9888"/>
                  <a:pt x="6722" y="9971"/>
                </a:cubicBezTo>
                <a:cubicBezTo>
                  <a:pt x="6729" y="10077"/>
                  <a:pt x="6758" y="10280"/>
                  <a:pt x="6747" y="10368"/>
                </a:cubicBezTo>
                <a:cubicBezTo>
                  <a:pt x="6734" y="10467"/>
                  <a:pt x="6737" y="10476"/>
                  <a:pt x="6747" y="10567"/>
                </a:cubicBezTo>
              </a:path>
              <a:path w="1564" h="2383">
                <a:moveTo>
                  <a:pt x="7119" y="9897"/>
                </a:moveTo>
                <a:cubicBezTo>
                  <a:pt x="7101" y="9950"/>
                  <a:pt x="7088" y="10018"/>
                  <a:pt x="7069" y="10071"/>
                </a:cubicBezTo>
                <a:cubicBezTo>
                  <a:pt x="7050" y="10122"/>
                  <a:pt x="7016" y="10254"/>
                  <a:pt x="7020" y="10294"/>
                </a:cubicBezTo>
                <a:cubicBezTo>
                  <a:pt x="7027" y="10365"/>
                  <a:pt x="7078" y="10454"/>
                  <a:pt x="7094" y="10492"/>
                </a:cubicBezTo>
                <a:cubicBezTo>
                  <a:pt x="7131" y="10581"/>
                  <a:pt x="7156" y="10593"/>
                  <a:pt x="7218" y="10641"/>
                </a:cubicBezTo>
                <a:cubicBezTo>
                  <a:pt x="7299" y="10703"/>
                  <a:pt x="7339" y="10716"/>
                  <a:pt x="7441" y="10716"/>
                </a:cubicBezTo>
                <a:cubicBezTo>
                  <a:pt x="7512" y="10716"/>
                  <a:pt x="7595" y="10685"/>
                  <a:pt x="7640" y="10641"/>
                </a:cubicBezTo>
                <a:cubicBezTo>
                  <a:pt x="7660" y="10621"/>
                  <a:pt x="7734" y="10515"/>
                  <a:pt x="7739" y="10492"/>
                </a:cubicBezTo>
                <a:cubicBezTo>
                  <a:pt x="7757" y="10404"/>
                  <a:pt x="7756" y="10218"/>
                  <a:pt x="7714" y="10145"/>
                </a:cubicBezTo>
                <a:cubicBezTo>
                  <a:pt x="7684" y="10092"/>
                  <a:pt x="7640" y="10027"/>
                  <a:pt x="7615" y="9971"/>
                </a:cubicBezTo>
                <a:cubicBezTo>
                  <a:pt x="7580" y="9893"/>
                  <a:pt x="7539" y="9825"/>
                  <a:pt x="7466" y="9773"/>
                </a:cubicBezTo>
                <a:cubicBezTo>
                  <a:pt x="7413" y="9736"/>
                  <a:pt x="7347" y="9720"/>
                  <a:pt x="7293" y="9699"/>
                </a:cubicBezTo>
                <a:cubicBezTo>
                  <a:pt x="7186" y="9657"/>
                  <a:pt x="7168" y="9692"/>
                  <a:pt x="7069" y="9748"/>
                </a:cubicBezTo>
                <a:cubicBezTo>
                  <a:pt x="7053" y="9756"/>
                  <a:pt x="7036" y="9765"/>
                  <a:pt x="7020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9"/>
          <p:cNvSpPr/>
          <p:nvPr/>
        </p:nvSpPr>
        <p:spPr>
          <a:xfrm>
            <a:off x="3295800" y="3000240"/>
            <a:ext cx="677880" cy="866880"/>
          </a:xfrm>
          <a:custGeom>
            <a:avLst/>
            <a:gdLst/>
            <a:ahLst/>
            <a:rect l="l" t="t" r="r" b="b"/>
            <a:pathLst>
              <a:path w="1886" h="2407">
                <a:moveTo>
                  <a:pt x="9153" y="8706"/>
                </a:moveTo>
                <a:cubicBezTo>
                  <a:pt x="9277" y="8706"/>
                  <a:pt x="9401" y="8706"/>
                  <a:pt x="9525" y="8706"/>
                </a:cubicBezTo>
              </a:path>
              <a:path w="1886" h="2407">
                <a:moveTo>
                  <a:pt x="10046" y="8483"/>
                </a:moveTo>
                <a:cubicBezTo>
                  <a:pt x="10046" y="8685"/>
                  <a:pt x="10048" y="8882"/>
                  <a:pt x="10071" y="9079"/>
                </a:cubicBezTo>
                <a:cubicBezTo>
                  <a:pt x="10071" y="9147"/>
                  <a:pt x="10068" y="9177"/>
                  <a:pt x="10096" y="9103"/>
                </a:cubicBezTo>
              </a:path>
              <a:path w="1886" h="2407">
                <a:moveTo>
                  <a:pt x="10567" y="8359"/>
                </a:moveTo>
                <a:cubicBezTo>
                  <a:pt x="10536" y="8431"/>
                  <a:pt x="10534" y="8483"/>
                  <a:pt x="10517" y="8558"/>
                </a:cubicBezTo>
                <a:cubicBezTo>
                  <a:pt x="10498" y="8641"/>
                  <a:pt x="10447" y="8716"/>
                  <a:pt x="10468" y="8806"/>
                </a:cubicBezTo>
                <a:cubicBezTo>
                  <a:pt x="10487" y="8889"/>
                  <a:pt x="10501" y="8957"/>
                  <a:pt x="10542" y="9029"/>
                </a:cubicBezTo>
                <a:cubicBezTo>
                  <a:pt x="10580" y="9096"/>
                  <a:pt x="10640" y="9145"/>
                  <a:pt x="10716" y="9153"/>
                </a:cubicBezTo>
                <a:cubicBezTo>
                  <a:pt x="10832" y="9166"/>
                  <a:pt x="10898" y="9173"/>
                  <a:pt x="10964" y="9079"/>
                </a:cubicBezTo>
                <a:cubicBezTo>
                  <a:pt x="11036" y="8976"/>
                  <a:pt x="11038" y="8902"/>
                  <a:pt x="11038" y="8781"/>
                </a:cubicBezTo>
                <a:cubicBezTo>
                  <a:pt x="11038" y="8683"/>
                  <a:pt x="10993" y="8634"/>
                  <a:pt x="10939" y="8558"/>
                </a:cubicBezTo>
                <a:cubicBezTo>
                  <a:pt x="10881" y="8477"/>
                  <a:pt x="10822" y="8414"/>
                  <a:pt x="10740" y="8359"/>
                </a:cubicBezTo>
                <a:cubicBezTo>
                  <a:pt x="10685" y="8322"/>
                  <a:pt x="10630" y="8334"/>
                  <a:pt x="10567" y="8334"/>
                </a:cubicBezTo>
              </a:path>
              <a:path w="1886" h="2407">
                <a:moveTo>
                  <a:pt x="9897" y="9847"/>
                </a:moveTo>
                <a:cubicBezTo>
                  <a:pt x="9971" y="9820"/>
                  <a:pt x="10005" y="9781"/>
                  <a:pt x="10071" y="9773"/>
                </a:cubicBezTo>
                <a:cubicBezTo>
                  <a:pt x="10159" y="9763"/>
                  <a:pt x="10210" y="9789"/>
                  <a:pt x="10269" y="9823"/>
                </a:cubicBezTo>
                <a:cubicBezTo>
                  <a:pt x="10351" y="9870"/>
                  <a:pt x="10314" y="9981"/>
                  <a:pt x="10294" y="10046"/>
                </a:cubicBezTo>
                <a:cubicBezTo>
                  <a:pt x="10274" y="10109"/>
                  <a:pt x="10215" y="10155"/>
                  <a:pt x="10195" y="10195"/>
                </a:cubicBezTo>
                <a:cubicBezTo>
                  <a:pt x="10161" y="10263"/>
                  <a:pt x="10097" y="10305"/>
                  <a:pt x="10071" y="10344"/>
                </a:cubicBezTo>
                <a:cubicBezTo>
                  <a:pt x="10027" y="10410"/>
                  <a:pt x="9993" y="10439"/>
                  <a:pt x="9947" y="10517"/>
                </a:cubicBezTo>
                <a:cubicBezTo>
                  <a:pt x="9899" y="10597"/>
                  <a:pt x="9924" y="10633"/>
                  <a:pt x="9971" y="10691"/>
                </a:cubicBezTo>
                <a:cubicBezTo>
                  <a:pt x="10027" y="10761"/>
                  <a:pt x="10116" y="10740"/>
                  <a:pt x="10195" y="10740"/>
                </a:cubicBezTo>
              </a:path>
              <a:path w="1886" h="2407">
                <a:moveTo>
                  <a:pt x="10914" y="9699"/>
                </a:moveTo>
                <a:cubicBezTo>
                  <a:pt x="10861" y="9690"/>
                  <a:pt x="10721" y="9640"/>
                  <a:pt x="10666" y="9699"/>
                </a:cubicBezTo>
                <a:cubicBezTo>
                  <a:pt x="10613" y="9756"/>
                  <a:pt x="10595" y="9822"/>
                  <a:pt x="10592" y="9897"/>
                </a:cubicBezTo>
                <a:cubicBezTo>
                  <a:pt x="10591" y="9928"/>
                  <a:pt x="10621" y="10029"/>
                  <a:pt x="10666" y="10046"/>
                </a:cubicBezTo>
                <a:cubicBezTo>
                  <a:pt x="10756" y="10079"/>
                  <a:pt x="10866" y="10055"/>
                  <a:pt x="10914" y="9996"/>
                </a:cubicBezTo>
                <a:cubicBezTo>
                  <a:pt x="10968" y="9930"/>
                  <a:pt x="10980" y="9907"/>
                  <a:pt x="10988" y="9823"/>
                </a:cubicBezTo>
                <a:cubicBezTo>
                  <a:pt x="10980" y="9907"/>
                  <a:pt x="10964" y="9956"/>
                  <a:pt x="10964" y="10046"/>
                </a:cubicBezTo>
                <a:cubicBezTo>
                  <a:pt x="10964" y="10198"/>
                  <a:pt x="10969" y="10347"/>
                  <a:pt x="10988" y="10492"/>
                </a:cubicBezTo>
                <a:cubicBezTo>
                  <a:pt x="10998" y="10569"/>
                  <a:pt x="11008" y="10639"/>
                  <a:pt x="11013" y="10716"/>
                </a:cubicBezTo>
                <a:cubicBezTo>
                  <a:pt x="11013" y="10724"/>
                  <a:pt x="11013" y="10732"/>
                  <a:pt x="11013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0"/>
          <p:cNvSpPr/>
          <p:nvPr/>
        </p:nvSpPr>
        <p:spPr>
          <a:xfrm>
            <a:off x="4483080" y="3027240"/>
            <a:ext cx="768240" cy="901800"/>
          </a:xfrm>
          <a:custGeom>
            <a:avLst/>
            <a:gdLst/>
            <a:ahLst/>
            <a:rect l="l" t="t" r="r" b="b"/>
            <a:pathLst>
              <a:path w="2134" h="2506">
                <a:moveTo>
                  <a:pt x="12452" y="8806"/>
                </a:moveTo>
                <a:cubicBezTo>
                  <a:pt x="12551" y="8824"/>
                  <a:pt x="12591" y="8855"/>
                  <a:pt x="12700" y="8855"/>
                </a:cubicBezTo>
                <a:cubicBezTo>
                  <a:pt x="12750" y="8855"/>
                  <a:pt x="12766" y="8855"/>
                  <a:pt x="12799" y="8855"/>
                </a:cubicBezTo>
              </a:path>
              <a:path w="2134" h="2506">
                <a:moveTo>
                  <a:pt x="13146" y="8508"/>
                </a:moveTo>
                <a:cubicBezTo>
                  <a:pt x="13200" y="8470"/>
                  <a:pt x="13239" y="8391"/>
                  <a:pt x="13320" y="8409"/>
                </a:cubicBezTo>
                <a:cubicBezTo>
                  <a:pt x="13414" y="8430"/>
                  <a:pt x="13440" y="8504"/>
                  <a:pt x="13444" y="8582"/>
                </a:cubicBezTo>
                <a:cubicBezTo>
                  <a:pt x="13449" y="8674"/>
                  <a:pt x="13432" y="8724"/>
                  <a:pt x="13395" y="8806"/>
                </a:cubicBezTo>
                <a:cubicBezTo>
                  <a:pt x="13366" y="8870"/>
                  <a:pt x="13328" y="8942"/>
                  <a:pt x="13295" y="9004"/>
                </a:cubicBezTo>
                <a:cubicBezTo>
                  <a:pt x="13263" y="9063"/>
                  <a:pt x="13226" y="9110"/>
                  <a:pt x="13221" y="9178"/>
                </a:cubicBezTo>
                <a:cubicBezTo>
                  <a:pt x="13215" y="9268"/>
                  <a:pt x="13268" y="9294"/>
                  <a:pt x="13345" y="9302"/>
                </a:cubicBezTo>
                <a:cubicBezTo>
                  <a:pt x="13452" y="9313"/>
                  <a:pt x="13537" y="9313"/>
                  <a:pt x="13618" y="9252"/>
                </a:cubicBezTo>
              </a:path>
              <a:path w="2134" h="2506">
                <a:moveTo>
                  <a:pt x="14015" y="8409"/>
                </a:moveTo>
                <a:cubicBezTo>
                  <a:pt x="13953" y="8409"/>
                  <a:pt x="13841" y="8384"/>
                  <a:pt x="13791" y="8434"/>
                </a:cubicBezTo>
                <a:cubicBezTo>
                  <a:pt x="13735" y="8490"/>
                  <a:pt x="13678" y="8540"/>
                  <a:pt x="13692" y="8632"/>
                </a:cubicBezTo>
                <a:cubicBezTo>
                  <a:pt x="13703" y="8703"/>
                  <a:pt x="13762" y="8752"/>
                  <a:pt x="13841" y="8731"/>
                </a:cubicBezTo>
                <a:cubicBezTo>
                  <a:pt x="13887" y="8719"/>
                  <a:pt x="13972" y="8664"/>
                  <a:pt x="13990" y="8632"/>
                </a:cubicBezTo>
                <a:cubicBezTo>
                  <a:pt x="14021" y="8577"/>
                  <a:pt x="14025" y="8532"/>
                  <a:pt x="14064" y="8483"/>
                </a:cubicBezTo>
                <a:cubicBezTo>
                  <a:pt x="14040" y="8563"/>
                  <a:pt x="14018" y="8623"/>
                  <a:pt x="14015" y="8706"/>
                </a:cubicBezTo>
                <a:cubicBezTo>
                  <a:pt x="14011" y="8808"/>
                  <a:pt x="13990" y="8900"/>
                  <a:pt x="13990" y="9004"/>
                </a:cubicBezTo>
                <a:cubicBezTo>
                  <a:pt x="13990" y="9103"/>
                  <a:pt x="13990" y="9203"/>
                  <a:pt x="13990" y="9302"/>
                </a:cubicBezTo>
              </a:path>
              <a:path w="2134" h="2506">
                <a:moveTo>
                  <a:pt x="14039" y="9971"/>
                </a:moveTo>
                <a:cubicBezTo>
                  <a:pt x="14014" y="10007"/>
                  <a:pt x="13927" y="10101"/>
                  <a:pt x="13915" y="10145"/>
                </a:cubicBezTo>
                <a:cubicBezTo>
                  <a:pt x="13900" y="10203"/>
                  <a:pt x="13875" y="10285"/>
                  <a:pt x="13866" y="10344"/>
                </a:cubicBezTo>
                <a:cubicBezTo>
                  <a:pt x="13851" y="10438"/>
                  <a:pt x="13856" y="10555"/>
                  <a:pt x="13891" y="10641"/>
                </a:cubicBezTo>
                <a:cubicBezTo>
                  <a:pt x="13924" y="10721"/>
                  <a:pt x="13954" y="10763"/>
                  <a:pt x="14015" y="10815"/>
                </a:cubicBezTo>
                <a:cubicBezTo>
                  <a:pt x="14058" y="10852"/>
                  <a:pt x="14103" y="10903"/>
                  <a:pt x="14163" y="10914"/>
                </a:cubicBezTo>
                <a:cubicBezTo>
                  <a:pt x="14246" y="10928"/>
                  <a:pt x="14326" y="10921"/>
                  <a:pt x="14387" y="10864"/>
                </a:cubicBezTo>
                <a:cubicBezTo>
                  <a:pt x="14446" y="10809"/>
                  <a:pt x="14475" y="10763"/>
                  <a:pt x="14511" y="10691"/>
                </a:cubicBezTo>
                <a:cubicBezTo>
                  <a:pt x="14547" y="10619"/>
                  <a:pt x="14577" y="10523"/>
                  <a:pt x="14585" y="10443"/>
                </a:cubicBezTo>
                <a:cubicBezTo>
                  <a:pt x="14593" y="10361"/>
                  <a:pt x="14580" y="10295"/>
                  <a:pt x="14560" y="10220"/>
                </a:cubicBezTo>
                <a:cubicBezTo>
                  <a:pt x="14536" y="10131"/>
                  <a:pt x="14526" y="10040"/>
                  <a:pt x="14461" y="9971"/>
                </a:cubicBezTo>
                <a:cubicBezTo>
                  <a:pt x="14416" y="9923"/>
                  <a:pt x="14327" y="9840"/>
                  <a:pt x="14263" y="9823"/>
                </a:cubicBezTo>
                <a:cubicBezTo>
                  <a:pt x="14165" y="9796"/>
                  <a:pt x="14100" y="9773"/>
                  <a:pt x="13990" y="9773"/>
                </a:cubicBezTo>
                <a:cubicBezTo>
                  <a:pt x="13957" y="9773"/>
                  <a:pt x="13924" y="9773"/>
                  <a:pt x="13891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1"/>
          <p:cNvSpPr/>
          <p:nvPr/>
        </p:nvSpPr>
        <p:spPr>
          <a:xfrm>
            <a:off x="5438880" y="1571760"/>
            <a:ext cx="347400" cy="2857320"/>
          </a:xfrm>
          <a:custGeom>
            <a:avLst/>
            <a:gdLst/>
            <a:ahLst/>
            <a:rect l="l" t="t" r="r" b="b"/>
            <a:pathLst>
              <a:path w="968" h="7938">
                <a:moveTo>
                  <a:pt x="15280" y="4415"/>
                </a:moveTo>
                <a:cubicBezTo>
                  <a:pt x="15351" y="4399"/>
                  <a:pt x="15381" y="4347"/>
                  <a:pt x="15503" y="4366"/>
                </a:cubicBezTo>
                <a:cubicBezTo>
                  <a:pt x="15613" y="4383"/>
                  <a:pt x="15752" y="4457"/>
                  <a:pt x="15825" y="4539"/>
                </a:cubicBezTo>
                <a:cubicBezTo>
                  <a:pt x="15925" y="4651"/>
                  <a:pt x="15893" y="4756"/>
                  <a:pt x="15850" y="4887"/>
                </a:cubicBezTo>
                <a:cubicBezTo>
                  <a:pt x="15762" y="5157"/>
                  <a:pt x="15491" y="5389"/>
                  <a:pt x="15354" y="5631"/>
                </a:cubicBezTo>
                <a:cubicBezTo>
                  <a:pt x="15255" y="5805"/>
                  <a:pt x="15113" y="6043"/>
                  <a:pt x="15106" y="6251"/>
                </a:cubicBezTo>
                <a:cubicBezTo>
                  <a:pt x="15100" y="6420"/>
                  <a:pt x="15174" y="6519"/>
                  <a:pt x="15304" y="6623"/>
                </a:cubicBezTo>
                <a:cubicBezTo>
                  <a:pt x="15486" y="6768"/>
                  <a:pt x="15741" y="6814"/>
                  <a:pt x="15900" y="6995"/>
                </a:cubicBezTo>
                <a:cubicBezTo>
                  <a:pt x="16046" y="7162"/>
                  <a:pt x="16076" y="7299"/>
                  <a:pt x="16073" y="7516"/>
                </a:cubicBezTo>
                <a:cubicBezTo>
                  <a:pt x="16064" y="8210"/>
                  <a:pt x="15443" y="8829"/>
                  <a:pt x="15652" y="9550"/>
                </a:cubicBezTo>
                <a:cubicBezTo>
                  <a:pt x="15738" y="9846"/>
                  <a:pt x="15902" y="10131"/>
                  <a:pt x="15925" y="10443"/>
                </a:cubicBezTo>
                <a:cubicBezTo>
                  <a:pt x="15947" y="10731"/>
                  <a:pt x="15870" y="11007"/>
                  <a:pt x="15825" y="11286"/>
                </a:cubicBezTo>
                <a:cubicBezTo>
                  <a:pt x="15782" y="11550"/>
                  <a:pt x="15725" y="11817"/>
                  <a:pt x="15751" y="12080"/>
                </a:cubicBezTo>
                <a:cubicBezTo>
                  <a:pt x="15762" y="12186"/>
                  <a:pt x="15813" y="12221"/>
                  <a:pt x="15850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12"/>
          <p:cNvSpPr/>
          <p:nvPr/>
        </p:nvSpPr>
        <p:spPr>
          <a:xfrm>
            <a:off x="2133720" y="2098800"/>
            <a:ext cx="14436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6152" y="5829"/>
                </a:moveTo>
                <a:cubicBezTo>
                  <a:pt x="6152" y="5908"/>
                  <a:pt x="6178" y="6118"/>
                  <a:pt x="6127" y="6152"/>
                </a:cubicBezTo>
              </a:path>
              <a:path w="398" h="497">
                <a:moveTo>
                  <a:pt x="5928" y="6003"/>
                </a:moveTo>
                <a:cubicBezTo>
                  <a:pt x="6029" y="6031"/>
                  <a:pt x="6055" y="6008"/>
                  <a:pt x="6152" y="6003"/>
                </a:cubicBezTo>
                <a:cubicBezTo>
                  <a:pt x="6209" y="6000"/>
                  <a:pt x="6268" y="6003"/>
                  <a:pt x="6325" y="6003"/>
                </a:cubicBezTo>
              </a:path>
              <a:path w="398" h="497">
                <a:moveTo>
                  <a:pt x="5928" y="6325"/>
                </a:moveTo>
                <a:cubicBezTo>
                  <a:pt x="6042" y="6325"/>
                  <a:pt x="6145" y="6314"/>
                  <a:pt x="6251" y="6300"/>
                </a:cubicBezTo>
                <a:cubicBezTo>
                  <a:pt x="6276" y="6300"/>
                  <a:pt x="6300" y="6300"/>
                  <a:pt x="6325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13"/>
          <p:cNvSpPr/>
          <p:nvPr/>
        </p:nvSpPr>
        <p:spPr>
          <a:xfrm>
            <a:off x="2438280" y="2035080"/>
            <a:ext cx="17640" cy="260280"/>
          </a:xfrm>
          <a:custGeom>
            <a:avLst/>
            <a:gdLst/>
            <a:ahLst/>
            <a:rect l="l" t="t" r="r" b="b"/>
            <a:pathLst>
              <a:path w="50" h="721">
                <a:moveTo>
                  <a:pt x="6821" y="5655"/>
                </a:moveTo>
                <a:cubicBezTo>
                  <a:pt x="6821" y="5776"/>
                  <a:pt x="6808" y="5885"/>
                  <a:pt x="6796" y="6003"/>
                </a:cubicBezTo>
                <a:cubicBezTo>
                  <a:pt x="6788" y="6083"/>
                  <a:pt x="6761" y="6200"/>
                  <a:pt x="6772" y="6276"/>
                </a:cubicBezTo>
                <a:cubicBezTo>
                  <a:pt x="6791" y="6333"/>
                  <a:pt x="6799" y="6340"/>
                  <a:pt x="6796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14"/>
          <p:cNvSpPr/>
          <p:nvPr/>
        </p:nvSpPr>
        <p:spPr>
          <a:xfrm>
            <a:off x="4867200" y="2394000"/>
            <a:ext cx="463680" cy="436680"/>
          </a:xfrm>
          <a:custGeom>
            <a:avLst/>
            <a:gdLst/>
            <a:ahLst/>
            <a:rect l="l" t="t" r="r" b="b"/>
            <a:pathLst>
              <a:path w="1290" h="1216">
                <a:moveTo>
                  <a:pt x="13543" y="6821"/>
                </a:moveTo>
                <a:cubicBezTo>
                  <a:pt x="13557" y="6726"/>
                  <a:pt x="13616" y="6714"/>
                  <a:pt x="13717" y="6697"/>
                </a:cubicBezTo>
                <a:cubicBezTo>
                  <a:pt x="13801" y="6683"/>
                  <a:pt x="13889" y="6696"/>
                  <a:pt x="13965" y="6722"/>
                </a:cubicBezTo>
                <a:cubicBezTo>
                  <a:pt x="14057" y="6753"/>
                  <a:pt x="14084" y="6773"/>
                  <a:pt x="14089" y="6871"/>
                </a:cubicBezTo>
                <a:cubicBezTo>
                  <a:pt x="14094" y="6968"/>
                  <a:pt x="14001" y="7054"/>
                  <a:pt x="13940" y="7119"/>
                </a:cubicBezTo>
                <a:cubicBezTo>
                  <a:pt x="13870" y="7193"/>
                  <a:pt x="13789" y="7247"/>
                  <a:pt x="13717" y="7317"/>
                </a:cubicBezTo>
                <a:cubicBezTo>
                  <a:pt x="13616" y="7415"/>
                  <a:pt x="13581" y="7447"/>
                  <a:pt x="13543" y="7565"/>
                </a:cubicBezTo>
                <a:cubicBezTo>
                  <a:pt x="13524" y="7624"/>
                  <a:pt x="13520" y="7686"/>
                  <a:pt x="13593" y="7714"/>
                </a:cubicBezTo>
                <a:cubicBezTo>
                  <a:pt x="13699" y="7755"/>
                  <a:pt x="13787" y="7740"/>
                  <a:pt x="13891" y="7714"/>
                </a:cubicBezTo>
              </a:path>
              <a:path w="1290" h="1216">
                <a:moveTo>
                  <a:pt x="14784" y="6747"/>
                </a:moveTo>
                <a:cubicBezTo>
                  <a:pt x="14745" y="6669"/>
                  <a:pt x="14733" y="6627"/>
                  <a:pt x="14635" y="6648"/>
                </a:cubicBezTo>
                <a:cubicBezTo>
                  <a:pt x="14545" y="6667"/>
                  <a:pt x="14473" y="6709"/>
                  <a:pt x="14436" y="6796"/>
                </a:cubicBezTo>
                <a:cubicBezTo>
                  <a:pt x="14409" y="6859"/>
                  <a:pt x="14367" y="6949"/>
                  <a:pt x="14387" y="7020"/>
                </a:cubicBezTo>
                <a:cubicBezTo>
                  <a:pt x="14400" y="7068"/>
                  <a:pt x="14466" y="7132"/>
                  <a:pt x="14511" y="7144"/>
                </a:cubicBezTo>
                <a:cubicBezTo>
                  <a:pt x="14579" y="7162"/>
                  <a:pt x="14662" y="7113"/>
                  <a:pt x="14709" y="7069"/>
                </a:cubicBezTo>
                <a:cubicBezTo>
                  <a:pt x="14739" y="7041"/>
                  <a:pt x="14811" y="6919"/>
                  <a:pt x="14808" y="6871"/>
                </a:cubicBezTo>
                <a:cubicBezTo>
                  <a:pt x="14800" y="6863"/>
                  <a:pt x="14792" y="6854"/>
                  <a:pt x="14784" y="6846"/>
                </a:cubicBezTo>
                <a:cubicBezTo>
                  <a:pt x="14754" y="6935"/>
                  <a:pt x="14755" y="7027"/>
                  <a:pt x="14734" y="7119"/>
                </a:cubicBezTo>
                <a:cubicBezTo>
                  <a:pt x="14713" y="7213"/>
                  <a:pt x="14688" y="7297"/>
                  <a:pt x="14684" y="7392"/>
                </a:cubicBezTo>
                <a:cubicBezTo>
                  <a:pt x="14678" y="7548"/>
                  <a:pt x="14684" y="7706"/>
                  <a:pt x="14684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15"/>
          <p:cNvSpPr/>
          <p:nvPr/>
        </p:nvSpPr>
        <p:spPr>
          <a:xfrm>
            <a:off x="5884920" y="2197080"/>
            <a:ext cx="322200" cy="44640"/>
          </a:xfrm>
          <a:custGeom>
            <a:avLst/>
            <a:gdLst/>
            <a:ahLst/>
            <a:rect l="l" t="t" r="r" b="b"/>
            <a:pathLst>
              <a:path w="894" h="125">
                <a:moveTo>
                  <a:pt x="16346" y="6226"/>
                </a:moveTo>
                <a:cubicBezTo>
                  <a:pt x="16437" y="6181"/>
                  <a:pt x="16521" y="6156"/>
                  <a:pt x="16619" y="6127"/>
                </a:cubicBezTo>
                <a:cubicBezTo>
                  <a:pt x="16720" y="6097"/>
                  <a:pt x="16812" y="6102"/>
                  <a:pt x="16917" y="6102"/>
                </a:cubicBezTo>
                <a:cubicBezTo>
                  <a:pt x="16995" y="6102"/>
                  <a:pt x="17069" y="6121"/>
                  <a:pt x="17140" y="6152"/>
                </a:cubicBezTo>
                <a:cubicBezTo>
                  <a:pt x="17190" y="6176"/>
                  <a:pt x="17206" y="6184"/>
                  <a:pt x="17239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6"/>
          <p:cNvSpPr/>
          <p:nvPr/>
        </p:nvSpPr>
        <p:spPr>
          <a:xfrm>
            <a:off x="6446880" y="1955880"/>
            <a:ext cx="2438280" cy="822240"/>
          </a:xfrm>
          <a:custGeom>
            <a:avLst/>
            <a:gdLst/>
            <a:ahLst/>
            <a:rect l="l" t="t" r="r" b="b"/>
            <a:pathLst>
              <a:path w="6773" h="2283">
                <a:moveTo>
                  <a:pt x="17934" y="5432"/>
                </a:moveTo>
                <a:cubicBezTo>
                  <a:pt x="17964" y="5513"/>
                  <a:pt x="17980" y="5592"/>
                  <a:pt x="17983" y="5680"/>
                </a:cubicBezTo>
                <a:cubicBezTo>
                  <a:pt x="17991" y="5938"/>
                  <a:pt x="17983" y="6195"/>
                  <a:pt x="17959" y="6449"/>
                </a:cubicBezTo>
                <a:cubicBezTo>
                  <a:pt x="17948" y="6567"/>
                  <a:pt x="17952" y="6683"/>
                  <a:pt x="17934" y="6796"/>
                </a:cubicBezTo>
                <a:cubicBezTo>
                  <a:pt x="17920" y="6882"/>
                  <a:pt x="17898" y="6958"/>
                  <a:pt x="17959" y="6970"/>
                </a:cubicBezTo>
                <a:cubicBezTo>
                  <a:pt x="17967" y="6970"/>
                  <a:pt x="17975" y="6970"/>
                  <a:pt x="17983" y="6970"/>
                </a:cubicBezTo>
              </a:path>
              <a:path w="6773" h="2283">
                <a:moveTo>
                  <a:pt x="18504" y="6995"/>
                </a:moveTo>
                <a:cubicBezTo>
                  <a:pt x="18476" y="7104"/>
                  <a:pt x="18441" y="7229"/>
                  <a:pt x="18430" y="7342"/>
                </a:cubicBezTo>
                <a:cubicBezTo>
                  <a:pt x="18418" y="7466"/>
                  <a:pt x="18411" y="7589"/>
                  <a:pt x="18405" y="7714"/>
                </a:cubicBezTo>
              </a:path>
              <a:path w="6773" h="2283">
                <a:moveTo>
                  <a:pt x="18901" y="6127"/>
                </a:moveTo>
                <a:cubicBezTo>
                  <a:pt x="18978" y="6166"/>
                  <a:pt x="19017" y="6132"/>
                  <a:pt x="19100" y="6127"/>
                </a:cubicBezTo>
                <a:cubicBezTo>
                  <a:pt x="19149" y="6127"/>
                  <a:pt x="19166" y="6127"/>
                  <a:pt x="19199" y="6127"/>
                </a:cubicBezTo>
              </a:path>
              <a:path w="6773" h="2283">
                <a:moveTo>
                  <a:pt x="19720" y="5655"/>
                </a:moveTo>
                <a:cubicBezTo>
                  <a:pt x="19835" y="5610"/>
                  <a:pt x="19895" y="5606"/>
                  <a:pt x="20017" y="5606"/>
                </a:cubicBezTo>
                <a:cubicBezTo>
                  <a:pt x="20087" y="5606"/>
                  <a:pt x="20142" y="5581"/>
                  <a:pt x="20216" y="5581"/>
                </a:cubicBezTo>
              </a:path>
              <a:path w="6773" h="2283">
                <a:moveTo>
                  <a:pt x="19720" y="5680"/>
                </a:moveTo>
                <a:cubicBezTo>
                  <a:pt x="19693" y="5727"/>
                  <a:pt x="19654" y="5783"/>
                  <a:pt x="19645" y="5829"/>
                </a:cubicBezTo>
                <a:cubicBezTo>
                  <a:pt x="19633" y="5891"/>
                  <a:pt x="19624" y="5966"/>
                  <a:pt x="19621" y="6028"/>
                </a:cubicBezTo>
                <a:cubicBezTo>
                  <a:pt x="19618" y="6090"/>
                  <a:pt x="19595" y="6199"/>
                  <a:pt x="19695" y="6176"/>
                </a:cubicBezTo>
                <a:cubicBezTo>
                  <a:pt x="19788" y="6155"/>
                  <a:pt x="19805" y="6151"/>
                  <a:pt x="19893" y="6201"/>
                </a:cubicBezTo>
                <a:cubicBezTo>
                  <a:pt x="19978" y="6249"/>
                  <a:pt x="20000" y="6287"/>
                  <a:pt x="20042" y="6375"/>
                </a:cubicBezTo>
                <a:cubicBezTo>
                  <a:pt x="20081" y="6457"/>
                  <a:pt x="20063" y="6538"/>
                  <a:pt x="20042" y="6623"/>
                </a:cubicBezTo>
                <a:cubicBezTo>
                  <a:pt x="20029" y="6673"/>
                  <a:pt x="19959" y="6783"/>
                  <a:pt x="19918" y="6821"/>
                </a:cubicBezTo>
                <a:cubicBezTo>
                  <a:pt x="19856" y="6879"/>
                  <a:pt x="19818" y="6907"/>
                  <a:pt x="19794" y="6846"/>
                </a:cubicBezTo>
              </a:path>
              <a:path w="6773" h="2283">
                <a:moveTo>
                  <a:pt x="20365" y="6127"/>
                </a:moveTo>
                <a:cubicBezTo>
                  <a:pt x="20389" y="6242"/>
                  <a:pt x="20382" y="6291"/>
                  <a:pt x="20365" y="6400"/>
                </a:cubicBezTo>
                <a:cubicBezTo>
                  <a:pt x="20352" y="6486"/>
                  <a:pt x="20365" y="6585"/>
                  <a:pt x="20365" y="6672"/>
                </a:cubicBezTo>
              </a:path>
              <a:path w="6773" h="2283">
                <a:moveTo>
                  <a:pt x="20191" y="6400"/>
                </a:moveTo>
                <a:cubicBezTo>
                  <a:pt x="20259" y="6374"/>
                  <a:pt x="20341" y="6360"/>
                  <a:pt x="20414" y="6350"/>
                </a:cubicBezTo>
                <a:cubicBezTo>
                  <a:pt x="20475" y="6341"/>
                  <a:pt x="20506" y="6329"/>
                  <a:pt x="20563" y="6300"/>
                </a:cubicBezTo>
              </a:path>
              <a:path w="6773" h="2283">
                <a:moveTo>
                  <a:pt x="20886" y="5705"/>
                </a:moveTo>
                <a:cubicBezTo>
                  <a:pt x="21003" y="5689"/>
                  <a:pt x="21148" y="5628"/>
                  <a:pt x="21158" y="5804"/>
                </a:cubicBezTo>
                <a:cubicBezTo>
                  <a:pt x="21163" y="5896"/>
                  <a:pt x="21113" y="5991"/>
                  <a:pt x="21084" y="6077"/>
                </a:cubicBezTo>
                <a:cubicBezTo>
                  <a:pt x="21043" y="6201"/>
                  <a:pt x="20999" y="6290"/>
                  <a:pt x="20960" y="6424"/>
                </a:cubicBezTo>
                <a:cubicBezTo>
                  <a:pt x="20938" y="6500"/>
                  <a:pt x="20916" y="6589"/>
                  <a:pt x="20935" y="6672"/>
                </a:cubicBezTo>
                <a:cubicBezTo>
                  <a:pt x="20947" y="6722"/>
                  <a:pt x="21009" y="6784"/>
                  <a:pt x="21059" y="6796"/>
                </a:cubicBezTo>
                <a:cubicBezTo>
                  <a:pt x="21111" y="6796"/>
                  <a:pt x="21129" y="6795"/>
                  <a:pt x="21158" y="6772"/>
                </a:cubicBezTo>
              </a:path>
              <a:path w="6773" h="2283">
                <a:moveTo>
                  <a:pt x="21431" y="6573"/>
                </a:moveTo>
                <a:cubicBezTo>
                  <a:pt x="21460" y="6622"/>
                  <a:pt x="21461" y="6652"/>
                  <a:pt x="21506" y="6697"/>
                </a:cubicBezTo>
                <a:cubicBezTo>
                  <a:pt x="21540" y="6662"/>
                  <a:pt x="21555" y="6642"/>
                  <a:pt x="21580" y="6598"/>
                </a:cubicBezTo>
              </a:path>
              <a:path w="6773" h="2283">
                <a:moveTo>
                  <a:pt x="21406" y="5755"/>
                </a:moveTo>
                <a:cubicBezTo>
                  <a:pt x="21423" y="5755"/>
                  <a:pt x="21439" y="5755"/>
                  <a:pt x="21456" y="5755"/>
                </a:cubicBezTo>
              </a:path>
              <a:path w="6773" h="2283">
                <a:moveTo>
                  <a:pt x="21927" y="6623"/>
                </a:moveTo>
                <a:cubicBezTo>
                  <a:pt x="21927" y="6718"/>
                  <a:pt x="21911" y="6803"/>
                  <a:pt x="21903" y="6896"/>
                </a:cubicBezTo>
                <a:cubicBezTo>
                  <a:pt x="21893" y="7011"/>
                  <a:pt x="21878" y="7131"/>
                  <a:pt x="21853" y="7243"/>
                </a:cubicBezTo>
                <a:cubicBezTo>
                  <a:pt x="21835" y="7324"/>
                  <a:pt x="21828" y="7382"/>
                  <a:pt x="21828" y="7466"/>
                </a:cubicBezTo>
              </a:path>
              <a:path w="6773" h="2283">
                <a:moveTo>
                  <a:pt x="22151" y="6152"/>
                </a:moveTo>
                <a:cubicBezTo>
                  <a:pt x="22268" y="6152"/>
                  <a:pt x="22390" y="6168"/>
                  <a:pt x="22498" y="6127"/>
                </a:cubicBezTo>
              </a:path>
              <a:path w="6773" h="2283">
                <a:moveTo>
                  <a:pt x="22746" y="5581"/>
                </a:moveTo>
                <a:cubicBezTo>
                  <a:pt x="22835" y="5559"/>
                  <a:pt x="22929" y="5544"/>
                  <a:pt x="23019" y="5531"/>
                </a:cubicBezTo>
                <a:cubicBezTo>
                  <a:pt x="23084" y="5522"/>
                  <a:pt x="23131" y="5515"/>
                  <a:pt x="23192" y="5507"/>
                </a:cubicBezTo>
              </a:path>
              <a:path w="6773" h="2283">
                <a:moveTo>
                  <a:pt x="22870" y="5457"/>
                </a:moveTo>
                <a:cubicBezTo>
                  <a:pt x="22823" y="5530"/>
                  <a:pt x="22785" y="5603"/>
                  <a:pt x="22746" y="5680"/>
                </a:cubicBezTo>
                <a:cubicBezTo>
                  <a:pt x="22718" y="5735"/>
                  <a:pt x="22699" y="5796"/>
                  <a:pt x="22696" y="5854"/>
                </a:cubicBezTo>
                <a:cubicBezTo>
                  <a:pt x="22693" y="5929"/>
                  <a:pt x="22681" y="5936"/>
                  <a:pt x="22671" y="6003"/>
                </a:cubicBezTo>
                <a:cubicBezTo>
                  <a:pt x="22757" y="6003"/>
                  <a:pt x="22865" y="5990"/>
                  <a:pt x="22944" y="6028"/>
                </a:cubicBezTo>
                <a:cubicBezTo>
                  <a:pt x="23028" y="6068"/>
                  <a:pt x="23071" y="6151"/>
                  <a:pt x="23118" y="6226"/>
                </a:cubicBezTo>
                <a:cubicBezTo>
                  <a:pt x="23180" y="6324"/>
                  <a:pt x="23205" y="6367"/>
                  <a:pt x="23168" y="6474"/>
                </a:cubicBezTo>
                <a:cubicBezTo>
                  <a:pt x="23138" y="6561"/>
                  <a:pt x="23071" y="6642"/>
                  <a:pt x="22994" y="6697"/>
                </a:cubicBezTo>
                <a:cubicBezTo>
                  <a:pt x="22920" y="6750"/>
                  <a:pt x="22849" y="6770"/>
                  <a:pt x="22771" y="6796"/>
                </a:cubicBezTo>
                <a:cubicBezTo>
                  <a:pt x="22727" y="6818"/>
                  <a:pt x="22715" y="6831"/>
                  <a:pt x="22696" y="6796"/>
                </a:cubicBezTo>
              </a:path>
              <a:path w="6773" h="2283">
                <a:moveTo>
                  <a:pt x="23292" y="6251"/>
                </a:moveTo>
                <a:cubicBezTo>
                  <a:pt x="23391" y="6218"/>
                  <a:pt x="23509" y="6208"/>
                  <a:pt x="23614" y="6201"/>
                </a:cubicBezTo>
                <a:cubicBezTo>
                  <a:pt x="23622" y="6201"/>
                  <a:pt x="23631" y="6201"/>
                  <a:pt x="23639" y="6201"/>
                </a:cubicBezTo>
              </a:path>
              <a:path w="6773" h="2283">
                <a:moveTo>
                  <a:pt x="23812" y="5804"/>
                </a:moveTo>
                <a:cubicBezTo>
                  <a:pt x="23881" y="5740"/>
                  <a:pt x="23961" y="5653"/>
                  <a:pt x="24061" y="5631"/>
                </a:cubicBezTo>
                <a:cubicBezTo>
                  <a:pt x="24105" y="5621"/>
                  <a:pt x="24236" y="5659"/>
                  <a:pt x="24259" y="5705"/>
                </a:cubicBezTo>
                <a:cubicBezTo>
                  <a:pt x="24302" y="5792"/>
                  <a:pt x="24237" y="5908"/>
                  <a:pt x="24209" y="5978"/>
                </a:cubicBezTo>
                <a:cubicBezTo>
                  <a:pt x="24165" y="6086"/>
                  <a:pt x="24102" y="6156"/>
                  <a:pt x="24036" y="6251"/>
                </a:cubicBezTo>
                <a:cubicBezTo>
                  <a:pt x="23975" y="6339"/>
                  <a:pt x="23932" y="6430"/>
                  <a:pt x="23887" y="6524"/>
                </a:cubicBezTo>
                <a:cubicBezTo>
                  <a:pt x="23854" y="6593"/>
                  <a:pt x="23782" y="6683"/>
                  <a:pt x="23887" y="6722"/>
                </a:cubicBezTo>
                <a:cubicBezTo>
                  <a:pt x="23956" y="6748"/>
                  <a:pt x="24027" y="6700"/>
                  <a:pt x="24085" y="6672"/>
                </a:cubicBezTo>
                <a:cubicBezTo>
                  <a:pt x="24102" y="6664"/>
                  <a:pt x="24118" y="6656"/>
                  <a:pt x="24135" y="6648"/>
                </a:cubicBezTo>
              </a:path>
              <a:path w="6773" h="2283">
                <a:moveTo>
                  <a:pt x="24358" y="6350"/>
                </a:moveTo>
                <a:cubicBezTo>
                  <a:pt x="24358" y="6469"/>
                  <a:pt x="24351" y="6507"/>
                  <a:pt x="24433" y="6598"/>
                </a:cubicBezTo>
                <a:cubicBezTo>
                  <a:pt x="24496" y="6668"/>
                  <a:pt x="24607" y="6607"/>
                  <a:pt x="24656" y="6548"/>
                </a:cubicBezTo>
                <a:cubicBezTo>
                  <a:pt x="24664" y="6532"/>
                  <a:pt x="24673" y="6515"/>
                  <a:pt x="24681" y="6499"/>
                </a:cubicBezTo>
              </a:path>
              <a:path w="6773" h="2283">
                <a:moveTo>
                  <a:pt x="24507" y="5680"/>
                </a:moveTo>
                <a:cubicBezTo>
                  <a:pt x="24499" y="5697"/>
                  <a:pt x="24490" y="5713"/>
                  <a:pt x="24482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7"/>
          <p:cNvSpPr/>
          <p:nvPr/>
        </p:nvSpPr>
        <p:spPr>
          <a:xfrm>
            <a:off x="2438280" y="2509920"/>
            <a:ext cx="231840" cy="3571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6772" y="6970"/>
                </a:moveTo>
                <a:cubicBezTo>
                  <a:pt x="6772" y="7257"/>
                  <a:pt x="6751" y="7560"/>
                  <a:pt x="6796" y="7838"/>
                </a:cubicBezTo>
                <a:cubicBezTo>
                  <a:pt x="6814" y="7950"/>
                  <a:pt x="6813" y="7837"/>
                  <a:pt x="6821" y="7789"/>
                </a:cubicBezTo>
              </a:path>
              <a:path w="646" h="993">
                <a:moveTo>
                  <a:pt x="7367" y="6970"/>
                </a:moveTo>
                <a:cubicBezTo>
                  <a:pt x="7367" y="7260"/>
                  <a:pt x="7337" y="7591"/>
                  <a:pt x="7392" y="7863"/>
                </a:cubicBezTo>
                <a:cubicBezTo>
                  <a:pt x="7404" y="7922"/>
                  <a:pt x="7375" y="7935"/>
                  <a:pt x="7417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8"/>
          <p:cNvSpPr/>
          <p:nvPr/>
        </p:nvSpPr>
        <p:spPr>
          <a:xfrm>
            <a:off x="3483000" y="2419200"/>
            <a:ext cx="544320" cy="385920"/>
          </a:xfrm>
          <a:custGeom>
            <a:avLst/>
            <a:gdLst/>
            <a:ahLst/>
            <a:rect l="l" t="t" r="r" b="b"/>
            <a:pathLst>
              <a:path w="1514" h="1068">
                <a:moveTo>
                  <a:pt x="9748" y="6871"/>
                </a:moveTo>
                <a:cubicBezTo>
                  <a:pt x="9859" y="6839"/>
                  <a:pt x="9954" y="6801"/>
                  <a:pt x="10071" y="6796"/>
                </a:cubicBezTo>
                <a:cubicBezTo>
                  <a:pt x="10138" y="6793"/>
                  <a:pt x="10204" y="6785"/>
                  <a:pt x="10220" y="6871"/>
                </a:cubicBezTo>
                <a:cubicBezTo>
                  <a:pt x="10239" y="6975"/>
                  <a:pt x="10176" y="7061"/>
                  <a:pt x="10096" y="7119"/>
                </a:cubicBezTo>
                <a:cubicBezTo>
                  <a:pt x="10034" y="7164"/>
                  <a:pt x="9970" y="7214"/>
                  <a:pt x="9897" y="7243"/>
                </a:cubicBezTo>
                <a:cubicBezTo>
                  <a:pt x="9837" y="7263"/>
                  <a:pt x="9822" y="7262"/>
                  <a:pt x="9798" y="7293"/>
                </a:cubicBezTo>
                <a:cubicBezTo>
                  <a:pt x="9855" y="7236"/>
                  <a:pt x="9909" y="7205"/>
                  <a:pt x="9996" y="7218"/>
                </a:cubicBezTo>
                <a:cubicBezTo>
                  <a:pt x="10101" y="7234"/>
                  <a:pt x="10127" y="7282"/>
                  <a:pt x="10170" y="7367"/>
                </a:cubicBezTo>
                <a:cubicBezTo>
                  <a:pt x="10205" y="7438"/>
                  <a:pt x="10242" y="7507"/>
                  <a:pt x="10220" y="7590"/>
                </a:cubicBezTo>
                <a:cubicBezTo>
                  <a:pt x="10203" y="7655"/>
                  <a:pt x="10131" y="7714"/>
                  <a:pt x="10071" y="7739"/>
                </a:cubicBezTo>
                <a:cubicBezTo>
                  <a:pt x="9994" y="7771"/>
                  <a:pt x="9904" y="7785"/>
                  <a:pt x="9823" y="7789"/>
                </a:cubicBezTo>
                <a:cubicBezTo>
                  <a:pt x="9757" y="7792"/>
                  <a:pt x="9699" y="7765"/>
                  <a:pt x="9674" y="7714"/>
                </a:cubicBezTo>
              </a:path>
              <a:path w="1514" h="1068">
                <a:moveTo>
                  <a:pt x="11137" y="6747"/>
                </a:moveTo>
                <a:cubicBezTo>
                  <a:pt x="10942" y="6738"/>
                  <a:pt x="10909" y="6739"/>
                  <a:pt x="10765" y="6871"/>
                </a:cubicBezTo>
                <a:cubicBezTo>
                  <a:pt x="10707" y="6924"/>
                  <a:pt x="10634" y="6980"/>
                  <a:pt x="10666" y="7069"/>
                </a:cubicBezTo>
                <a:cubicBezTo>
                  <a:pt x="10699" y="7162"/>
                  <a:pt x="10749" y="7213"/>
                  <a:pt x="10840" y="7218"/>
                </a:cubicBezTo>
                <a:cubicBezTo>
                  <a:pt x="10892" y="7221"/>
                  <a:pt x="10978" y="7185"/>
                  <a:pt x="11013" y="7144"/>
                </a:cubicBezTo>
                <a:cubicBezTo>
                  <a:pt x="11070" y="7077"/>
                  <a:pt x="11099" y="7001"/>
                  <a:pt x="11137" y="6921"/>
                </a:cubicBezTo>
                <a:cubicBezTo>
                  <a:pt x="11161" y="6871"/>
                  <a:pt x="11161" y="6839"/>
                  <a:pt x="11187" y="6796"/>
                </a:cubicBezTo>
                <a:cubicBezTo>
                  <a:pt x="11176" y="6896"/>
                  <a:pt x="11141" y="6996"/>
                  <a:pt x="11112" y="7094"/>
                </a:cubicBezTo>
                <a:cubicBezTo>
                  <a:pt x="11083" y="7192"/>
                  <a:pt x="11089" y="7296"/>
                  <a:pt x="11063" y="7392"/>
                </a:cubicBezTo>
                <a:cubicBezTo>
                  <a:pt x="11043" y="7463"/>
                  <a:pt x="11025" y="7543"/>
                  <a:pt x="11013" y="7615"/>
                </a:cubicBezTo>
                <a:cubicBezTo>
                  <a:pt x="10995" y="7721"/>
                  <a:pt x="11011" y="7612"/>
                  <a:pt x="10988" y="75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9"/>
          <p:cNvSpPr/>
          <p:nvPr/>
        </p:nvSpPr>
        <p:spPr>
          <a:xfrm>
            <a:off x="534960" y="4062240"/>
            <a:ext cx="322200" cy="438480"/>
          </a:xfrm>
          <a:custGeom>
            <a:avLst/>
            <a:gdLst/>
            <a:ahLst/>
            <a:rect l="l" t="t" r="r" b="b"/>
            <a:pathLst>
              <a:path w="894" h="1217">
                <a:moveTo>
                  <a:pt x="1687" y="11559"/>
                </a:moveTo>
                <a:cubicBezTo>
                  <a:pt x="1602" y="11723"/>
                  <a:pt x="1491" y="11885"/>
                  <a:pt x="1513" y="12080"/>
                </a:cubicBezTo>
                <a:cubicBezTo>
                  <a:pt x="1525" y="12191"/>
                  <a:pt x="1575" y="12306"/>
                  <a:pt x="1662" y="12378"/>
                </a:cubicBezTo>
                <a:cubicBezTo>
                  <a:pt x="1740" y="12442"/>
                  <a:pt x="1825" y="12520"/>
                  <a:pt x="1935" y="12502"/>
                </a:cubicBezTo>
                <a:cubicBezTo>
                  <a:pt x="2072" y="12480"/>
                  <a:pt x="2190" y="12442"/>
                  <a:pt x="2257" y="12303"/>
                </a:cubicBezTo>
                <a:cubicBezTo>
                  <a:pt x="2311" y="12191"/>
                  <a:pt x="2367" y="12032"/>
                  <a:pt x="2381" y="11906"/>
                </a:cubicBezTo>
                <a:cubicBezTo>
                  <a:pt x="2397" y="11761"/>
                  <a:pt x="2358" y="11665"/>
                  <a:pt x="2307" y="11534"/>
                </a:cubicBezTo>
                <a:cubicBezTo>
                  <a:pt x="2264" y="11423"/>
                  <a:pt x="2222" y="11359"/>
                  <a:pt x="2108" y="11311"/>
                </a:cubicBezTo>
                <a:cubicBezTo>
                  <a:pt x="2008" y="11269"/>
                  <a:pt x="1907" y="11287"/>
                  <a:pt x="1811" y="11336"/>
                </a:cubicBezTo>
                <a:cubicBezTo>
                  <a:pt x="1687" y="11400"/>
                  <a:pt x="1597" y="11483"/>
                  <a:pt x="1538" y="11609"/>
                </a:cubicBezTo>
                <a:cubicBezTo>
                  <a:pt x="1510" y="11691"/>
                  <a:pt x="1500" y="11723"/>
                  <a:pt x="1488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20"/>
          <p:cNvSpPr/>
          <p:nvPr/>
        </p:nvSpPr>
        <p:spPr>
          <a:xfrm>
            <a:off x="1054080" y="4044960"/>
            <a:ext cx="2224080" cy="635040"/>
          </a:xfrm>
          <a:custGeom>
            <a:avLst/>
            <a:gdLst/>
            <a:ahLst/>
            <a:rect l="l" t="t" r="r" b="b"/>
            <a:pathLst>
              <a:path w="6177" h="1762">
                <a:moveTo>
                  <a:pt x="3572" y="11807"/>
                </a:moveTo>
                <a:cubicBezTo>
                  <a:pt x="3609" y="11872"/>
                  <a:pt x="3644" y="11933"/>
                  <a:pt x="3671" y="12005"/>
                </a:cubicBezTo>
                <a:cubicBezTo>
                  <a:pt x="3709" y="12106"/>
                  <a:pt x="3743" y="12209"/>
                  <a:pt x="3795" y="12303"/>
                </a:cubicBezTo>
                <a:cubicBezTo>
                  <a:pt x="3868" y="12433"/>
                  <a:pt x="3975" y="12633"/>
                  <a:pt x="4093" y="12725"/>
                </a:cubicBezTo>
                <a:cubicBezTo>
                  <a:pt x="4174" y="12789"/>
                  <a:pt x="4152" y="12773"/>
                  <a:pt x="4217" y="12700"/>
                </a:cubicBezTo>
              </a:path>
              <a:path w="6177" h="1762">
                <a:moveTo>
                  <a:pt x="4018" y="11782"/>
                </a:moveTo>
                <a:cubicBezTo>
                  <a:pt x="3973" y="11873"/>
                  <a:pt x="3927" y="11959"/>
                  <a:pt x="3894" y="12055"/>
                </a:cubicBezTo>
                <a:cubicBezTo>
                  <a:pt x="3857" y="12162"/>
                  <a:pt x="3812" y="12250"/>
                  <a:pt x="3770" y="12353"/>
                </a:cubicBezTo>
                <a:cubicBezTo>
                  <a:pt x="3737" y="12433"/>
                  <a:pt x="3718" y="12528"/>
                  <a:pt x="3671" y="12601"/>
                </a:cubicBezTo>
                <a:cubicBezTo>
                  <a:pt x="3648" y="12637"/>
                  <a:pt x="3566" y="12666"/>
                  <a:pt x="3671" y="12626"/>
                </a:cubicBezTo>
              </a:path>
              <a:path w="6177" h="1762">
                <a:moveTo>
                  <a:pt x="4142" y="11311"/>
                </a:moveTo>
                <a:cubicBezTo>
                  <a:pt x="4216" y="11251"/>
                  <a:pt x="4271" y="11192"/>
                  <a:pt x="4366" y="11261"/>
                </a:cubicBezTo>
                <a:cubicBezTo>
                  <a:pt x="4431" y="11308"/>
                  <a:pt x="4428" y="11368"/>
                  <a:pt x="4390" y="11435"/>
                </a:cubicBezTo>
                <a:cubicBezTo>
                  <a:pt x="4358" y="11492"/>
                  <a:pt x="4279" y="11519"/>
                  <a:pt x="4291" y="11584"/>
                </a:cubicBezTo>
                <a:cubicBezTo>
                  <a:pt x="4304" y="11654"/>
                  <a:pt x="4409" y="11674"/>
                  <a:pt x="4465" y="11683"/>
                </a:cubicBezTo>
                <a:cubicBezTo>
                  <a:pt x="4481" y="11683"/>
                  <a:pt x="4498" y="11683"/>
                  <a:pt x="4514" y="11683"/>
                </a:cubicBezTo>
              </a:path>
              <a:path w="6177" h="1762">
                <a:moveTo>
                  <a:pt x="4862" y="11807"/>
                </a:moveTo>
                <a:cubicBezTo>
                  <a:pt x="4844" y="11929"/>
                  <a:pt x="4837" y="12033"/>
                  <a:pt x="4837" y="12154"/>
                </a:cubicBezTo>
                <a:cubicBezTo>
                  <a:pt x="4837" y="12245"/>
                  <a:pt x="4837" y="12336"/>
                  <a:pt x="4837" y="12427"/>
                </a:cubicBezTo>
              </a:path>
              <a:path w="6177" h="1762">
                <a:moveTo>
                  <a:pt x="4614" y="12030"/>
                </a:moveTo>
                <a:cubicBezTo>
                  <a:pt x="4735" y="12030"/>
                  <a:pt x="4845" y="12041"/>
                  <a:pt x="4961" y="12055"/>
                </a:cubicBezTo>
                <a:cubicBezTo>
                  <a:pt x="5035" y="12055"/>
                  <a:pt x="5060" y="12055"/>
                  <a:pt x="5110" y="12055"/>
                </a:cubicBezTo>
              </a:path>
              <a:path w="6177" h="1762">
                <a:moveTo>
                  <a:pt x="5407" y="11757"/>
                </a:moveTo>
                <a:cubicBezTo>
                  <a:pt x="5447" y="11824"/>
                  <a:pt x="5410" y="11854"/>
                  <a:pt x="5407" y="11931"/>
                </a:cubicBezTo>
                <a:cubicBezTo>
                  <a:pt x="5402" y="12042"/>
                  <a:pt x="5387" y="12144"/>
                  <a:pt x="5383" y="12254"/>
                </a:cubicBezTo>
                <a:cubicBezTo>
                  <a:pt x="5380" y="12340"/>
                  <a:pt x="5349" y="12635"/>
                  <a:pt x="5407" y="12675"/>
                </a:cubicBezTo>
              </a:path>
              <a:path w="6177" h="1762">
                <a:moveTo>
                  <a:pt x="5755" y="11881"/>
                </a:moveTo>
                <a:cubicBezTo>
                  <a:pt x="5725" y="11984"/>
                  <a:pt x="5684" y="12072"/>
                  <a:pt x="5680" y="12179"/>
                </a:cubicBezTo>
                <a:cubicBezTo>
                  <a:pt x="5676" y="12291"/>
                  <a:pt x="5694" y="12371"/>
                  <a:pt x="5730" y="12477"/>
                </a:cubicBezTo>
                <a:cubicBezTo>
                  <a:pt x="5757" y="12556"/>
                  <a:pt x="5815" y="12650"/>
                  <a:pt x="5904" y="12675"/>
                </a:cubicBezTo>
                <a:cubicBezTo>
                  <a:pt x="5987" y="12698"/>
                  <a:pt x="6084" y="12647"/>
                  <a:pt x="6127" y="12576"/>
                </a:cubicBezTo>
                <a:cubicBezTo>
                  <a:pt x="6182" y="12487"/>
                  <a:pt x="6176" y="12377"/>
                  <a:pt x="6176" y="12278"/>
                </a:cubicBezTo>
                <a:cubicBezTo>
                  <a:pt x="6176" y="12132"/>
                  <a:pt x="6143" y="11975"/>
                  <a:pt x="6052" y="11857"/>
                </a:cubicBezTo>
                <a:cubicBezTo>
                  <a:pt x="6005" y="11796"/>
                  <a:pt x="5960" y="11726"/>
                  <a:pt x="5879" y="11708"/>
                </a:cubicBezTo>
                <a:cubicBezTo>
                  <a:pt x="5815" y="11694"/>
                  <a:pt x="5739" y="11736"/>
                  <a:pt x="5755" y="11807"/>
                </a:cubicBezTo>
                <a:cubicBezTo>
                  <a:pt x="5767" y="11858"/>
                  <a:pt x="5785" y="11907"/>
                  <a:pt x="5804" y="11956"/>
                </a:cubicBezTo>
              </a:path>
              <a:path w="6177" h="1762">
                <a:moveTo>
                  <a:pt x="6524" y="11956"/>
                </a:moveTo>
                <a:cubicBezTo>
                  <a:pt x="6579" y="12077"/>
                  <a:pt x="6634" y="12224"/>
                  <a:pt x="6722" y="12328"/>
                </a:cubicBezTo>
                <a:cubicBezTo>
                  <a:pt x="6789" y="12407"/>
                  <a:pt x="6860" y="12514"/>
                  <a:pt x="6945" y="12576"/>
                </a:cubicBezTo>
                <a:cubicBezTo>
                  <a:pt x="6986" y="12596"/>
                  <a:pt x="6992" y="12605"/>
                  <a:pt x="7020" y="12601"/>
                </a:cubicBezTo>
              </a:path>
              <a:path w="6177" h="1762">
                <a:moveTo>
                  <a:pt x="6871" y="11807"/>
                </a:moveTo>
                <a:cubicBezTo>
                  <a:pt x="6748" y="11930"/>
                  <a:pt x="6667" y="12034"/>
                  <a:pt x="6573" y="12179"/>
                </a:cubicBezTo>
                <a:cubicBezTo>
                  <a:pt x="6527" y="12249"/>
                  <a:pt x="6466" y="12307"/>
                  <a:pt x="6424" y="12378"/>
                </a:cubicBezTo>
                <a:cubicBezTo>
                  <a:pt x="6400" y="12427"/>
                  <a:pt x="6392" y="12444"/>
                  <a:pt x="6424" y="12477"/>
                </a:cubicBezTo>
              </a:path>
              <a:path w="6177" h="1762">
                <a:moveTo>
                  <a:pt x="7317" y="11906"/>
                </a:moveTo>
                <a:cubicBezTo>
                  <a:pt x="7324" y="12017"/>
                  <a:pt x="7342" y="12116"/>
                  <a:pt x="7342" y="12229"/>
                </a:cubicBezTo>
                <a:cubicBezTo>
                  <a:pt x="7342" y="12334"/>
                  <a:pt x="7362" y="12425"/>
                  <a:pt x="7367" y="12526"/>
                </a:cubicBezTo>
                <a:cubicBezTo>
                  <a:pt x="7369" y="12567"/>
                  <a:pt x="7367" y="12609"/>
                  <a:pt x="7367" y="12650"/>
                </a:cubicBezTo>
              </a:path>
              <a:path w="6177" h="1762">
                <a:moveTo>
                  <a:pt x="7069" y="12154"/>
                </a:moveTo>
                <a:cubicBezTo>
                  <a:pt x="7153" y="12104"/>
                  <a:pt x="7200" y="12165"/>
                  <a:pt x="7293" y="12179"/>
                </a:cubicBezTo>
                <a:cubicBezTo>
                  <a:pt x="7409" y="12196"/>
                  <a:pt x="7467" y="12191"/>
                  <a:pt x="7590" y="12179"/>
                </a:cubicBezTo>
              </a:path>
              <a:path w="6177" h="1762">
                <a:moveTo>
                  <a:pt x="7838" y="11733"/>
                </a:moveTo>
                <a:cubicBezTo>
                  <a:pt x="7942" y="11629"/>
                  <a:pt x="7937" y="11590"/>
                  <a:pt x="8062" y="11633"/>
                </a:cubicBezTo>
                <a:cubicBezTo>
                  <a:pt x="8149" y="11663"/>
                  <a:pt x="8189" y="11680"/>
                  <a:pt x="8235" y="11757"/>
                </a:cubicBezTo>
                <a:cubicBezTo>
                  <a:pt x="8292" y="11851"/>
                  <a:pt x="8234" y="11897"/>
                  <a:pt x="8186" y="11981"/>
                </a:cubicBezTo>
                <a:cubicBezTo>
                  <a:pt x="8147" y="12050"/>
                  <a:pt x="8083" y="12085"/>
                  <a:pt x="8037" y="12154"/>
                </a:cubicBezTo>
                <a:cubicBezTo>
                  <a:pt x="7992" y="12221"/>
                  <a:pt x="7952" y="12242"/>
                  <a:pt x="7938" y="12328"/>
                </a:cubicBezTo>
                <a:cubicBezTo>
                  <a:pt x="7928" y="12391"/>
                  <a:pt x="7935" y="12452"/>
                  <a:pt x="7962" y="12502"/>
                </a:cubicBezTo>
                <a:cubicBezTo>
                  <a:pt x="8010" y="12592"/>
                  <a:pt x="8074" y="12603"/>
                  <a:pt x="8161" y="12626"/>
                </a:cubicBezTo>
                <a:cubicBezTo>
                  <a:pt x="8186" y="12634"/>
                  <a:pt x="8210" y="12642"/>
                  <a:pt x="8235" y="12650"/>
                </a:cubicBezTo>
              </a:path>
              <a:path w="6177" h="1762">
                <a:moveTo>
                  <a:pt x="8930" y="11857"/>
                </a:moveTo>
                <a:cubicBezTo>
                  <a:pt x="8924" y="11782"/>
                  <a:pt x="8926" y="11702"/>
                  <a:pt x="8830" y="11683"/>
                </a:cubicBezTo>
                <a:cubicBezTo>
                  <a:pt x="8756" y="11668"/>
                  <a:pt x="8667" y="11686"/>
                  <a:pt x="8607" y="11733"/>
                </a:cubicBezTo>
                <a:cubicBezTo>
                  <a:pt x="8551" y="11776"/>
                  <a:pt x="8512" y="11840"/>
                  <a:pt x="8508" y="11906"/>
                </a:cubicBezTo>
                <a:cubicBezTo>
                  <a:pt x="8504" y="11980"/>
                  <a:pt x="8547" y="12021"/>
                  <a:pt x="8582" y="12080"/>
                </a:cubicBezTo>
                <a:cubicBezTo>
                  <a:pt x="8632" y="12163"/>
                  <a:pt x="8689" y="12175"/>
                  <a:pt x="8781" y="12129"/>
                </a:cubicBezTo>
                <a:cubicBezTo>
                  <a:pt x="8867" y="12086"/>
                  <a:pt x="8896" y="12046"/>
                  <a:pt x="8954" y="11981"/>
                </a:cubicBezTo>
                <a:cubicBezTo>
                  <a:pt x="8984" y="11951"/>
                  <a:pt x="8995" y="11937"/>
                  <a:pt x="9004" y="11906"/>
                </a:cubicBezTo>
                <a:cubicBezTo>
                  <a:pt x="9004" y="12073"/>
                  <a:pt x="8993" y="12239"/>
                  <a:pt x="9029" y="12402"/>
                </a:cubicBezTo>
                <a:cubicBezTo>
                  <a:pt x="9061" y="12545"/>
                  <a:pt x="9087" y="12702"/>
                  <a:pt x="9103" y="12849"/>
                </a:cubicBezTo>
                <a:cubicBezTo>
                  <a:pt x="9103" y="12923"/>
                  <a:pt x="9103" y="12948"/>
                  <a:pt x="9103" y="12998"/>
                </a:cubicBezTo>
              </a:path>
              <a:path w="6177" h="1762">
                <a:moveTo>
                  <a:pt x="2927" y="12005"/>
                </a:moveTo>
                <a:cubicBezTo>
                  <a:pt x="3019" y="12005"/>
                  <a:pt x="3091" y="12016"/>
                  <a:pt x="3175" y="12030"/>
                </a:cubicBezTo>
                <a:cubicBezTo>
                  <a:pt x="3225" y="12030"/>
                  <a:pt x="3241" y="12030"/>
                  <a:pt x="3274" y="12030"/>
                </a:cubicBezTo>
              </a:path>
              <a:path w="6177" h="1762">
                <a:moveTo>
                  <a:pt x="2927" y="12229"/>
                </a:moveTo>
                <a:cubicBezTo>
                  <a:pt x="2998" y="12300"/>
                  <a:pt x="3021" y="12276"/>
                  <a:pt x="3125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21"/>
          <p:cNvSpPr/>
          <p:nvPr/>
        </p:nvSpPr>
        <p:spPr>
          <a:xfrm>
            <a:off x="527040" y="4749840"/>
            <a:ext cx="2955960" cy="1009440"/>
          </a:xfrm>
          <a:custGeom>
            <a:avLst/>
            <a:gdLst/>
            <a:ahLst/>
            <a:rect l="l" t="t" r="r" b="b"/>
            <a:pathLst>
              <a:path w="8212" h="2804">
                <a:moveTo>
                  <a:pt x="1463" y="13370"/>
                </a:moveTo>
                <a:cubicBezTo>
                  <a:pt x="1524" y="13446"/>
                  <a:pt x="1518" y="13504"/>
                  <a:pt x="1538" y="13593"/>
                </a:cubicBezTo>
                <a:cubicBezTo>
                  <a:pt x="1557" y="13676"/>
                  <a:pt x="1587" y="13760"/>
                  <a:pt x="1612" y="13841"/>
                </a:cubicBezTo>
                <a:cubicBezTo>
                  <a:pt x="1641" y="13935"/>
                  <a:pt x="1708" y="14029"/>
                  <a:pt x="1761" y="14114"/>
                </a:cubicBezTo>
                <a:cubicBezTo>
                  <a:pt x="1812" y="14195"/>
                  <a:pt x="1884" y="14260"/>
                  <a:pt x="1935" y="14337"/>
                </a:cubicBezTo>
                <a:cubicBezTo>
                  <a:pt x="1943" y="14354"/>
                  <a:pt x="1952" y="14370"/>
                  <a:pt x="1960" y="14387"/>
                </a:cubicBezTo>
              </a:path>
              <a:path w="8212" h="2804">
                <a:moveTo>
                  <a:pt x="1712" y="13593"/>
                </a:moveTo>
                <a:cubicBezTo>
                  <a:pt x="1657" y="13708"/>
                  <a:pt x="1608" y="13821"/>
                  <a:pt x="1563" y="13940"/>
                </a:cubicBezTo>
                <a:cubicBezTo>
                  <a:pt x="1526" y="14037"/>
                  <a:pt x="1513" y="14142"/>
                  <a:pt x="1488" y="14238"/>
                </a:cubicBezTo>
                <a:cubicBezTo>
                  <a:pt x="1480" y="14263"/>
                  <a:pt x="1471" y="14287"/>
                  <a:pt x="1463" y="14312"/>
                </a:cubicBezTo>
              </a:path>
              <a:path w="8212" h="2804">
                <a:moveTo>
                  <a:pt x="1984" y="13791"/>
                </a:moveTo>
                <a:cubicBezTo>
                  <a:pt x="2058" y="13791"/>
                  <a:pt x="2113" y="13807"/>
                  <a:pt x="2183" y="13816"/>
                </a:cubicBezTo>
              </a:path>
              <a:path w="8212" h="2804">
                <a:moveTo>
                  <a:pt x="2009" y="13965"/>
                </a:moveTo>
                <a:cubicBezTo>
                  <a:pt x="2104" y="13979"/>
                  <a:pt x="2166" y="13990"/>
                  <a:pt x="2257" y="13990"/>
                </a:cubicBezTo>
              </a:path>
              <a:path w="8212" h="2804">
                <a:moveTo>
                  <a:pt x="2555" y="13717"/>
                </a:moveTo>
                <a:cubicBezTo>
                  <a:pt x="2613" y="13746"/>
                  <a:pt x="2669" y="13746"/>
                  <a:pt x="2729" y="13767"/>
                </a:cubicBezTo>
                <a:cubicBezTo>
                  <a:pt x="2777" y="13790"/>
                  <a:pt x="2791" y="13798"/>
                  <a:pt x="2828" y="13791"/>
                </a:cubicBezTo>
              </a:path>
              <a:path w="8212" h="2804">
                <a:moveTo>
                  <a:pt x="3150" y="13494"/>
                </a:moveTo>
                <a:cubicBezTo>
                  <a:pt x="3125" y="13559"/>
                  <a:pt x="3105" y="13622"/>
                  <a:pt x="3101" y="13692"/>
                </a:cubicBezTo>
                <a:cubicBezTo>
                  <a:pt x="3096" y="13785"/>
                  <a:pt x="3076" y="13869"/>
                  <a:pt x="3076" y="13965"/>
                </a:cubicBezTo>
                <a:cubicBezTo>
                  <a:pt x="3076" y="14114"/>
                  <a:pt x="3076" y="14511"/>
                  <a:pt x="3076" y="14362"/>
                </a:cubicBezTo>
              </a:path>
              <a:path w="8212" h="2804">
                <a:moveTo>
                  <a:pt x="3398" y="13618"/>
                </a:moveTo>
                <a:cubicBezTo>
                  <a:pt x="3387" y="13704"/>
                  <a:pt x="3335" y="13781"/>
                  <a:pt x="3324" y="13866"/>
                </a:cubicBezTo>
                <a:cubicBezTo>
                  <a:pt x="3313" y="13952"/>
                  <a:pt x="3316" y="14039"/>
                  <a:pt x="3324" y="14114"/>
                </a:cubicBezTo>
                <a:cubicBezTo>
                  <a:pt x="3332" y="14189"/>
                  <a:pt x="3349" y="14274"/>
                  <a:pt x="3398" y="14337"/>
                </a:cubicBezTo>
                <a:cubicBezTo>
                  <a:pt x="3448" y="14401"/>
                  <a:pt x="3493" y="14433"/>
                  <a:pt x="3572" y="14436"/>
                </a:cubicBezTo>
                <a:cubicBezTo>
                  <a:pt x="3636" y="14439"/>
                  <a:pt x="3717" y="14407"/>
                  <a:pt x="3746" y="14337"/>
                </a:cubicBezTo>
                <a:cubicBezTo>
                  <a:pt x="3772" y="14275"/>
                  <a:pt x="3792" y="14183"/>
                  <a:pt x="3795" y="14114"/>
                </a:cubicBezTo>
                <a:cubicBezTo>
                  <a:pt x="3800" y="13987"/>
                  <a:pt x="3763" y="13892"/>
                  <a:pt x="3746" y="13767"/>
                </a:cubicBezTo>
                <a:cubicBezTo>
                  <a:pt x="3734" y="13684"/>
                  <a:pt x="3713" y="13638"/>
                  <a:pt x="3671" y="13568"/>
                </a:cubicBezTo>
                <a:cubicBezTo>
                  <a:pt x="3642" y="13520"/>
                  <a:pt x="3611" y="13456"/>
                  <a:pt x="3547" y="13444"/>
                </a:cubicBezTo>
                <a:cubicBezTo>
                  <a:pt x="3481" y="13432"/>
                  <a:pt x="3434" y="13465"/>
                  <a:pt x="3398" y="13519"/>
                </a:cubicBezTo>
                <a:cubicBezTo>
                  <a:pt x="3354" y="13587"/>
                  <a:pt x="3349" y="13639"/>
                  <a:pt x="3349" y="13717"/>
                </a:cubicBezTo>
                <a:cubicBezTo>
                  <a:pt x="3349" y="13784"/>
                  <a:pt x="3353" y="13828"/>
                  <a:pt x="3373" y="13891"/>
                </a:cubicBezTo>
              </a:path>
              <a:path w="8212" h="2804">
                <a:moveTo>
                  <a:pt x="4266" y="13692"/>
                </a:moveTo>
                <a:cubicBezTo>
                  <a:pt x="4255" y="13780"/>
                  <a:pt x="4262" y="13823"/>
                  <a:pt x="4266" y="13915"/>
                </a:cubicBezTo>
                <a:cubicBezTo>
                  <a:pt x="4266" y="13932"/>
                  <a:pt x="4266" y="13948"/>
                  <a:pt x="4266" y="13965"/>
                </a:cubicBezTo>
              </a:path>
              <a:path w="8212" h="2804">
                <a:moveTo>
                  <a:pt x="4118" y="13618"/>
                </a:moveTo>
                <a:cubicBezTo>
                  <a:pt x="4215" y="13633"/>
                  <a:pt x="4300" y="13649"/>
                  <a:pt x="4390" y="13667"/>
                </a:cubicBezTo>
              </a:path>
              <a:path w="8212" h="2804">
                <a:moveTo>
                  <a:pt x="4217" y="14114"/>
                </a:moveTo>
                <a:cubicBezTo>
                  <a:pt x="4307" y="14145"/>
                  <a:pt x="4377" y="14177"/>
                  <a:pt x="4465" y="14188"/>
                </a:cubicBezTo>
              </a:path>
              <a:path w="8212" h="2804">
                <a:moveTo>
                  <a:pt x="4589" y="13370"/>
                </a:moveTo>
                <a:cubicBezTo>
                  <a:pt x="4673" y="13379"/>
                  <a:pt x="4713" y="13338"/>
                  <a:pt x="4787" y="13419"/>
                </a:cubicBezTo>
                <a:cubicBezTo>
                  <a:pt x="4883" y="13523"/>
                  <a:pt x="4966" y="13781"/>
                  <a:pt x="4986" y="13915"/>
                </a:cubicBezTo>
                <a:cubicBezTo>
                  <a:pt x="5004" y="14035"/>
                  <a:pt x="5005" y="14167"/>
                  <a:pt x="5011" y="14288"/>
                </a:cubicBezTo>
                <a:cubicBezTo>
                  <a:pt x="5015" y="14369"/>
                  <a:pt x="5011" y="14454"/>
                  <a:pt x="5011" y="14536"/>
                </a:cubicBezTo>
                <a:cubicBezTo>
                  <a:pt x="5041" y="14462"/>
                  <a:pt x="5066" y="14394"/>
                  <a:pt x="5085" y="14312"/>
                </a:cubicBezTo>
                <a:cubicBezTo>
                  <a:pt x="5105" y="14223"/>
                  <a:pt x="5138" y="14132"/>
                  <a:pt x="5159" y="14039"/>
                </a:cubicBezTo>
                <a:cubicBezTo>
                  <a:pt x="5181" y="13942"/>
                  <a:pt x="5172" y="13841"/>
                  <a:pt x="5184" y="13742"/>
                </a:cubicBezTo>
                <a:cubicBezTo>
                  <a:pt x="5194" y="13664"/>
                  <a:pt x="5217" y="13571"/>
                  <a:pt x="5234" y="13494"/>
                </a:cubicBezTo>
                <a:cubicBezTo>
                  <a:pt x="5248" y="13431"/>
                  <a:pt x="5260" y="13376"/>
                  <a:pt x="5283" y="13320"/>
                </a:cubicBezTo>
                <a:cubicBezTo>
                  <a:pt x="5304" y="13268"/>
                  <a:pt x="5301" y="13209"/>
                  <a:pt x="5383" y="13196"/>
                </a:cubicBezTo>
                <a:cubicBezTo>
                  <a:pt x="5421" y="13190"/>
                  <a:pt x="5592" y="13234"/>
                  <a:pt x="5631" y="13246"/>
                </a:cubicBezTo>
                <a:cubicBezTo>
                  <a:pt x="5732" y="13276"/>
                  <a:pt x="5824" y="13303"/>
                  <a:pt x="5928" y="13320"/>
                </a:cubicBezTo>
                <a:cubicBezTo>
                  <a:pt x="6046" y="13339"/>
                  <a:pt x="6155" y="13367"/>
                  <a:pt x="6276" y="13370"/>
                </a:cubicBezTo>
                <a:cubicBezTo>
                  <a:pt x="6418" y="13374"/>
                  <a:pt x="6556" y="13401"/>
                  <a:pt x="6697" y="13419"/>
                </a:cubicBezTo>
                <a:cubicBezTo>
                  <a:pt x="6893" y="13444"/>
                  <a:pt x="7097" y="13476"/>
                  <a:pt x="7293" y="13494"/>
                </a:cubicBezTo>
                <a:cubicBezTo>
                  <a:pt x="7506" y="13513"/>
                  <a:pt x="7725" y="13519"/>
                  <a:pt x="7938" y="13543"/>
                </a:cubicBezTo>
                <a:cubicBezTo>
                  <a:pt x="8105" y="13562"/>
                  <a:pt x="8264" y="13568"/>
                  <a:pt x="8434" y="13568"/>
                </a:cubicBezTo>
                <a:cubicBezTo>
                  <a:pt x="8615" y="13568"/>
                  <a:pt x="8966" y="13573"/>
                  <a:pt x="9054" y="13593"/>
                </a:cubicBezTo>
              </a:path>
              <a:path w="8212" h="2804">
                <a:moveTo>
                  <a:pt x="5829" y="13543"/>
                </a:moveTo>
                <a:cubicBezTo>
                  <a:pt x="5802" y="13623"/>
                  <a:pt x="5798" y="13706"/>
                  <a:pt x="5779" y="13791"/>
                </a:cubicBezTo>
                <a:cubicBezTo>
                  <a:pt x="5756" y="13895"/>
                  <a:pt x="5722" y="14013"/>
                  <a:pt x="5705" y="14114"/>
                </a:cubicBezTo>
                <a:cubicBezTo>
                  <a:pt x="5691" y="14196"/>
                  <a:pt x="5680" y="14278"/>
                  <a:pt x="5680" y="14362"/>
                </a:cubicBezTo>
                <a:cubicBezTo>
                  <a:pt x="5680" y="14412"/>
                  <a:pt x="5680" y="14428"/>
                  <a:pt x="5680" y="14461"/>
                </a:cubicBezTo>
              </a:path>
              <a:path w="8212" h="2804">
                <a:moveTo>
                  <a:pt x="6052" y="13791"/>
                </a:moveTo>
                <a:cubicBezTo>
                  <a:pt x="6043" y="13896"/>
                  <a:pt x="5991" y="13987"/>
                  <a:pt x="5978" y="14089"/>
                </a:cubicBezTo>
                <a:cubicBezTo>
                  <a:pt x="5970" y="14153"/>
                  <a:pt x="5934" y="14246"/>
                  <a:pt x="5953" y="14312"/>
                </a:cubicBezTo>
                <a:cubicBezTo>
                  <a:pt x="5967" y="14362"/>
                  <a:pt x="6007" y="14432"/>
                  <a:pt x="6052" y="14461"/>
                </a:cubicBezTo>
                <a:cubicBezTo>
                  <a:pt x="6122" y="14506"/>
                  <a:pt x="6169" y="14486"/>
                  <a:pt x="6226" y="14436"/>
                </a:cubicBezTo>
                <a:cubicBezTo>
                  <a:pt x="6302" y="14369"/>
                  <a:pt x="6297" y="14325"/>
                  <a:pt x="6325" y="14238"/>
                </a:cubicBezTo>
                <a:cubicBezTo>
                  <a:pt x="6352" y="14154"/>
                  <a:pt x="6350" y="14080"/>
                  <a:pt x="6350" y="13990"/>
                </a:cubicBezTo>
                <a:cubicBezTo>
                  <a:pt x="6350" y="13894"/>
                  <a:pt x="6346" y="13849"/>
                  <a:pt x="6300" y="13767"/>
                </a:cubicBezTo>
                <a:cubicBezTo>
                  <a:pt x="6258" y="13692"/>
                  <a:pt x="6247" y="13648"/>
                  <a:pt x="6152" y="13692"/>
                </a:cubicBezTo>
                <a:cubicBezTo>
                  <a:pt x="6102" y="13716"/>
                  <a:pt x="6080" y="13769"/>
                  <a:pt x="6077" y="13816"/>
                </a:cubicBezTo>
                <a:cubicBezTo>
                  <a:pt x="6072" y="13897"/>
                  <a:pt x="6066" y="13914"/>
                  <a:pt x="6077" y="13990"/>
                </a:cubicBezTo>
              </a:path>
              <a:path w="8212" h="2804">
                <a:moveTo>
                  <a:pt x="6499" y="13543"/>
                </a:moveTo>
                <a:cubicBezTo>
                  <a:pt x="6588" y="13526"/>
                  <a:pt x="6601" y="13528"/>
                  <a:pt x="6672" y="13593"/>
                </a:cubicBezTo>
                <a:cubicBezTo>
                  <a:pt x="6721" y="13637"/>
                  <a:pt x="6737" y="13670"/>
                  <a:pt x="6672" y="13717"/>
                </a:cubicBezTo>
                <a:cubicBezTo>
                  <a:pt x="6643" y="13738"/>
                  <a:pt x="6560" y="13774"/>
                  <a:pt x="6548" y="13816"/>
                </a:cubicBezTo>
                <a:cubicBezTo>
                  <a:pt x="6536" y="13857"/>
                  <a:pt x="6607" y="13928"/>
                  <a:pt x="6648" y="13940"/>
                </a:cubicBezTo>
                <a:cubicBezTo>
                  <a:pt x="6664" y="13940"/>
                  <a:pt x="6681" y="13940"/>
                  <a:pt x="6697" y="13940"/>
                </a:cubicBezTo>
              </a:path>
              <a:path w="8212" h="2804">
                <a:moveTo>
                  <a:pt x="6722" y="14015"/>
                </a:moveTo>
                <a:cubicBezTo>
                  <a:pt x="6809" y="14033"/>
                  <a:pt x="6858" y="14039"/>
                  <a:pt x="6945" y="14039"/>
                </a:cubicBezTo>
              </a:path>
              <a:path w="8212" h="2804">
                <a:moveTo>
                  <a:pt x="7243" y="13791"/>
                </a:moveTo>
                <a:cubicBezTo>
                  <a:pt x="7203" y="13831"/>
                  <a:pt x="7181" y="13874"/>
                  <a:pt x="7144" y="13915"/>
                </a:cubicBezTo>
                <a:cubicBezTo>
                  <a:pt x="7097" y="13966"/>
                  <a:pt x="7073" y="14007"/>
                  <a:pt x="7119" y="14064"/>
                </a:cubicBezTo>
                <a:cubicBezTo>
                  <a:pt x="7164" y="14120"/>
                  <a:pt x="7223" y="14146"/>
                  <a:pt x="7293" y="14163"/>
                </a:cubicBezTo>
                <a:cubicBezTo>
                  <a:pt x="7301" y="14163"/>
                  <a:pt x="7309" y="14163"/>
                  <a:pt x="7317" y="14163"/>
                </a:cubicBezTo>
              </a:path>
              <a:path w="8212" h="2804">
                <a:moveTo>
                  <a:pt x="7491" y="13717"/>
                </a:moveTo>
                <a:cubicBezTo>
                  <a:pt x="7450" y="13799"/>
                  <a:pt x="7441" y="13858"/>
                  <a:pt x="7417" y="13940"/>
                </a:cubicBezTo>
                <a:cubicBezTo>
                  <a:pt x="7392" y="14026"/>
                  <a:pt x="7385" y="14102"/>
                  <a:pt x="7367" y="14188"/>
                </a:cubicBezTo>
                <a:cubicBezTo>
                  <a:pt x="7352" y="14261"/>
                  <a:pt x="7326" y="14341"/>
                  <a:pt x="7317" y="14412"/>
                </a:cubicBezTo>
                <a:cubicBezTo>
                  <a:pt x="7317" y="14478"/>
                  <a:pt x="7317" y="14495"/>
                  <a:pt x="7317" y="14536"/>
                </a:cubicBezTo>
              </a:path>
              <a:path w="8212" h="2804">
                <a:moveTo>
                  <a:pt x="7813" y="13816"/>
                </a:moveTo>
                <a:cubicBezTo>
                  <a:pt x="7766" y="13884"/>
                  <a:pt x="7726" y="13941"/>
                  <a:pt x="7689" y="14015"/>
                </a:cubicBezTo>
                <a:cubicBezTo>
                  <a:pt x="7657" y="14080"/>
                  <a:pt x="7619" y="14163"/>
                  <a:pt x="7640" y="14238"/>
                </a:cubicBezTo>
                <a:cubicBezTo>
                  <a:pt x="7661" y="14315"/>
                  <a:pt x="7687" y="14396"/>
                  <a:pt x="7739" y="14461"/>
                </a:cubicBezTo>
                <a:cubicBezTo>
                  <a:pt x="7781" y="14503"/>
                  <a:pt x="7789" y="14510"/>
                  <a:pt x="7813" y="14536"/>
                </a:cubicBezTo>
              </a:path>
              <a:path w="8212" h="2804">
                <a:moveTo>
                  <a:pt x="8086" y="13915"/>
                </a:moveTo>
                <a:cubicBezTo>
                  <a:pt x="8086" y="14015"/>
                  <a:pt x="8076" y="14095"/>
                  <a:pt x="8062" y="14188"/>
                </a:cubicBezTo>
                <a:cubicBezTo>
                  <a:pt x="8049" y="14275"/>
                  <a:pt x="8068" y="14356"/>
                  <a:pt x="8086" y="14436"/>
                </a:cubicBezTo>
                <a:cubicBezTo>
                  <a:pt x="8086" y="14444"/>
                  <a:pt x="8086" y="14453"/>
                  <a:pt x="8086" y="14461"/>
                </a:cubicBezTo>
              </a:path>
              <a:path w="8212" h="2804">
                <a:moveTo>
                  <a:pt x="8260" y="13692"/>
                </a:moveTo>
                <a:cubicBezTo>
                  <a:pt x="8340" y="13812"/>
                  <a:pt x="8359" y="13851"/>
                  <a:pt x="8359" y="13990"/>
                </a:cubicBezTo>
                <a:cubicBezTo>
                  <a:pt x="8359" y="14099"/>
                  <a:pt x="8352" y="14185"/>
                  <a:pt x="8310" y="14288"/>
                </a:cubicBezTo>
                <a:cubicBezTo>
                  <a:pt x="8280" y="14362"/>
                  <a:pt x="8239" y="14452"/>
                  <a:pt x="8186" y="14511"/>
                </a:cubicBezTo>
                <a:cubicBezTo>
                  <a:pt x="8178" y="14519"/>
                  <a:pt x="8169" y="14528"/>
                  <a:pt x="8161" y="14536"/>
                </a:cubicBezTo>
              </a:path>
              <a:path w="8212" h="2804">
                <a:moveTo>
                  <a:pt x="8582" y="13717"/>
                </a:moveTo>
                <a:cubicBezTo>
                  <a:pt x="8573" y="13779"/>
                  <a:pt x="8560" y="13830"/>
                  <a:pt x="8533" y="13891"/>
                </a:cubicBezTo>
                <a:cubicBezTo>
                  <a:pt x="8500" y="13964"/>
                  <a:pt x="8486" y="14058"/>
                  <a:pt x="8483" y="14139"/>
                </a:cubicBezTo>
                <a:cubicBezTo>
                  <a:pt x="8479" y="14222"/>
                  <a:pt x="8440" y="14301"/>
                  <a:pt x="8458" y="14387"/>
                </a:cubicBezTo>
                <a:cubicBezTo>
                  <a:pt x="8474" y="14463"/>
                  <a:pt x="8485" y="14525"/>
                  <a:pt x="8533" y="14585"/>
                </a:cubicBezTo>
              </a:path>
              <a:path w="8212" h="2804">
                <a:moveTo>
                  <a:pt x="8781" y="13816"/>
                </a:moveTo>
                <a:cubicBezTo>
                  <a:pt x="8846" y="13816"/>
                  <a:pt x="8911" y="13806"/>
                  <a:pt x="8954" y="13866"/>
                </a:cubicBezTo>
                <a:cubicBezTo>
                  <a:pt x="9007" y="13940"/>
                  <a:pt x="9007" y="13990"/>
                  <a:pt x="8979" y="14064"/>
                </a:cubicBezTo>
                <a:cubicBezTo>
                  <a:pt x="8945" y="14153"/>
                  <a:pt x="8924" y="14180"/>
                  <a:pt x="8855" y="14238"/>
                </a:cubicBezTo>
                <a:cubicBezTo>
                  <a:pt x="8834" y="14256"/>
                  <a:pt x="8763" y="14311"/>
                  <a:pt x="8756" y="14337"/>
                </a:cubicBezTo>
                <a:cubicBezTo>
                  <a:pt x="8740" y="14394"/>
                  <a:pt x="8757" y="14475"/>
                  <a:pt x="8806" y="14511"/>
                </a:cubicBezTo>
                <a:cubicBezTo>
                  <a:pt x="8864" y="14553"/>
                  <a:pt x="8914" y="14560"/>
                  <a:pt x="8979" y="14585"/>
                </a:cubicBezTo>
              </a:path>
              <a:path w="8212" h="2804">
                <a:moveTo>
                  <a:pt x="9327" y="13891"/>
                </a:moveTo>
                <a:cubicBezTo>
                  <a:pt x="9270" y="13848"/>
                  <a:pt x="9239" y="13812"/>
                  <a:pt x="9178" y="13866"/>
                </a:cubicBezTo>
                <a:cubicBezTo>
                  <a:pt x="9116" y="13922"/>
                  <a:pt x="9107" y="13955"/>
                  <a:pt x="9103" y="14039"/>
                </a:cubicBezTo>
                <a:cubicBezTo>
                  <a:pt x="9100" y="14096"/>
                  <a:pt x="9124" y="14114"/>
                  <a:pt x="9153" y="14163"/>
                </a:cubicBezTo>
                <a:cubicBezTo>
                  <a:pt x="9205" y="14134"/>
                  <a:pt x="9235" y="14106"/>
                  <a:pt x="9277" y="14064"/>
                </a:cubicBezTo>
                <a:cubicBezTo>
                  <a:pt x="9313" y="14028"/>
                  <a:pt x="9326" y="14010"/>
                  <a:pt x="9351" y="13965"/>
                </a:cubicBezTo>
                <a:cubicBezTo>
                  <a:pt x="9351" y="14070"/>
                  <a:pt x="9360" y="14165"/>
                  <a:pt x="9376" y="14263"/>
                </a:cubicBezTo>
                <a:cubicBezTo>
                  <a:pt x="9385" y="14315"/>
                  <a:pt x="9394" y="14359"/>
                  <a:pt x="9401" y="14412"/>
                </a:cubicBezTo>
              </a:path>
              <a:path w="8212" h="2804">
                <a:moveTo>
                  <a:pt x="9525" y="13643"/>
                </a:moveTo>
                <a:cubicBezTo>
                  <a:pt x="9600" y="13804"/>
                  <a:pt x="9616" y="13944"/>
                  <a:pt x="9649" y="14114"/>
                </a:cubicBezTo>
                <a:cubicBezTo>
                  <a:pt x="9667" y="14207"/>
                  <a:pt x="9663" y="14274"/>
                  <a:pt x="9624" y="14362"/>
                </a:cubicBezTo>
                <a:cubicBezTo>
                  <a:pt x="9609" y="14396"/>
                  <a:pt x="9571" y="14501"/>
                  <a:pt x="9525" y="14511"/>
                </a:cubicBezTo>
                <a:cubicBezTo>
                  <a:pt x="9464" y="14524"/>
                  <a:pt x="9421" y="14513"/>
                  <a:pt x="9376" y="14486"/>
                </a:cubicBezTo>
              </a:path>
              <a:path w="8212" h="2804">
                <a:moveTo>
                  <a:pt x="4118" y="15056"/>
                </a:moveTo>
                <a:cubicBezTo>
                  <a:pt x="4190" y="15037"/>
                  <a:pt x="4251" y="15024"/>
                  <a:pt x="4316" y="15056"/>
                </a:cubicBezTo>
                <a:cubicBezTo>
                  <a:pt x="4343" y="15070"/>
                  <a:pt x="4430" y="15121"/>
                  <a:pt x="4440" y="15156"/>
                </a:cubicBezTo>
                <a:cubicBezTo>
                  <a:pt x="4455" y="15208"/>
                  <a:pt x="4481" y="15297"/>
                  <a:pt x="4465" y="15354"/>
                </a:cubicBezTo>
                <a:cubicBezTo>
                  <a:pt x="4452" y="15401"/>
                  <a:pt x="4407" y="15499"/>
                  <a:pt x="4366" y="15528"/>
                </a:cubicBezTo>
                <a:cubicBezTo>
                  <a:pt x="4337" y="15549"/>
                  <a:pt x="4218" y="15605"/>
                  <a:pt x="4192" y="15602"/>
                </a:cubicBezTo>
                <a:cubicBezTo>
                  <a:pt x="4117" y="15592"/>
                  <a:pt x="4048" y="15523"/>
                  <a:pt x="4118" y="15453"/>
                </a:cubicBezTo>
                <a:cubicBezTo>
                  <a:pt x="4194" y="15377"/>
                  <a:pt x="4229" y="15454"/>
                  <a:pt x="4266" y="15503"/>
                </a:cubicBezTo>
                <a:cubicBezTo>
                  <a:pt x="4304" y="15554"/>
                  <a:pt x="4288" y="15615"/>
                  <a:pt x="4316" y="15677"/>
                </a:cubicBezTo>
                <a:cubicBezTo>
                  <a:pt x="4351" y="15754"/>
                  <a:pt x="4375" y="15803"/>
                  <a:pt x="4440" y="15850"/>
                </a:cubicBezTo>
              </a:path>
              <a:path w="8212" h="2804">
                <a:moveTo>
                  <a:pt x="4862" y="15205"/>
                </a:moveTo>
                <a:cubicBezTo>
                  <a:pt x="4816" y="15251"/>
                  <a:pt x="4791" y="15295"/>
                  <a:pt x="4762" y="15354"/>
                </a:cubicBezTo>
                <a:cubicBezTo>
                  <a:pt x="4715" y="15449"/>
                  <a:pt x="4713" y="15523"/>
                  <a:pt x="4713" y="15627"/>
                </a:cubicBezTo>
                <a:cubicBezTo>
                  <a:pt x="4713" y="15717"/>
                  <a:pt x="4747" y="15771"/>
                  <a:pt x="4787" y="15850"/>
                </a:cubicBezTo>
              </a:path>
              <a:path w="8212" h="2804">
                <a:moveTo>
                  <a:pt x="5209" y="15230"/>
                </a:moveTo>
                <a:cubicBezTo>
                  <a:pt x="5209" y="15445"/>
                  <a:pt x="5209" y="15660"/>
                  <a:pt x="5209" y="15875"/>
                </a:cubicBezTo>
              </a:path>
              <a:path w="8212" h="2804">
                <a:moveTo>
                  <a:pt x="5507" y="15205"/>
                </a:moveTo>
                <a:cubicBezTo>
                  <a:pt x="5552" y="15327"/>
                  <a:pt x="5598" y="15466"/>
                  <a:pt x="5581" y="15602"/>
                </a:cubicBezTo>
                <a:cubicBezTo>
                  <a:pt x="5567" y="15716"/>
                  <a:pt x="5539" y="15824"/>
                  <a:pt x="5482" y="15925"/>
                </a:cubicBezTo>
                <a:cubicBezTo>
                  <a:pt x="5465" y="15950"/>
                  <a:pt x="5449" y="15974"/>
                  <a:pt x="5432" y="159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22"/>
          <p:cNvSpPr/>
          <p:nvPr/>
        </p:nvSpPr>
        <p:spPr>
          <a:xfrm>
            <a:off x="3840120" y="4527720"/>
            <a:ext cx="4518000" cy="1169640"/>
          </a:xfrm>
          <a:custGeom>
            <a:avLst/>
            <a:gdLst/>
            <a:ahLst/>
            <a:rect l="l" t="t" r="r" b="b"/>
            <a:pathLst>
              <a:path w="12552" h="3250">
                <a:moveTo>
                  <a:pt x="10765" y="14312"/>
                </a:moveTo>
                <a:cubicBezTo>
                  <a:pt x="10849" y="14312"/>
                  <a:pt x="10918" y="14316"/>
                  <a:pt x="10988" y="14337"/>
                </a:cubicBezTo>
                <a:cubicBezTo>
                  <a:pt x="10996" y="14337"/>
                  <a:pt x="11005" y="14337"/>
                  <a:pt x="11013" y="14337"/>
                </a:cubicBezTo>
              </a:path>
              <a:path w="12552" h="3250">
                <a:moveTo>
                  <a:pt x="10666" y="14833"/>
                </a:moveTo>
                <a:cubicBezTo>
                  <a:pt x="10739" y="14844"/>
                  <a:pt x="10771" y="14846"/>
                  <a:pt x="10840" y="14833"/>
                </a:cubicBezTo>
                <a:cubicBezTo>
                  <a:pt x="10856" y="14833"/>
                  <a:pt x="10873" y="14833"/>
                  <a:pt x="10889" y="14833"/>
                </a:cubicBezTo>
              </a:path>
              <a:path w="12552" h="3250">
                <a:moveTo>
                  <a:pt x="11460" y="13940"/>
                </a:moveTo>
                <a:cubicBezTo>
                  <a:pt x="11547" y="13911"/>
                  <a:pt x="11643" y="13877"/>
                  <a:pt x="11733" y="13866"/>
                </a:cubicBezTo>
                <a:cubicBezTo>
                  <a:pt x="11804" y="13858"/>
                  <a:pt x="11846" y="13856"/>
                  <a:pt x="11906" y="13841"/>
                </a:cubicBezTo>
              </a:path>
              <a:path w="12552" h="3250">
                <a:moveTo>
                  <a:pt x="12229" y="13395"/>
                </a:moveTo>
                <a:cubicBezTo>
                  <a:pt x="12229" y="13526"/>
                  <a:pt x="12220" y="13573"/>
                  <a:pt x="12179" y="13692"/>
                </a:cubicBezTo>
                <a:cubicBezTo>
                  <a:pt x="12135" y="13819"/>
                  <a:pt x="12147" y="13958"/>
                  <a:pt x="12105" y="14089"/>
                </a:cubicBezTo>
                <a:cubicBezTo>
                  <a:pt x="12085" y="14150"/>
                  <a:pt x="12047" y="14254"/>
                  <a:pt x="12105" y="14312"/>
                </a:cubicBezTo>
                <a:cubicBezTo>
                  <a:pt x="12113" y="14312"/>
                  <a:pt x="12121" y="14312"/>
                  <a:pt x="12129" y="14312"/>
                </a:cubicBezTo>
              </a:path>
              <a:path w="12552" h="3250">
                <a:moveTo>
                  <a:pt x="12551" y="13494"/>
                </a:moveTo>
                <a:cubicBezTo>
                  <a:pt x="12526" y="13560"/>
                  <a:pt x="12523" y="13628"/>
                  <a:pt x="12502" y="13692"/>
                </a:cubicBezTo>
                <a:cubicBezTo>
                  <a:pt x="12471" y="13786"/>
                  <a:pt x="12452" y="13839"/>
                  <a:pt x="12452" y="13940"/>
                </a:cubicBezTo>
                <a:cubicBezTo>
                  <a:pt x="12452" y="14034"/>
                  <a:pt x="12439" y="14127"/>
                  <a:pt x="12477" y="14213"/>
                </a:cubicBezTo>
                <a:cubicBezTo>
                  <a:pt x="12522" y="14315"/>
                  <a:pt x="12585" y="14252"/>
                  <a:pt x="12650" y="14213"/>
                </a:cubicBezTo>
                <a:cubicBezTo>
                  <a:pt x="12719" y="14171"/>
                  <a:pt x="12758" y="14136"/>
                  <a:pt x="12799" y="14064"/>
                </a:cubicBezTo>
                <a:cubicBezTo>
                  <a:pt x="12833" y="14004"/>
                  <a:pt x="12863" y="13932"/>
                  <a:pt x="12874" y="13866"/>
                </a:cubicBezTo>
                <a:cubicBezTo>
                  <a:pt x="12887" y="13789"/>
                  <a:pt x="12882" y="13704"/>
                  <a:pt x="12849" y="13643"/>
                </a:cubicBezTo>
                <a:cubicBezTo>
                  <a:pt x="12822" y="13592"/>
                  <a:pt x="12788" y="13533"/>
                  <a:pt x="12725" y="13519"/>
                </a:cubicBezTo>
                <a:cubicBezTo>
                  <a:pt x="12646" y="13501"/>
                  <a:pt x="12601" y="13519"/>
                  <a:pt x="12526" y="13469"/>
                </a:cubicBezTo>
              </a:path>
              <a:path w="12552" h="3250">
                <a:moveTo>
                  <a:pt x="13370" y="13320"/>
                </a:moveTo>
                <a:cubicBezTo>
                  <a:pt x="13393" y="13436"/>
                  <a:pt x="13388" y="13487"/>
                  <a:pt x="13370" y="13593"/>
                </a:cubicBezTo>
                <a:cubicBezTo>
                  <a:pt x="13358" y="13664"/>
                  <a:pt x="13354" y="13730"/>
                  <a:pt x="13370" y="13791"/>
                </a:cubicBezTo>
              </a:path>
              <a:path w="12552" h="3250">
                <a:moveTo>
                  <a:pt x="13171" y="13618"/>
                </a:moveTo>
                <a:cubicBezTo>
                  <a:pt x="13297" y="13555"/>
                  <a:pt x="13299" y="13548"/>
                  <a:pt x="13419" y="13568"/>
                </a:cubicBezTo>
                <a:cubicBezTo>
                  <a:pt x="13436" y="13568"/>
                  <a:pt x="13452" y="13568"/>
                  <a:pt x="13469" y="13568"/>
                </a:cubicBezTo>
              </a:path>
              <a:path w="12552" h="3250">
                <a:moveTo>
                  <a:pt x="13295" y="13990"/>
                </a:moveTo>
                <a:cubicBezTo>
                  <a:pt x="13343" y="14014"/>
                  <a:pt x="13358" y="14022"/>
                  <a:pt x="13395" y="14015"/>
                </a:cubicBezTo>
              </a:path>
              <a:path w="12552" h="3250">
                <a:moveTo>
                  <a:pt x="13767" y="13568"/>
                </a:moveTo>
                <a:cubicBezTo>
                  <a:pt x="13767" y="13791"/>
                  <a:pt x="13762" y="14030"/>
                  <a:pt x="13791" y="14238"/>
                </a:cubicBezTo>
                <a:cubicBezTo>
                  <a:pt x="13791" y="14255"/>
                  <a:pt x="13791" y="14271"/>
                  <a:pt x="13791" y="14288"/>
                </a:cubicBezTo>
                <a:cubicBezTo>
                  <a:pt x="13803" y="14233"/>
                  <a:pt x="13830" y="14152"/>
                  <a:pt x="13841" y="14089"/>
                </a:cubicBezTo>
                <a:cubicBezTo>
                  <a:pt x="13879" y="13863"/>
                  <a:pt x="13829" y="13618"/>
                  <a:pt x="13866" y="13395"/>
                </a:cubicBezTo>
                <a:cubicBezTo>
                  <a:pt x="13879" y="13315"/>
                  <a:pt x="13868" y="13270"/>
                  <a:pt x="13915" y="13196"/>
                </a:cubicBezTo>
                <a:cubicBezTo>
                  <a:pt x="13960" y="13125"/>
                  <a:pt x="13994" y="13141"/>
                  <a:pt x="14064" y="13122"/>
                </a:cubicBezTo>
                <a:cubicBezTo>
                  <a:pt x="14113" y="13109"/>
                  <a:pt x="14184" y="13112"/>
                  <a:pt x="14238" y="13097"/>
                </a:cubicBezTo>
                <a:cubicBezTo>
                  <a:pt x="14323" y="13073"/>
                  <a:pt x="14400" y="13089"/>
                  <a:pt x="14486" y="13072"/>
                </a:cubicBezTo>
                <a:cubicBezTo>
                  <a:pt x="14605" y="13049"/>
                  <a:pt x="14710" y="13014"/>
                  <a:pt x="14833" y="12998"/>
                </a:cubicBezTo>
                <a:cubicBezTo>
                  <a:pt x="14901" y="12989"/>
                  <a:pt x="14991" y="12991"/>
                  <a:pt x="15056" y="12973"/>
                </a:cubicBezTo>
                <a:cubicBezTo>
                  <a:pt x="15133" y="12951"/>
                  <a:pt x="15197" y="12948"/>
                  <a:pt x="15280" y="12948"/>
                </a:cubicBezTo>
              </a:path>
              <a:path w="12552" h="3250">
                <a:moveTo>
                  <a:pt x="14139" y="13593"/>
                </a:moveTo>
                <a:cubicBezTo>
                  <a:pt x="14212" y="13560"/>
                  <a:pt x="14258" y="13550"/>
                  <a:pt x="14337" y="13543"/>
                </a:cubicBezTo>
              </a:path>
              <a:path w="12552" h="3250">
                <a:moveTo>
                  <a:pt x="14610" y="13370"/>
                </a:moveTo>
                <a:cubicBezTo>
                  <a:pt x="14592" y="13497"/>
                  <a:pt x="14558" y="13597"/>
                  <a:pt x="14536" y="13717"/>
                </a:cubicBezTo>
                <a:cubicBezTo>
                  <a:pt x="14522" y="13792"/>
                  <a:pt x="14511" y="13863"/>
                  <a:pt x="14511" y="13940"/>
                </a:cubicBezTo>
                <a:cubicBezTo>
                  <a:pt x="14511" y="13997"/>
                  <a:pt x="14500" y="14016"/>
                  <a:pt x="14536" y="14039"/>
                </a:cubicBezTo>
              </a:path>
              <a:path w="12552" h="3250">
                <a:moveTo>
                  <a:pt x="14883" y="13271"/>
                </a:moveTo>
                <a:cubicBezTo>
                  <a:pt x="14866" y="13386"/>
                  <a:pt x="14842" y="13522"/>
                  <a:pt x="14808" y="13643"/>
                </a:cubicBezTo>
                <a:cubicBezTo>
                  <a:pt x="14787" y="13720"/>
                  <a:pt x="14784" y="13782"/>
                  <a:pt x="14784" y="13866"/>
                </a:cubicBezTo>
                <a:cubicBezTo>
                  <a:pt x="14784" y="13911"/>
                  <a:pt x="14805" y="14020"/>
                  <a:pt x="14858" y="14039"/>
                </a:cubicBezTo>
                <a:cubicBezTo>
                  <a:pt x="14915" y="14059"/>
                  <a:pt x="14994" y="14001"/>
                  <a:pt x="15032" y="13965"/>
                </a:cubicBezTo>
                <a:cubicBezTo>
                  <a:pt x="15083" y="13917"/>
                  <a:pt x="15111" y="13867"/>
                  <a:pt x="15156" y="13816"/>
                </a:cubicBezTo>
                <a:cubicBezTo>
                  <a:pt x="15194" y="13773"/>
                  <a:pt x="15198" y="13728"/>
                  <a:pt x="15180" y="13692"/>
                </a:cubicBezTo>
                <a:cubicBezTo>
                  <a:pt x="15133" y="13676"/>
                  <a:pt x="15038" y="13677"/>
                  <a:pt x="14982" y="13717"/>
                </a:cubicBezTo>
                <a:cubicBezTo>
                  <a:pt x="14901" y="13775"/>
                  <a:pt x="14832" y="13818"/>
                  <a:pt x="14759" y="13891"/>
                </a:cubicBezTo>
                <a:cubicBezTo>
                  <a:pt x="14706" y="13944"/>
                  <a:pt x="14674" y="13991"/>
                  <a:pt x="14660" y="14064"/>
                </a:cubicBezTo>
              </a:path>
              <a:path w="12552" h="3250">
                <a:moveTo>
                  <a:pt x="12229" y="14585"/>
                </a:moveTo>
                <a:cubicBezTo>
                  <a:pt x="12272" y="14588"/>
                  <a:pt x="12377" y="14612"/>
                  <a:pt x="12402" y="14610"/>
                </a:cubicBezTo>
                <a:cubicBezTo>
                  <a:pt x="12493" y="14603"/>
                  <a:pt x="12610" y="14580"/>
                  <a:pt x="12700" y="14560"/>
                </a:cubicBezTo>
                <a:cubicBezTo>
                  <a:pt x="12782" y="14542"/>
                  <a:pt x="12868" y="14512"/>
                  <a:pt x="12948" y="14486"/>
                </a:cubicBezTo>
                <a:cubicBezTo>
                  <a:pt x="13187" y="14408"/>
                  <a:pt x="13424" y="14327"/>
                  <a:pt x="13667" y="14263"/>
                </a:cubicBezTo>
                <a:cubicBezTo>
                  <a:pt x="13824" y="14222"/>
                  <a:pt x="13981" y="14191"/>
                  <a:pt x="14139" y="14163"/>
                </a:cubicBezTo>
                <a:cubicBezTo>
                  <a:pt x="14264" y="14141"/>
                  <a:pt x="14385" y="14118"/>
                  <a:pt x="14511" y="14114"/>
                </a:cubicBezTo>
                <a:cubicBezTo>
                  <a:pt x="14622" y="14110"/>
                  <a:pt x="14724" y="14092"/>
                  <a:pt x="14833" y="14089"/>
                </a:cubicBezTo>
                <a:cubicBezTo>
                  <a:pt x="14938" y="14086"/>
                  <a:pt x="15024" y="14064"/>
                  <a:pt x="15131" y="14064"/>
                </a:cubicBezTo>
                <a:cubicBezTo>
                  <a:pt x="15197" y="14064"/>
                  <a:pt x="15263" y="14064"/>
                  <a:pt x="15329" y="14064"/>
                </a:cubicBezTo>
              </a:path>
              <a:path w="12552" h="3250">
                <a:moveTo>
                  <a:pt x="13345" y="14684"/>
                </a:moveTo>
                <a:cubicBezTo>
                  <a:pt x="13356" y="14611"/>
                  <a:pt x="13375" y="14596"/>
                  <a:pt x="13444" y="14560"/>
                </a:cubicBezTo>
                <a:cubicBezTo>
                  <a:pt x="13508" y="14526"/>
                  <a:pt x="13549" y="14530"/>
                  <a:pt x="13593" y="14536"/>
                </a:cubicBezTo>
                <a:cubicBezTo>
                  <a:pt x="13704" y="14552"/>
                  <a:pt x="13676" y="14574"/>
                  <a:pt x="13717" y="14660"/>
                </a:cubicBezTo>
                <a:cubicBezTo>
                  <a:pt x="13760" y="14750"/>
                  <a:pt x="13706" y="14808"/>
                  <a:pt x="13692" y="14908"/>
                </a:cubicBezTo>
                <a:cubicBezTo>
                  <a:pt x="13678" y="15004"/>
                  <a:pt x="13650" y="15084"/>
                  <a:pt x="13618" y="15180"/>
                </a:cubicBezTo>
                <a:cubicBezTo>
                  <a:pt x="13587" y="15272"/>
                  <a:pt x="13553" y="15362"/>
                  <a:pt x="13519" y="15453"/>
                </a:cubicBezTo>
                <a:cubicBezTo>
                  <a:pt x="13490" y="15531"/>
                  <a:pt x="13494" y="15606"/>
                  <a:pt x="13444" y="15677"/>
                </a:cubicBezTo>
                <a:cubicBezTo>
                  <a:pt x="13409" y="15726"/>
                  <a:pt x="13372" y="15800"/>
                  <a:pt x="13295" y="15776"/>
                </a:cubicBezTo>
                <a:cubicBezTo>
                  <a:pt x="13220" y="15753"/>
                  <a:pt x="13246" y="15604"/>
                  <a:pt x="13246" y="15553"/>
                </a:cubicBezTo>
                <a:cubicBezTo>
                  <a:pt x="13246" y="15496"/>
                  <a:pt x="13271" y="15406"/>
                  <a:pt x="13295" y="15354"/>
                </a:cubicBezTo>
                <a:cubicBezTo>
                  <a:pt x="13321" y="15297"/>
                  <a:pt x="13391" y="15283"/>
                  <a:pt x="13444" y="15280"/>
                </a:cubicBezTo>
                <a:cubicBezTo>
                  <a:pt x="13504" y="15277"/>
                  <a:pt x="13549" y="15314"/>
                  <a:pt x="13593" y="15354"/>
                </a:cubicBezTo>
                <a:cubicBezTo>
                  <a:pt x="13631" y="15388"/>
                  <a:pt x="13641" y="15476"/>
                  <a:pt x="13667" y="15528"/>
                </a:cubicBezTo>
                <a:cubicBezTo>
                  <a:pt x="13702" y="15599"/>
                  <a:pt x="13712" y="15686"/>
                  <a:pt x="13742" y="15751"/>
                </a:cubicBezTo>
                <a:cubicBezTo>
                  <a:pt x="13772" y="15781"/>
                  <a:pt x="13783" y="15795"/>
                  <a:pt x="13791" y="15825"/>
                </a:cubicBezTo>
              </a:path>
              <a:path w="12552" h="3250">
                <a:moveTo>
                  <a:pt x="15205" y="14486"/>
                </a:moveTo>
                <a:cubicBezTo>
                  <a:pt x="15278" y="14496"/>
                  <a:pt x="15326" y="14541"/>
                  <a:pt x="15404" y="14560"/>
                </a:cubicBezTo>
                <a:cubicBezTo>
                  <a:pt x="15412" y="14560"/>
                  <a:pt x="15421" y="14560"/>
                  <a:pt x="15429" y="14560"/>
                </a:cubicBezTo>
              </a:path>
              <a:path w="12552" h="3250">
                <a:moveTo>
                  <a:pt x="15503" y="14089"/>
                </a:moveTo>
                <a:cubicBezTo>
                  <a:pt x="15495" y="14081"/>
                  <a:pt x="15486" y="14072"/>
                  <a:pt x="15478" y="14064"/>
                </a:cubicBezTo>
                <a:cubicBezTo>
                  <a:pt x="15457" y="14106"/>
                  <a:pt x="15485" y="14151"/>
                  <a:pt x="15553" y="14163"/>
                </a:cubicBezTo>
                <a:cubicBezTo>
                  <a:pt x="15615" y="14174"/>
                  <a:pt x="15667" y="14146"/>
                  <a:pt x="15726" y="14139"/>
                </a:cubicBezTo>
              </a:path>
              <a:path w="12552" h="3250">
                <a:moveTo>
                  <a:pt x="16371" y="13568"/>
                </a:moveTo>
                <a:cubicBezTo>
                  <a:pt x="16420" y="13519"/>
                  <a:pt x="16448" y="13498"/>
                  <a:pt x="16520" y="13494"/>
                </a:cubicBezTo>
                <a:cubicBezTo>
                  <a:pt x="16589" y="13490"/>
                  <a:pt x="16664" y="13514"/>
                  <a:pt x="16718" y="13543"/>
                </a:cubicBezTo>
                <a:cubicBezTo>
                  <a:pt x="16763" y="13567"/>
                  <a:pt x="16783" y="13583"/>
                  <a:pt x="16818" y="13618"/>
                </a:cubicBezTo>
              </a:path>
              <a:path w="12552" h="3250">
                <a:moveTo>
                  <a:pt x="17413" y="13022"/>
                </a:moveTo>
                <a:cubicBezTo>
                  <a:pt x="17374" y="13100"/>
                  <a:pt x="17368" y="13165"/>
                  <a:pt x="17338" y="13246"/>
                </a:cubicBezTo>
                <a:cubicBezTo>
                  <a:pt x="17305" y="13333"/>
                  <a:pt x="17253" y="13426"/>
                  <a:pt x="17239" y="13519"/>
                </a:cubicBezTo>
                <a:cubicBezTo>
                  <a:pt x="17225" y="13612"/>
                  <a:pt x="17179" y="13697"/>
                  <a:pt x="17165" y="13791"/>
                </a:cubicBezTo>
                <a:cubicBezTo>
                  <a:pt x="17152" y="13876"/>
                  <a:pt x="17140" y="13951"/>
                  <a:pt x="17140" y="14039"/>
                </a:cubicBezTo>
                <a:cubicBezTo>
                  <a:pt x="17140" y="14081"/>
                  <a:pt x="17140" y="14089"/>
                  <a:pt x="17140" y="14114"/>
                </a:cubicBezTo>
              </a:path>
              <a:path w="12552" h="3250">
                <a:moveTo>
                  <a:pt x="17537" y="13171"/>
                </a:moveTo>
                <a:cubicBezTo>
                  <a:pt x="17509" y="13244"/>
                  <a:pt x="17506" y="13319"/>
                  <a:pt x="17487" y="13395"/>
                </a:cubicBezTo>
                <a:cubicBezTo>
                  <a:pt x="17464" y="13484"/>
                  <a:pt x="17462" y="13550"/>
                  <a:pt x="17462" y="13643"/>
                </a:cubicBezTo>
                <a:cubicBezTo>
                  <a:pt x="17462" y="13718"/>
                  <a:pt x="17461" y="13823"/>
                  <a:pt x="17487" y="13891"/>
                </a:cubicBezTo>
                <a:cubicBezTo>
                  <a:pt x="17505" y="13939"/>
                  <a:pt x="17521" y="13975"/>
                  <a:pt x="17562" y="14015"/>
                </a:cubicBezTo>
                <a:cubicBezTo>
                  <a:pt x="17614" y="14065"/>
                  <a:pt x="17683" y="14026"/>
                  <a:pt x="17735" y="13990"/>
                </a:cubicBezTo>
                <a:cubicBezTo>
                  <a:pt x="17784" y="13956"/>
                  <a:pt x="17830" y="13868"/>
                  <a:pt x="17859" y="13816"/>
                </a:cubicBezTo>
                <a:cubicBezTo>
                  <a:pt x="17898" y="13747"/>
                  <a:pt x="17907" y="13647"/>
                  <a:pt x="17909" y="13568"/>
                </a:cubicBezTo>
                <a:cubicBezTo>
                  <a:pt x="17913" y="13445"/>
                  <a:pt x="17887" y="13399"/>
                  <a:pt x="17835" y="13295"/>
                </a:cubicBezTo>
                <a:cubicBezTo>
                  <a:pt x="17819" y="13262"/>
                  <a:pt x="17770" y="13159"/>
                  <a:pt x="17735" y="13146"/>
                </a:cubicBezTo>
                <a:cubicBezTo>
                  <a:pt x="17667" y="13121"/>
                  <a:pt x="17619" y="13135"/>
                  <a:pt x="17562" y="13146"/>
                </a:cubicBezTo>
                <a:cubicBezTo>
                  <a:pt x="17520" y="13146"/>
                  <a:pt x="17512" y="13146"/>
                  <a:pt x="17487" y="13146"/>
                </a:cubicBezTo>
              </a:path>
              <a:path w="12552" h="3250">
                <a:moveTo>
                  <a:pt x="18355" y="12874"/>
                </a:moveTo>
                <a:cubicBezTo>
                  <a:pt x="18355" y="12982"/>
                  <a:pt x="18336" y="13068"/>
                  <a:pt x="18331" y="13171"/>
                </a:cubicBezTo>
                <a:cubicBezTo>
                  <a:pt x="18331" y="13221"/>
                  <a:pt x="18331" y="13238"/>
                  <a:pt x="18331" y="13271"/>
                </a:cubicBezTo>
              </a:path>
              <a:path w="12552" h="3250">
                <a:moveTo>
                  <a:pt x="18058" y="13122"/>
                </a:moveTo>
                <a:cubicBezTo>
                  <a:pt x="18135" y="13093"/>
                  <a:pt x="18196" y="13097"/>
                  <a:pt x="18281" y="13097"/>
                </a:cubicBezTo>
                <a:cubicBezTo>
                  <a:pt x="18349" y="13097"/>
                  <a:pt x="18368" y="13094"/>
                  <a:pt x="18405" y="13122"/>
                </a:cubicBezTo>
              </a:path>
              <a:path w="12552" h="3250">
                <a:moveTo>
                  <a:pt x="18256" y="13543"/>
                </a:moveTo>
                <a:cubicBezTo>
                  <a:pt x="18338" y="13543"/>
                  <a:pt x="18399" y="13564"/>
                  <a:pt x="18479" y="13568"/>
                </a:cubicBezTo>
                <a:cubicBezTo>
                  <a:pt x="18496" y="13568"/>
                  <a:pt x="18512" y="13568"/>
                  <a:pt x="18529" y="13568"/>
                </a:cubicBezTo>
              </a:path>
              <a:path w="12552" h="3250">
                <a:moveTo>
                  <a:pt x="16917" y="14039"/>
                </a:moveTo>
                <a:cubicBezTo>
                  <a:pt x="16998" y="14066"/>
                  <a:pt x="17060" y="14072"/>
                  <a:pt x="17140" y="14089"/>
                </a:cubicBezTo>
                <a:cubicBezTo>
                  <a:pt x="17192" y="14100"/>
                  <a:pt x="17229" y="14136"/>
                  <a:pt x="17289" y="14139"/>
                </a:cubicBezTo>
                <a:cubicBezTo>
                  <a:pt x="17373" y="14143"/>
                  <a:pt x="17448" y="14163"/>
                  <a:pt x="17537" y="14163"/>
                </a:cubicBezTo>
                <a:cubicBezTo>
                  <a:pt x="17650" y="14163"/>
                  <a:pt x="17751" y="14151"/>
                  <a:pt x="17859" y="14139"/>
                </a:cubicBezTo>
                <a:cubicBezTo>
                  <a:pt x="17954" y="14128"/>
                  <a:pt x="18040" y="14132"/>
                  <a:pt x="18132" y="14114"/>
                </a:cubicBezTo>
                <a:cubicBezTo>
                  <a:pt x="18271" y="14087"/>
                  <a:pt x="18416" y="14094"/>
                  <a:pt x="18554" y="14064"/>
                </a:cubicBezTo>
                <a:cubicBezTo>
                  <a:pt x="18674" y="14038"/>
                  <a:pt x="18803" y="14006"/>
                  <a:pt x="18926" y="13990"/>
                </a:cubicBezTo>
                <a:cubicBezTo>
                  <a:pt x="19082" y="13970"/>
                  <a:pt x="19357" y="13954"/>
                  <a:pt x="19496" y="14015"/>
                </a:cubicBezTo>
                <a:cubicBezTo>
                  <a:pt x="19538" y="14033"/>
                  <a:pt x="19581" y="14050"/>
                  <a:pt x="19621" y="14064"/>
                </a:cubicBezTo>
              </a:path>
              <a:path w="12552" h="3250">
                <a:moveTo>
                  <a:pt x="17884" y="14312"/>
                </a:moveTo>
                <a:cubicBezTo>
                  <a:pt x="17930" y="14267"/>
                  <a:pt x="17943" y="14242"/>
                  <a:pt x="18008" y="14238"/>
                </a:cubicBezTo>
                <a:cubicBezTo>
                  <a:pt x="18119" y="14231"/>
                  <a:pt x="18127" y="14294"/>
                  <a:pt x="18132" y="14387"/>
                </a:cubicBezTo>
                <a:cubicBezTo>
                  <a:pt x="18137" y="14493"/>
                  <a:pt x="18094" y="14568"/>
                  <a:pt x="18058" y="14660"/>
                </a:cubicBezTo>
                <a:cubicBezTo>
                  <a:pt x="18016" y="14767"/>
                  <a:pt x="18011" y="14872"/>
                  <a:pt x="17959" y="14982"/>
                </a:cubicBezTo>
                <a:cubicBezTo>
                  <a:pt x="17927" y="15049"/>
                  <a:pt x="17893" y="15118"/>
                  <a:pt x="17859" y="15180"/>
                </a:cubicBezTo>
                <a:cubicBezTo>
                  <a:pt x="17813" y="15263"/>
                  <a:pt x="17769" y="15276"/>
                  <a:pt x="17686" y="15255"/>
                </a:cubicBezTo>
                <a:cubicBezTo>
                  <a:pt x="17669" y="15186"/>
                  <a:pt x="17674" y="15107"/>
                  <a:pt x="17711" y="15032"/>
                </a:cubicBezTo>
                <a:cubicBezTo>
                  <a:pt x="17729" y="14996"/>
                  <a:pt x="17798" y="14941"/>
                  <a:pt x="17835" y="14932"/>
                </a:cubicBezTo>
                <a:cubicBezTo>
                  <a:pt x="17904" y="14915"/>
                  <a:pt x="17938" y="14937"/>
                  <a:pt x="17983" y="14982"/>
                </a:cubicBezTo>
                <a:cubicBezTo>
                  <a:pt x="18025" y="15025"/>
                  <a:pt x="18065" y="15098"/>
                  <a:pt x="18083" y="15156"/>
                </a:cubicBezTo>
                <a:cubicBezTo>
                  <a:pt x="18091" y="15189"/>
                  <a:pt x="18099" y="15222"/>
                  <a:pt x="18107" y="15255"/>
                </a:cubicBezTo>
              </a:path>
              <a:path w="12552" h="3250">
                <a:moveTo>
                  <a:pt x="18926" y="12874"/>
                </a:moveTo>
                <a:cubicBezTo>
                  <a:pt x="18899" y="12927"/>
                  <a:pt x="18862" y="12996"/>
                  <a:pt x="18852" y="13047"/>
                </a:cubicBezTo>
                <a:cubicBezTo>
                  <a:pt x="18841" y="13105"/>
                  <a:pt x="18821" y="13164"/>
                  <a:pt x="18802" y="13221"/>
                </a:cubicBezTo>
                <a:cubicBezTo>
                  <a:pt x="18786" y="13269"/>
                  <a:pt x="18785" y="13395"/>
                  <a:pt x="18876" y="13395"/>
                </a:cubicBezTo>
                <a:cubicBezTo>
                  <a:pt x="18901" y="13387"/>
                  <a:pt x="18926" y="13378"/>
                  <a:pt x="18951" y="13370"/>
                </a:cubicBezTo>
              </a:path>
              <a:path w="12552" h="3250">
                <a:moveTo>
                  <a:pt x="19124" y="12774"/>
                </a:moveTo>
                <a:cubicBezTo>
                  <a:pt x="19114" y="12854"/>
                  <a:pt x="19094" y="12943"/>
                  <a:pt x="19075" y="13022"/>
                </a:cubicBezTo>
                <a:cubicBezTo>
                  <a:pt x="19050" y="13126"/>
                  <a:pt x="19036" y="13239"/>
                  <a:pt x="19025" y="13345"/>
                </a:cubicBezTo>
                <a:cubicBezTo>
                  <a:pt x="19016" y="13431"/>
                  <a:pt x="19010" y="13510"/>
                  <a:pt x="19000" y="13593"/>
                </a:cubicBezTo>
              </a:path>
              <a:path w="12552" h="3250">
                <a:moveTo>
                  <a:pt x="19348" y="13171"/>
                </a:moveTo>
                <a:cubicBezTo>
                  <a:pt x="19316" y="13282"/>
                  <a:pt x="19298" y="13379"/>
                  <a:pt x="19298" y="13494"/>
                </a:cubicBezTo>
                <a:cubicBezTo>
                  <a:pt x="19298" y="13541"/>
                  <a:pt x="19284" y="13625"/>
                  <a:pt x="19348" y="13643"/>
                </a:cubicBezTo>
                <a:cubicBezTo>
                  <a:pt x="19426" y="13666"/>
                  <a:pt x="19470" y="13580"/>
                  <a:pt x="19521" y="13543"/>
                </a:cubicBezTo>
              </a:path>
              <a:path w="12552" h="3250">
                <a:moveTo>
                  <a:pt x="19447" y="12576"/>
                </a:moveTo>
                <a:cubicBezTo>
                  <a:pt x="19439" y="12593"/>
                  <a:pt x="19430" y="12609"/>
                  <a:pt x="19422" y="12626"/>
                </a:cubicBezTo>
              </a:path>
              <a:path w="12552" h="3250">
                <a:moveTo>
                  <a:pt x="20365" y="13593"/>
                </a:moveTo>
                <a:cubicBezTo>
                  <a:pt x="20435" y="13602"/>
                  <a:pt x="20496" y="13632"/>
                  <a:pt x="20563" y="13643"/>
                </a:cubicBezTo>
                <a:cubicBezTo>
                  <a:pt x="20608" y="13643"/>
                  <a:pt x="20621" y="13639"/>
                  <a:pt x="20638" y="13667"/>
                </a:cubicBezTo>
              </a:path>
              <a:path w="12552" h="3250">
                <a:moveTo>
                  <a:pt x="20265" y="13940"/>
                </a:moveTo>
                <a:cubicBezTo>
                  <a:pt x="20257" y="13948"/>
                  <a:pt x="20249" y="13957"/>
                  <a:pt x="20241" y="13965"/>
                </a:cubicBezTo>
                <a:cubicBezTo>
                  <a:pt x="20284" y="14009"/>
                  <a:pt x="20327" y="14029"/>
                  <a:pt x="20389" y="14039"/>
                </a:cubicBezTo>
                <a:cubicBezTo>
                  <a:pt x="20434" y="14039"/>
                  <a:pt x="20447" y="14043"/>
                  <a:pt x="20464" y="14015"/>
                </a:cubicBezTo>
              </a:path>
              <a:path w="12552" h="3250">
                <a:moveTo>
                  <a:pt x="20886" y="13444"/>
                </a:moveTo>
                <a:cubicBezTo>
                  <a:pt x="20974" y="13457"/>
                  <a:pt x="20985" y="13463"/>
                  <a:pt x="21084" y="13444"/>
                </a:cubicBezTo>
                <a:cubicBezTo>
                  <a:pt x="21092" y="13444"/>
                  <a:pt x="21101" y="13444"/>
                  <a:pt x="21109" y="13444"/>
                </a:cubicBezTo>
              </a:path>
              <a:path w="12552" h="3250">
                <a:moveTo>
                  <a:pt x="21431" y="12998"/>
                </a:moveTo>
                <a:cubicBezTo>
                  <a:pt x="21538" y="12998"/>
                  <a:pt x="21630" y="12996"/>
                  <a:pt x="21729" y="12973"/>
                </a:cubicBezTo>
                <a:cubicBezTo>
                  <a:pt x="21737" y="12973"/>
                  <a:pt x="21746" y="12973"/>
                  <a:pt x="21754" y="12973"/>
                </a:cubicBezTo>
              </a:path>
              <a:path w="12552" h="3250">
                <a:moveTo>
                  <a:pt x="21431" y="12998"/>
                </a:moveTo>
                <a:cubicBezTo>
                  <a:pt x="21395" y="13070"/>
                  <a:pt x="21369" y="13144"/>
                  <a:pt x="21357" y="13221"/>
                </a:cubicBezTo>
                <a:cubicBezTo>
                  <a:pt x="21345" y="13294"/>
                  <a:pt x="21344" y="13381"/>
                  <a:pt x="21332" y="13444"/>
                </a:cubicBezTo>
                <a:cubicBezTo>
                  <a:pt x="21332" y="13461"/>
                  <a:pt x="21332" y="13477"/>
                  <a:pt x="21332" y="13494"/>
                </a:cubicBezTo>
                <a:cubicBezTo>
                  <a:pt x="21392" y="13434"/>
                  <a:pt x="21446" y="13350"/>
                  <a:pt x="21530" y="13345"/>
                </a:cubicBezTo>
                <a:cubicBezTo>
                  <a:pt x="21606" y="13341"/>
                  <a:pt x="21627" y="13344"/>
                  <a:pt x="21679" y="13395"/>
                </a:cubicBezTo>
                <a:cubicBezTo>
                  <a:pt x="21750" y="13465"/>
                  <a:pt x="21771" y="13504"/>
                  <a:pt x="21754" y="13618"/>
                </a:cubicBezTo>
                <a:cubicBezTo>
                  <a:pt x="21746" y="13674"/>
                  <a:pt x="21686" y="13796"/>
                  <a:pt x="21654" y="13841"/>
                </a:cubicBezTo>
                <a:cubicBezTo>
                  <a:pt x="21601" y="13913"/>
                  <a:pt x="21519" y="13976"/>
                  <a:pt x="21456" y="14039"/>
                </a:cubicBezTo>
                <a:cubicBezTo>
                  <a:pt x="21396" y="14099"/>
                  <a:pt x="21323" y="14111"/>
                  <a:pt x="21258" y="14163"/>
                </a:cubicBezTo>
              </a:path>
              <a:path w="12552" h="3250">
                <a:moveTo>
                  <a:pt x="22051" y="12923"/>
                </a:moveTo>
                <a:cubicBezTo>
                  <a:pt x="22051" y="13004"/>
                  <a:pt x="22031" y="13069"/>
                  <a:pt x="22027" y="13146"/>
                </a:cubicBezTo>
                <a:cubicBezTo>
                  <a:pt x="22023" y="13218"/>
                  <a:pt x="22007" y="13275"/>
                  <a:pt x="22002" y="13345"/>
                </a:cubicBezTo>
                <a:cubicBezTo>
                  <a:pt x="22002" y="13353"/>
                  <a:pt x="22002" y="13362"/>
                  <a:pt x="22002" y="13370"/>
                </a:cubicBezTo>
              </a:path>
              <a:path w="12552" h="3250">
                <a:moveTo>
                  <a:pt x="21803" y="13271"/>
                </a:moveTo>
                <a:cubicBezTo>
                  <a:pt x="21877" y="13246"/>
                  <a:pt x="21972" y="13230"/>
                  <a:pt x="22051" y="13221"/>
                </a:cubicBezTo>
                <a:cubicBezTo>
                  <a:pt x="22076" y="13221"/>
                  <a:pt x="22101" y="13221"/>
                  <a:pt x="22126" y="13221"/>
                </a:cubicBezTo>
              </a:path>
              <a:path w="12552" h="3250">
                <a:moveTo>
                  <a:pt x="21952" y="13593"/>
                </a:moveTo>
                <a:cubicBezTo>
                  <a:pt x="22002" y="13593"/>
                  <a:pt x="22051" y="13593"/>
                  <a:pt x="22101" y="13593"/>
                </a:cubicBezTo>
              </a:path>
              <a:path w="12552" h="3250">
                <a:moveTo>
                  <a:pt x="22399" y="13047"/>
                </a:moveTo>
                <a:cubicBezTo>
                  <a:pt x="22444" y="12995"/>
                  <a:pt x="22483" y="12926"/>
                  <a:pt x="22547" y="12898"/>
                </a:cubicBezTo>
                <a:cubicBezTo>
                  <a:pt x="22621" y="12865"/>
                  <a:pt x="22682" y="12864"/>
                  <a:pt x="22746" y="12898"/>
                </a:cubicBezTo>
                <a:cubicBezTo>
                  <a:pt x="22828" y="12941"/>
                  <a:pt x="22820" y="12958"/>
                  <a:pt x="22820" y="13047"/>
                </a:cubicBezTo>
                <a:cubicBezTo>
                  <a:pt x="22820" y="13148"/>
                  <a:pt x="22766" y="13209"/>
                  <a:pt x="22721" y="13295"/>
                </a:cubicBezTo>
                <a:cubicBezTo>
                  <a:pt x="22682" y="13369"/>
                  <a:pt x="22624" y="13454"/>
                  <a:pt x="22572" y="13519"/>
                </a:cubicBezTo>
                <a:cubicBezTo>
                  <a:pt x="22526" y="13577"/>
                  <a:pt x="22421" y="13674"/>
                  <a:pt x="22399" y="13742"/>
                </a:cubicBezTo>
                <a:cubicBezTo>
                  <a:pt x="22385" y="13785"/>
                  <a:pt x="22381" y="13820"/>
                  <a:pt x="22374" y="13866"/>
                </a:cubicBezTo>
                <a:cubicBezTo>
                  <a:pt x="22444" y="13893"/>
                  <a:pt x="22494" y="13891"/>
                  <a:pt x="22572" y="13891"/>
                </a:cubicBezTo>
              </a:path>
              <a:path w="12552" h="3250">
                <a:moveTo>
                  <a:pt x="23019" y="13320"/>
                </a:moveTo>
                <a:cubicBezTo>
                  <a:pt x="23009" y="13388"/>
                  <a:pt x="22980" y="13449"/>
                  <a:pt x="22969" y="13519"/>
                </a:cubicBezTo>
                <a:cubicBezTo>
                  <a:pt x="22956" y="13602"/>
                  <a:pt x="22958" y="13725"/>
                  <a:pt x="22994" y="13791"/>
                </a:cubicBezTo>
                <a:cubicBezTo>
                  <a:pt x="23035" y="13867"/>
                  <a:pt x="23059" y="13889"/>
                  <a:pt x="23143" y="13841"/>
                </a:cubicBezTo>
                <a:cubicBezTo>
                  <a:pt x="23168" y="13824"/>
                  <a:pt x="23192" y="13808"/>
                  <a:pt x="23217" y="13791"/>
                </a:cubicBezTo>
              </a:path>
              <a:path w="12552" h="3250">
                <a:moveTo>
                  <a:pt x="23217" y="12576"/>
                </a:moveTo>
                <a:cubicBezTo>
                  <a:pt x="23163" y="12630"/>
                  <a:pt x="23150" y="12655"/>
                  <a:pt x="23118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23"/>
          <p:cNvSpPr/>
          <p:nvPr/>
        </p:nvSpPr>
        <p:spPr>
          <a:xfrm>
            <a:off x="3071880" y="1830240"/>
            <a:ext cx="135000" cy="9864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8657" y="5085"/>
                </a:moveTo>
                <a:cubicBezTo>
                  <a:pt x="8730" y="5085"/>
                  <a:pt x="8819" y="5079"/>
                  <a:pt x="8880" y="5110"/>
                </a:cubicBezTo>
                <a:cubicBezTo>
                  <a:pt x="8888" y="5118"/>
                  <a:pt x="8897" y="5127"/>
                  <a:pt x="8905" y="5135"/>
                </a:cubicBezTo>
              </a:path>
              <a:path w="373" h="274">
                <a:moveTo>
                  <a:pt x="8533" y="5333"/>
                </a:moveTo>
                <a:cubicBezTo>
                  <a:pt x="8600" y="5367"/>
                  <a:pt x="8675" y="5358"/>
                  <a:pt x="8756" y="53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24"/>
          <p:cNvSpPr/>
          <p:nvPr/>
        </p:nvSpPr>
        <p:spPr>
          <a:xfrm>
            <a:off x="3402000" y="1571760"/>
            <a:ext cx="152280" cy="285480"/>
          </a:xfrm>
          <a:custGeom>
            <a:avLst/>
            <a:gdLst/>
            <a:ahLst/>
            <a:rect l="l" t="t" r="r" b="b"/>
            <a:pathLst>
              <a:path w="422" h="794">
                <a:moveTo>
                  <a:pt x="9699" y="4366"/>
                </a:moveTo>
                <a:cubicBezTo>
                  <a:pt x="9719" y="4460"/>
                  <a:pt x="9744" y="4544"/>
                  <a:pt x="9748" y="4638"/>
                </a:cubicBezTo>
                <a:cubicBezTo>
                  <a:pt x="9751" y="4705"/>
                  <a:pt x="9755" y="4759"/>
                  <a:pt x="9723" y="4812"/>
                </a:cubicBezTo>
              </a:path>
              <a:path w="422" h="794">
                <a:moveTo>
                  <a:pt x="9500" y="4738"/>
                </a:moveTo>
                <a:cubicBezTo>
                  <a:pt x="9599" y="4738"/>
                  <a:pt x="9681" y="4747"/>
                  <a:pt x="9773" y="4762"/>
                </a:cubicBezTo>
                <a:cubicBezTo>
                  <a:pt x="9814" y="4762"/>
                  <a:pt x="9822" y="4762"/>
                  <a:pt x="9847" y="4762"/>
                </a:cubicBezTo>
              </a:path>
              <a:path w="422" h="794">
                <a:moveTo>
                  <a:pt x="9451" y="5135"/>
                </a:moveTo>
                <a:cubicBezTo>
                  <a:pt x="9540" y="5151"/>
                  <a:pt x="9604" y="5135"/>
                  <a:pt x="9699" y="5135"/>
                </a:cubicBezTo>
                <a:cubicBezTo>
                  <a:pt x="9766" y="5135"/>
                  <a:pt x="9808" y="5118"/>
                  <a:pt x="9872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25"/>
          <p:cNvSpPr/>
          <p:nvPr/>
        </p:nvSpPr>
        <p:spPr>
          <a:xfrm>
            <a:off x="3697200" y="1571760"/>
            <a:ext cx="98640" cy="411120"/>
          </a:xfrm>
          <a:custGeom>
            <a:avLst/>
            <a:gdLst/>
            <a:ahLst/>
            <a:rect l="l" t="t" r="r" b="b"/>
            <a:pathLst>
              <a:path w="274" h="1142">
                <a:moveTo>
                  <a:pt x="10344" y="4366"/>
                </a:moveTo>
                <a:cubicBezTo>
                  <a:pt x="10323" y="4462"/>
                  <a:pt x="10305" y="4567"/>
                  <a:pt x="10294" y="4663"/>
                </a:cubicBezTo>
                <a:cubicBezTo>
                  <a:pt x="10278" y="4805"/>
                  <a:pt x="10295" y="4955"/>
                  <a:pt x="10269" y="5085"/>
                </a:cubicBezTo>
                <a:cubicBezTo>
                  <a:pt x="10269" y="5126"/>
                  <a:pt x="10269" y="5134"/>
                  <a:pt x="10269" y="5159"/>
                </a:cubicBezTo>
              </a:path>
              <a:path w="274" h="1142">
                <a:moveTo>
                  <a:pt x="10542" y="5184"/>
                </a:moveTo>
                <a:cubicBezTo>
                  <a:pt x="10542" y="5283"/>
                  <a:pt x="10531" y="5340"/>
                  <a:pt x="10492" y="5432"/>
                </a:cubicBezTo>
                <a:cubicBezTo>
                  <a:pt x="10472" y="5473"/>
                  <a:pt x="10464" y="5479"/>
                  <a:pt x="10468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26"/>
          <p:cNvSpPr/>
          <p:nvPr/>
        </p:nvSpPr>
        <p:spPr>
          <a:xfrm>
            <a:off x="3938760" y="1562040"/>
            <a:ext cx="500040" cy="339840"/>
          </a:xfrm>
          <a:custGeom>
            <a:avLst/>
            <a:gdLst/>
            <a:ahLst/>
            <a:rect l="l" t="t" r="r" b="b"/>
            <a:pathLst>
              <a:path w="1390" h="943">
                <a:moveTo>
                  <a:pt x="11187" y="4390"/>
                </a:moveTo>
                <a:cubicBezTo>
                  <a:pt x="11178" y="4509"/>
                  <a:pt x="11162" y="4615"/>
                  <a:pt x="11162" y="4738"/>
                </a:cubicBezTo>
                <a:cubicBezTo>
                  <a:pt x="11162" y="4804"/>
                  <a:pt x="11162" y="4870"/>
                  <a:pt x="11162" y="4936"/>
                </a:cubicBezTo>
              </a:path>
              <a:path w="1390" h="943">
                <a:moveTo>
                  <a:pt x="10939" y="4713"/>
                </a:moveTo>
                <a:cubicBezTo>
                  <a:pt x="11071" y="4713"/>
                  <a:pt x="11204" y="4713"/>
                  <a:pt x="11336" y="4713"/>
                </a:cubicBezTo>
              </a:path>
              <a:path w="1390" h="943">
                <a:moveTo>
                  <a:pt x="10988" y="5159"/>
                </a:moveTo>
                <a:cubicBezTo>
                  <a:pt x="11050" y="5173"/>
                  <a:pt x="11142" y="5178"/>
                  <a:pt x="11212" y="5159"/>
                </a:cubicBezTo>
                <a:cubicBezTo>
                  <a:pt x="11255" y="5138"/>
                  <a:pt x="11267" y="5134"/>
                  <a:pt x="11286" y="5110"/>
                </a:cubicBezTo>
              </a:path>
              <a:path w="1390" h="943">
                <a:moveTo>
                  <a:pt x="11485" y="4514"/>
                </a:moveTo>
                <a:cubicBezTo>
                  <a:pt x="11529" y="4470"/>
                  <a:pt x="11596" y="4382"/>
                  <a:pt x="11658" y="4366"/>
                </a:cubicBezTo>
                <a:cubicBezTo>
                  <a:pt x="11723" y="4349"/>
                  <a:pt x="11748" y="4335"/>
                  <a:pt x="11807" y="4366"/>
                </a:cubicBezTo>
                <a:cubicBezTo>
                  <a:pt x="11885" y="4406"/>
                  <a:pt x="11865" y="4465"/>
                  <a:pt x="11832" y="4539"/>
                </a:cubicBezTo>
                <a:cubicBezTo>
                  <a:pt x="11788" y="4638"/>
                  <a:pt x="11751" y="4751"/>
                  <a:pt x="11683" y="4837"/>
                </a:cubicBezTo>
                <a:cubicBezTo>
                  <a:pt x="11627" y="4908"/>
                  <a:pt x="11611" y="4986"/>
                  <a:pt x="11559" y="5060"/>
                </a:cubicBezTo>
                <a:cubicBezTo>
                  <a:pt x="11522" y="5113"/>
                  <a:pt x="11489" y="5163"/>
                  <a:pt x="11509" y="5234"/>
                </a:cubicBezTo>
                <a:cubicBezTo>
                  <a:pt x="11534" y="5324"/>
                  <a:pt x="11668" y="5285"/>
                  <a:pt x="11733" y="5259"/>
                </a:cubicBezTo>
                <a:cubicBezTo>
                  <a:pt x="11766" y="5242"/>
                  <a:pt x="11799" y="5226"/>
                  <a:pt x="11832" y="5209"/>
                </a:cubicBezTo>
              </a:path>
              <a:path w="1390" h="943">
                <a:moveTo>
                  <a:pt x="12328" y="4415"/>
                </a:moveTo>
                <a:cubicBezTo>
                  <a:pt x="12281" y="4334"/>
                  <a:pt x="12268" y="4327"/>
                  <a:pt x="12179" y="4366"/>
                </a:cubicBezTo>
                <a:cubicBezTo>
                  <a:pt x="12062" y="4417"/>
                  <a:pt x="12033" y="4506"/>
                  <a:pt x="11981" y="4614"/>
                </a:cubicBezTo>
                <a:cubicBezTo>
                  <a:pt x="11954" y="4670"/>
                  <a:pt x="11966" y="4738"/>
                  <a:pt x="12005" y="4787"/>
                </a:cubicBezTo>
                <a:cubicBezTo>
                  <a:pt x="12050" y="4844"/>
                  <a:pt x="12132" y="4812"/>
                  <a:pt x="12179" y="4787"/>
                </a:cubicBezTo>
                <a:cubicBezTo>
                  <a:pt x="12268" y="4739"/>
                  <a:pt x="12243" y="4690"/>
                  <a:pt x="12278" y="4614"/>
                </a:cubicBezTo>
                <a:cubicBezTo>
                  <a:pt x="12286" y="4606"/>
                  <a:pt x="12295" y="4597"/>
                  <a:pt x="12303" y="4589"/>
                </a:cubicBezTo>
                <a:cubicBezTo>
                  <a:pt x="12281" y="4697"/>
                  <a:pt x="12249" y="4803"/>
                  <a:pt x="12229" y="4911"/>
                </a:cubicBezTo>
                <a:cubicBezTo>
                  <a:pt x="12215" y="4989"/>
                  <a:pt x="12230" y="5064"/>
                  <a:pt x="12254" y="5135"/>
                </a:cubicBezTo>
                <a:cubicBezTo>
                  <a:pt x="12278" y="5208"/>
                  <a:pt x="12286" y="5231"/>
                  <a:pt x="12278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27"/>
          <p:cNvSpPr/>
          <p:nvPr/>
        </p:nvSpPr>
        <p:spPr>
          <a:xfrm>
            <a:off x="1374840" y="3348000"/>
            <a:ext cx="3618000" cy="117360"/>
          </a:xfrm>
          <a:custGeom>
            <a:avLst/>
            <a:gdLst/>
            <a:ahLst/>
            <a:rect l="l" t="t" r="r" b="b"/>
            <a:pathLst>
              <a:path w="10047" h="323">
                <a:moveTo>
                  <a:pt x="13866" y="9599"/>
                </a:moveTo>
                <a:cubicBezTo>
                  <a:pt x="13696" y="9610"/>
                  <a:pt x="13582" y="9603"/>
                  <a:pt x="13419" y="9599"/>
                </a:cubicBezTo>
                <a:cubicBezTo>
                  <a:pt x="13191" y="9593"/>
                  <a:pt x="12966" y="9565"/>
                  <a:pt x="12750" y="9550"/>
                </a:cubicBezTo>
                <a:cubicBezTo>
                  <a:pt x="12585" y="9539"/>
                  <a:pt x="12419" y="9531"/>
                  <a:pt x="12254" y="9525"/>
                </a:cubicBezTo>
                <a:cubicBezTo>
                  <a:pt x="11989" y="9516"/>
                  <a:pt x="11724" y="9508"/>
                  <a:pt x="11460" y="9500"/>
                </a:cubicBezTo>
                <a:cubicBezTo>
                  <a:pt x="11154" y="9491"/>
                  <a:pt x="10845" y="9483"/>
                  <a:pt x="10542" y="9475"/>
                </a:cubicBezTo>
                <a:cubicBezTo>
                  <a:pt x="9989" y="9460"/>
                  <a:pt x="9432" y="9451"/>
                  <a:pt x="8880" y="9451"/>
                </a:cubicBezTo>
                <a:cubicBezTo>
                  <a:pt x="8570" y="9451"/>
                  <a:pt x="8264" y="9425"/>
                  <a:pt x="7962" y="9401"/>
                </a:cubicBezTo>
                <a:cubicBezTo>
                  <a:pt x="7699" y="9380"/>
                  <a:pt x="7434" y="9376"/>
                  <a:pt x="7169" y="9376"/>
                </a:cubicBezTo>
                <a:cubicBezTo>
                  <a:pt x="6901" y="9376"/>
                  <a:pt x="6647" y="9327"/>
                  <a:pt x="6375" y="9327"/>
                </a:cubicBezTo>
                <a:cubicBezTo>
                  <a:pt x="6118" y="9327"/>
                  <a:pt x="5865" y="9302"/>
                  <a:pt x="5606" y="9302"/>
                </a:cubicBezTo>
                <a:cubicBezTo>
                  <a:pt x="5318" y="9302"/>
                  <a:pt x="5023" y="9291"/>
                  <a:pt x="4738" y="9327"/>
                </a:cubicBezTo>
                <a:cubicBezTo>
                  <a:pt x="4569" y="9349"/>
                  <a:pt x="4414" y="9371"/>
                  <a:pt x="4242" y="9376"/>
                </a:cubicBezTo>
                <a:cubicBezTo>
                  <a:pt x="4128" y="9379"/>
                  <a:pt x="3973" y="9406"/>
                  <a:pt x="3870" y="9401"/>
                </a:cubicBezTo>
                <a:cubicBezTo>
                  <a:pt x="3828" y="9401"/>
                  <a:pt x="3812" y="9409"/>
                  <a:pt x="3820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28"/>
          <p:cNvSpPr/>
          <p:nvPr/>
        </p:nvSpPr>
        <p:spPr>
          <a:xfrm>
            <a:off x="384120" y="2178000"/>
            <a:ext cx="812880" cy="822240"/>
          </a:xfrm>
          <a:custGeom>
            <a:avLst/>
            <a:gdLst/>
            <a:ahLst/>
            <a:rect l="l" t="t" r="r" b="b"/>
            <a:pathLst>
              <a:path w="2258" h="2283">
                <a:moveTo>
                  <a:pt x="2927" y="6325"/>
                </a:moveTo>
                <a:cubicBezTo>
                  <a:pt x="2877" y="6306"/>
                  <a:pt x="2812" y="6265"/>
                  <a:pt x="2753" y="6251"/>
                </a:cubicBezTo>
                <a:cubicBezTo>
                  <a:pt x="2658" y="6229"/>
                  <a:pt x="2575" y="6208"/>
                  <a:pt x="2480" y="6176"/>
                </a:cubicBezTo>
                <a:cubicBezTo>
                  <a:pt x="2382" y="6143"/>
                  <a:pt x="2261" y="6139"/>
                  <a:pt x="2158" y="6152"/>
                </a:cubicBezTo>
                <a:cubicBezTo>
                  <a:pt x="1991" y="6173"/>
                  <a:pt x="1877" y="6222"/>
                  <a:pt x="1736" y="6300"/>
                </a:cubicBezTo>
                <a:cubicBezTo>
                  <a:pt x="1560" y="6398"/>
                  <a:pt x="1417" y="6518"/>
                  <a:pt x="1315" y="6697"/>
                </a:cubicBezTo>
                <a:cubicBezTo>
                  <a:pt x="1221" y="6862"/>
                  <a:pt x="1111" y="7144"/>
                  <a:pt x="1116" y="7342"/>
                </a:cubicBezTo>
                <a:cubicBezTo>
                  <a:pt x="1119" y="7472"/>
                  <a:pt x="1148" y="7651"/>
                  <a:pt x="1215" y="7764"/>
                </a:cubicBezTo>
                <a:cubicBezTo>
                  <a:pt x="1292" y="7895"/>
                  <a:pt x="1415" y="7998"/>
                  <a:pt x="1563" y="8037"/>
                </a:cubicBezTo>
                <a:cubicBezTo>
                  <a:pt x="1799" y="8099"/>
                  <a:pt x="2021" y="8096"/>
                  <a:pt x="2257" y="8037"/>
                </a:cubicBezTo>
                <a:cubicBezTo>
                  <a:pt x="2451" y="7988"/>
                  <a:pt x="2655" y="7887"/>
                  <a:pt x="2828" y="7789"/>
                </a:cubicBezTo>
                <a:cubicBezTo>
                  <a:pt x="2988" y="7698"/>
                  <a:pt x="3112" y="7577"/>
                  <a:pt x="3200" y="7417"/>
                </a:cubicBezTo>
                <a:cubicBezTo>
                  <a:pt x="3281" y="7270"/>
                  <a:pt x="3320" y="7162"/>
                  <a:pt x="3324" y="6995"/>
                </a:cubicBezTo>
                <a:cubicBezTo>
                  <a:pt x="3328" y="6834"/>
                  <a:pt x="3310" y="6698"/>
                  <a:pt x="3249" y="6548"/>
                </a:cubicBezTo>
                <a:cubicBezTo>
                  <a:pt x="3182" y="6381"/>
                  <a:pt x="3078" y="6227"/>
                  <a:pt x="2927" y="6127"/>
                </a:cubicBezTo>
                <a:cubicBezTo>
                  <a:pt x="2798" y="6042"/>
                  <a:pt x="2678" y="6052"/>
                  <a:pt x="2530" y="6052"/>
                </a:cubicBezTo>
                <a:cubicBezTo>
                  <a:pt x="2377" y="6052"/>
                  <a:pt x="2194" y="6123"/>
                  <a:pt x="2059" y="6201"/>
                </a:cubicBezTo>
                <a:cubicBezTo>
                  <a:pt x="1895" y="6296"/>
                  <a:pt x="1764" y="6464"/>
                  <a:pt x="1637" y="6598"/>
                </a:cubicBezTo>
                <a:cubicBezTo>
                  <a:pt x="1492" y="6751"/>
                  <a:pt x="1395" y="6899"/>
                  <a:pt x="1315" y="7094"/>
                </a:cubicBezTo>
                <a:cubicBezTo>
                  <a:pt x="1248" y="7257"/>
                  <a:pt x="1200" y="7464"/>
                  <a:pt x="1215" y="7640"/>
                </a:cubicBezTo>
                <a:cubicBezTo>
                  <a:pt x="1234" y="7857"/>
                  <a:pt x="1352" y="8052"/>
                  <a:pt x="1513" y="8186"/>
                </a:cubicBezTo>
                <a:cubicBezTo>
                  <a:pt x="1657" y="8305"/>
                  <a:pt x="1777" y="8330"/>
                  <a:pt x="1960" y="8334"/>
                </a:cubicBezTo>
                <a:cubicBezTo>
                  <a:pt x="2140" y="8337"/>
                  <a:pt x="2294" y="8345"/>
                  <a:pt x="2456" y="8260"/>
                </a:cubicBezTo>
                <a:cubicBezTo>
                  <a:pt x="2699" y="8133"/>
                  <a:pt x="2872" y="7933"/>
                  <a:pt x="3001" y="7689"/>
                </a:cubicBezTo>
                <a:cubicBezTo>
                  <a:pt x="3070" y="7558"/>
                  <a:pt x="3113" y="7319"/>
                  <a:pt x="3101" y="7169"/>
                </a:cubicBezTo>
                <a:cubicBezTo>
                  <a:pt x="3089" y="7026"/>
                  <a:pt x="3064" y="6792"/>
                  <a:pt x="2977" y="6672"/>
                </a:cubicBezTo>
                <a:cubicBezTo>
                  <a:pt x="2875" y="6533"/>
                  <a:pt x="2734" y="6380"/>
                  <a:pt x="2580" y="6300"/>
                </a:cubicBezTo>
                <a:cubicBezTo>
                  <a:pt x="2423" y="6218"/>
                  <a:pt x="2236" y="6166"/>
                  <a:pt x="2059" y="6152"/>
                </a:cubicBezTo>
                <a:cubicBezTo>
                  <a:pt x="1860" y="6136"/>
                  <a:pt x="1688" y="6195"/>
                  <a:pt x="1513" y="6276"/>
                </a:cubicBezTo>
                <a:cubicBezTo>
                  <a:pt x="1361" y="6347"/>
                  <a:pt x="1205" y="6451"/>
                  <a:pt x="1116" y="6598"/>
                </a:cubicBezTo>
                <a:cubicBezTo>
                  <a:pt x="1100" y="6639"/>
                  <a:pt x="1083" y="6681"/>
                  <a:pt x="1067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29"/>
          <p:cNvSpPr/>
          <p:nvPr/>
        </p:nvSpPr>
        <p:spPr>
          <a:xfrm>
            <a:off x="1152360" y="5276880"/>
            <a:ext cx="2428920" cy="144360"/>
          </a:xfrm>
          <a:custGeom>
            <a:avLst/>
            <a:gdLst/>
            <a:ahLst/>
            <a:rect l="l" t="t" r="r" b="b"/>
            <a:pathLst>
              <a:path w="6748" h="397">
                <a:moveTo>
                  <a:pt x="9947" y="14784"/>
                </a:moveTo>
                <a:cubicBezTo>
                  <a:pt x="9865" y="14770"/>
                  <a:pt x="9806" y="14755"/>
                  <a:pt x="9723" y="14734"/>
                </a:cubicBezTo>
                <a:cubicBezTo>
                  <a:pt x="9627" y="14710"/>
                  <a:pt x="9524" y="14699"/>
                  <a:pt x="9426" y="14684"/>
                </a:cubicBezTo>
                <a:cubicBezTo>
                  <a:pt x="9318" y="14667"/>
                  <a:pt x="9214" y="14662"/>
                  <a:pt x="9103" y="14660"/>
                </a:cubicBezTo>
                <a:cubicBezTo>
                  <a:pt x="8828" y="14656"/>
                  <a:pt x="8556" y="14671"/>
                  <a:pt x="8285" y="14684"/>
                </a:cubicBezTo>
                <a:cubicBezTo>
                  <a:pt x="8122" y="14692"/>
                  <a:pt x="7973" y="14721"/>
                  <a:pt x="7813" y="14734"/>
                </a:cubicBezTo>
                <a:cubicBezTo>
                  <a:pt x="7555" y="14755"/>
                  <a:pt x="7303" y="14805"/>
                  <a:pt x="7045" y="14833"/>
                </a:cubicBezTo>
                <a:cubicBezTo>
                  <a:pt x="6743" y="14866"/>
                  <a:pt x="6451" y="14929"/>
                  <a:pt x="6152" y="14982"/>
                </a:cubicBezTo>
                <a:cubicBezTo>
                  <a:pt x="5971" y="15014"/>
                  <a:pt x="5788" y="15046"/>
                  <a:pt x="5606" y="15056"/>
                </a:cubicBezTo>
                <a:cubicBezTo>
                  <a:pt x="5308" y="15073"/>
                  <a:pt x="5008" y="15048"/>
                  <a:pt x="4713" y="15032"/>
                </a:cubicBezTo>
                <a:cubicBezTo>
                  <a:pt x="4531" y="15022"/>
                  <a:pt x="4348" y="15011"/>
                  <a:pt x="4167" y="15007"/>
                </a:cubicBezTo>
                <a:cubicBezTo>
                  <a:pt x="3941" y="15003"/>
                  <a:pt x="3717" y="15021"/>
                  <a:pt x="3497" y="15032"/>
                </a:cubicBezTo>
                <a:cubicBezTo>
                  <a:pt x="3404" y="15037"/>
                  <a:pt x="3306" y="15032"/>
                  <a:pt x="3225" y="15032"/>
                </a:cubicBezTo>
                <a:cubicBezTo>
                  <a:pt x="3217" y="15032"/>
                  <a:pt x="3208" y="15032"/>
                  <a:pt x="3200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nd all zeros o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6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10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6x + 9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Ink 5"/>
          <p:cNvSpPr/>
          <p:nvPr/>
        </p:nvSpPr>
        <p:spPr>
          <a:xfrm>
            <a:off x="2374920" y="723960"/>
            <a:ext cx="6027840" cy="2081160"/>
          </a:xfrm>
          <a:custGeom>
            <a:avLst/>
            <a:gdLst/>
            <a:ahLst/>
            <a:rect l="l" t="t" r="r" b="b"/>
            <a:pathLst>
              <a:path w="16744" h="5781">
                <a:moveTo>
                  <a:pt x="6896" y="4192"/>
                </a:moveTo>
                <a:cubicBezTo>
                  <a:pt x="6896" y="4253"/>
                  <a:pt x="6932" y="4420"/>
                  <a:pt x="6921" y="4465"/>
                </a:cubicBezTo>
                <a:cubicBezTo>
                  <a:pt x="6913" y="4465"/>
                  <a:pt x="6904" y="4465"/>
                  <a:pt x="6896" y="4465"/>
                </a:cubicBezTo>
              </a:path>
              <a:path w="16744" h="5781">
                <a:moveTo>
                  <a:pt x="6648" y="4341"/>
                </a:moveTo>
                <a:cubicBezTo>
                  <a:pt x="6747" y="4341"/>
                  <a:pt x="6826" y="4321"/>
                  <a:pt x="6921" y="4316"/>
                </a:cubicBezTo>
                <a:cubicBezTo>
                  <a:pt x="6970" y="4316"/>
                  <a:pt x="6987" y="4316"/>
                  <a:pt x="7020" y="4316"/>
                </a:cubicBezTo>
              </a:path>
              <a:path w="16744" h="5781">
                <a:moveTo>
                  <a:pt x="6598" y="4936"/>
                </a:moveTo>
                <a:cubicBezTo>
                  <a:pt x="6715" y="4961"/>
                  <a:pt x="6741" y="4954"/>
                  <a:pt x="6846" y="4936"/>
                </a:cubicBezTo>
                <a:cubicBezTo>
                  <a:pt x="6913" y="4936"/>
                  <a:pt x="6947" y="4932"/>
                  <a:pt x="6995" y="4911"/>
                </a:cubicBezTo>
              </a:path>
              <a:path w="16744" h="5781">
                <a:moveTo>
                  <a:pt x="7417" y="4217"/>
                </a:moveTo>
                <a:cubicBezTo>
                  <a:pt x="7417" y="4379"/>
                  <a:pt x="7406" y="4535"/>
                  <a:pt x="7392" y="4688"/>
                </a:cubicBezTo>
                <a:cubicBezTo>
                  <a:pt x="7381" y="4809"/>
                  <a:pt x="7392" y="4938"/>
                  <a:pt x="7392" y="5060"/>
                </a:cubicBezTo>
              </a:path>
              <a:path w="16744" h="5781">
                <a:moveTo>
                  <a:pt x="7714" y="5234"/>
                </a:moveTo>
                <a:cubicBezTo>
                  <a:pt x="7708" y="5319"/>
                  <a:pt x="7712" y="5431"/>
                  <a:pt x="7665" y="5507"/>
                </a:cubicBezTo>
                <a:cubicBezTo>
                  <a:pt x="7642" y="5544"/>
                  <a:pt x="7637" y="5569"/>
                  <a:pt x="7615" y="5606"/>
                </a:cubicBezTo>
              </a:path>
              <a:path w="16744" h="5781">
                <a:moveTo>
                  <a:pt x="8210" y="4242"/>
                </a:moveTo>
                <a:cubicBezTo>
                  <a:pt x="8210" y="4367"/>
                  <a:pt x="8196" y="4497"/>
                  <a:pt x="8235" y="4614"/>
                </a:cubicBezTo>
              </a:path>
              <a:path w="16744" h="5781">
                <a:moveTo>
                  <a:pt x="8012" y="4514"/>
                </a:moveTo>
                <a:cubicBezTo>
                  <a:pt x="8121" y="4544"/>
                  <a:pt x="8152" y="4529"/>
                  <a:pt x="8260" y="4514"/>
                </a:cubicBezTo>
                <a:cubicBezTo>
                  <a:pt x="8318" y="4514"/>
                  <a:pt x="8343" y="4514"/>
                  <a:pt x="8384" y="4514"/>
                </a:cubicBezTo>
              </a:path>
              <a:path w="16744" h="5781">
                <a:moveTo>
                  <a:pt x="8161" y="4936"/>
                </a:moveTo>
                <a:cubicBezTo>
                  <a:pt x="8303" y="4936"/>
                  <a:pt x="8331" y="4946"/>
                  <a:pt x="8409" y="4911"/>
                </a:cubicBezTo>
              </a:path>
              <a:path w="16744" h="5781">
                <a:moveTo>
                  <a:pt x="8706" y="4316"/>
                </a:moveTo>
                <a:cubicBezTo>
                  <a:pt x="8722" y="4308"/>
                  <a:pt x="8944" y="4162"/>
                  <a:pt x="8979" y="4266"/>
                </a:cubicBezTo>
                <a:cubicBezTo>
                  <a:pt x="9010" y="4360"/>
                  <a:pt x="8923" y="4425"/>
                  <a:pt x="8880" y="4490"/>
                </a:cubicBezTo>
                <a:cubicBezTo>
                  <a:pt x="8843" y="4545"/>
                  <a:pt x="8802" y="4588"/>
                  <a:pt x="8756" y="4638"/>
                </a:cubicBezTo>
                <a:cubicBezTo>
                  <a:pt x="8728" y="4666"/>
                  <a:pt x="8715" y="4675"/>
                  <a:pt x="8682" y="4663"/>
                </a:cubicBezTo>
                <a:cubicBezTo>
                  <a:pt x="8729" y="4687"/>
                  <a:pt x="8779" y="4648"/>
                  <a:pt x="8855" y="4663"/>
                </a:cubicBezTo>
                <a:cubicBezTo>
                  <a:pt x="8930" y="4677"/>
                  <a:pt x="8976" y="4718"/>
                  <a:pt x="9004" y="4787"/>
                </a:cubicBezTo>
                <a:cubicBezTo>
                  <a:pt x="9036" y="4864"/>
                  <a:pt x="9040" y="4919"/>
                  <a:pt x="9004" y="4986"/>
                </a:cubicBezTo>
                <a:cubicBezTo>
                  <a:pt x="8965" y="5059"/>
                  <a:pt x="8928" y="5073"/>
                  <a:pt x="8855" y="5110"/>
                </a:cubicBezTo>
                <a:cubicBezTo>
                  <a:pt x="8808" y="5134"/>
                  <a:pt x="8711" y="5156"/>
                  <a:pt x="8657" y="5135"/>
                </a:cubicBezTo>
                <a:cubicBezTo>
                  <a:pt x="8649" y="5127"/>
                  <a:pt x="8640" y="5118"/>
                  <a:pt x="8632" y="5110"/>
                </a:cubicBezTo>
              </a:path>
              <a:path w="16744" h="5781">
                <a:moveTo>
                  <a:pt x="9227" y="5135"/>
                </a:moveTo>
                <a:cubicBezTo>
                  <a:pt x="9205" y="5265"/>
                  <a:pt x="9169" y="5336"/>
                  <a:pt x="9128" y="5457"/>
                </a:cubicBezTo>
                <a:cubicBezTo>
                  <a:pt x="9128" y="5465"/>
                  <a:pt x="9128" y="5474"/>
                  <a:pt x="9128" y="5482"/>
                </a:cubicBezTo>
              </a:path>
              <a:path w="16744" h="5781">
                <a:moveTo>
                  <a:pt x="9723" y="4242"/>
                </a:moveTo>
                <a:cubicBezTo>
                  <a:pt x="9723" y="4338"/>
                  <a:pt x="9704" y="4421"/>
                  <a:pt x="9699" y="4514"/>
                </a:cubicBezTo>
                <a:cubicBezTo>
                  <a:pt x="9695" y="4586"/>
                  <a:pt x="9712" y="4644"/>
                  <a:pt x="9723" y="4713"/>
                </a:cubicBezTo>
              </a:path>
              <a:path w="16744" h="5781">
                <a:moveTo>
                  <a:pt x="9376" y="4564"/>
                </a:moveTo>
                <a:cubicBezTo>
                  <a:pt x="9517" y="4564"/>
                  <a:pt x="9657" y="4564"/>
                  <a:pt x="9798" y="4564"/>
                </a:cubicBezTo>
              </a:path>
              <a:path w="16744" h="5781">
                <a:moveTo>
                  <a:pt x="9475" y="4986"/>
                </a:moveTo>
                <a:cubicBezTo>
                  <a:pt x="9607" y="4986"/>
                  <a:pt x="9702" y="4976"/>
                  <a:pt x="9823" y="4961"/>
                </a:cubicBezTo>
              </a:path>
              <a:path w="16744" h="5781">
                <a:moveTo>
                  <a:pt x="10542" y="4341"/>
                </a:moveTo>
                <a:cubicBezTo>
                  <a:pt x="10542" y="4256"/>
                  <a:pt x="10548" y="4236"/>
                  <a:pt x="10517" y="4192"/>
                </a:cubicBezTo>
                <a:cubicBezTo>
                  <a:pt x="10387" y="4203"/>
                  <a:pt x="10322" y="4230"/>
                  <a:pt x="10244" y="4341"/>
                </a:cubicBezTo>
                <a:cubicBezTo>
                  <a:pt x="10195" y="4410"/>
                  <a:pt x="10159" y="4484"/>
                  <a:pt x="10244" y="4539"/>
                </a:cubicBezTo>
                <a:cubicBezTo>
                  <a:pt x="10300" y="4575"/>
                  <a:pt x="10387" y="4565"/>
                  <a:pt x="10443" y="4539"/>
                </a:cubicBezTo>
                <a:cubicBezTo>
                  <a:pt x="10503" y="4511"/>
                  <a:pt x="10496" y="4457"/>
                  <a:pt x="10517" y="4415"/>
                </a:cubicBezTo>
                <a:cubicBezTo>
                  <a:pt x="10525" y="4407"/>
                  <a:pt x="10534" y="4398"/>
                  <a:pt x="10542" y="4390"/>
                </a:cubicBezTo>
                <a:cubicBezTo>
                  <a:pt x="10542" y="4472"/>
                  <a:pt x="10520" y="4537"/>
                  <a:pt x="10517" y="4614"/>
                </a:cubicBezTo>
                <a:cubicBezTo>
                  <a:pt x="10511" y="4759"/>
                  <a:pt x="10581" y="5121"/>
                  <a:pt x="10468" y="5159"/>
                </a:cubicBezTo>
              </a:path>
              <a:path w="16744" h="5781">
                <a:moveTo>
                  <a:pt x="11311" y="5358"/>
                </a:moveTo>
                <a:cubicBezTo>
                  <a:pt x="11361" y="5358"/>
                  <a:pt x="11410" y="5358"/>
                  <a:pt x="11460" y="5358"/>
                </a:cubicBezTo>
              </a:path>
              <a:path w="16744" h="5781">
                <a:moveTo>
                  <a:pt x="11311" y="5556"/>
                </a:moveTo>
                <a:cubicBezTo>
                  <a:pt x="11398" y="5588"/>
                  <a:pt x="11405" y="5601"/>
                  <a:pt x="11485" y="5581"/>
                </a:cubicBezTo>
              </a:path>
              <a:path w="16744" h="5781">
                <a:moveTo>
                  <a:pt x="12378" y="4663"/>
                </a:moveTo>
                <a:cubicBezTo>
                  <a:pt x="12378" y="4751"/>
                  <a:pt x="12371" y="4828"/>
                  <a:pt x="12402" y="4911"/>
                </a:cubicBezTo>
                <a:cubicBezTo>
                  <a:pt x="12426" y="4959"/>
                  <a:pt x="12434" y="4974"/>
                  <a:pt x="12427" y="5011"/>
                </a:cubicBezTo>
              </a:path>
              <a:path w="16744" h="5781">
                <a:moveTo>
                  <a:pt x="12129" y="4936"/>
                </a:moveTo>
                <a:cubicBezTo>
                  <a:pt x="12217" y="4960"/>
                  <a:pt x="12286" y="4961"/>
                  <a:pt x="12378" y="4961"/>
                </a:cubicBezTo>
                <a:cubicBezTo>
                  <a:pt x="12454" y="4961"/>
                  <a:pt x="12506" y="4960"/>
                  <a:pt x="12576" y="4986"/>
                </a:cubicBezTo>
              </a:path>
              <a:path w="16744" h="5781">
                <a:moveTo>
                  <a:pt x="12229" y="5333"/>
                </a:moveTo>
                <a:cubicBezTo>
                  <a:pt x="12311" y="5351"/>
                  <a:pt x="12393" y="5344"/>
                  <a:pt x="12477" y="5308"/>
                </a:cubicBezTo>
                <a:cubicBezTo>
                  <a:pt x="12493" y="5300"/>
                  <a:pt x="12510" y="5291"/>
                  <a:pt x="12526" y="5283"/>
                </a:cubicBezTo>
              </a:path>
              <a:path w="16744" h="5781">
                <a:moveTo>
                  <a:pt x="12874" y="4614"/>
                </a:moveTo>
                <a:cubicBezTo>
                  <a:pt x="12854" y="4728"/>
                  <a:pt x="12849" y="4821"/>
                  <a:pt x="12849" y="4936"/>
                </a:cubicBezTo>
                <a:cubicBezTo>
                  <a:pt x="12849" y="5021"/>
                  <a:pt x="12844" y="5076"/>
                  <a:pt x="12849" y="5159"/>
                </a:cubicBezTo>
                <a:cubicBezTo>
                  <a:pt x="12853" y="5225"/>
                  <a:pt x="12849" y="5292"/>
                  <a:pt x="12849" y="5358"/>
                </a:cubicBezTo>
              </a:path>
              <a:path w="16744" h="5781">
                <a:moveTo>
                  <a:pt x="13097" y="5432"/>
                </a:moveTo>
                <a:cubicBezTo>
                  <a:pt x="13071" y="5530"/>
                  <a:pt x="13022" y="5640"/>
                  <a:pt x="12998" y="5730"/>
                </a:cubicBezTo>
                <a:cubicBezTo>
                  <a:pt x="12988" y="5770"/>
                  <a:pt x="12998" y="5845"/>
                  <a:pt x="12998" y="5804"/>
                </a:cubicBezTo>
              </a:path>
              <a:path w="16744" h="5781">
                <a:moveTo>
                  <a:pt x="13742" y="4539"/>
                </a:moveTo>
                <a:cubicBezTo>
                  <a:pt x="13699" y="4711"/>
                  <a:pt x="13692" y="4740"/>
                  <a:pt x="13717" y="4887"/>
                </a:cubicBezTo>
                <a:cubicBezTo>
                  <a:pt x="13727" y="4946"/>
                  <a:pt x="13716" y="4984"/>
                  <a:pt x="13742" y="5035"/>
                </a:cubicBezTo>
              </a:path>
              <a:path w="16744" h="5781">
                <a:moveTo>
                  <a:pt x="13469" y="4911"/>
                </a:moveTo>
                <a:cubicBezTo>
                  <a:pt x="13601" y="4911"/>
                  <a:pt x="13734" y="4911"/>
                  <a:pt x="13866" y="4911"/>
                </a:cubicBezTo>
              </a:path>
              <a:path w="16744" h="5781">
                <a:moveTo>
                  <a:pt x="13519" y="5358"/>
                </a:moveTo>
                <a:cubicBezTo>
                  <a:pt x="13663" y="5372"/>
                  <a:pt x="13701" y="5356"/>
                  <a:pt x="13816" y="5333"/>
                </a:cubicBezTo>
                <a:cubicBezTo>
                  <a:pt x="13833" y="5333"/>
                  <a:pt x="13849" y="5333"/>
                  <a:pt x="13866" y="5333"/>
                </a:cubicBezTo>
              </a:path>
              <a:path w="16744" h="5781">
                <a:moveTo>
                  <a:pt x="14188" y="4762"/>
                </a:moveTo>
                <a:cubicBezTo>
                  <a:pt x="14255" y="4676"/>
                  <a:pt x="14290" y="4596"/>
                  <a:pt x="14412" y="4614"/>
                </a:cubicBezTo>
                <a:cubicBezTo>
                  <a:pt x="14550" y="4635"/>
                  <a:pt x="14500" y="4725"/>
                  <a:pt x="14486" y="4812"/>
                </a:cubicBezTo>
                <a:cubicBezTo>
                  <a:pt x="14474" y="4886"/>
                  <a:pt x="14444" y="4904"/>
                  <a:pt x="14387" y="4961"/>
                </a:cubicBezTo>
                <a:cubicBezTo>
                  <a:pt x="14356" y="4992"/>
                  <a:pt x="14303" y="5049"/>
                  <a:pt x="14263" y="5060"/>
                </a:cubicBezTo>
                <a:cubicBezTo>
                  <a:pt x="14246" y="5060"/>
                  <a:pt x="14230" y="5060"/>
                  <a:pt x="14213" y="5060"/>
                </a:cubicBezTo>
                <a:cubicBezTo>
                  <a:pt x="14289" y="5049"/>
                  <a:pt x="14308" y="5024"/>
                  <a:pt x="14387" y="5060"/>
                </a:cubicBezTo>
                <a:cubicBezTo>
                  <a:pt x="14461" y="5093"/>
                  <a:pt x="14482" y="5130"/>
                  <a:pt x="14486" y="5209"/>
                </a:cubicBezTo>
                <a:cubicBezTo>
                  <a:pt x="14490" y="5283"/>
                  <a:pt x="14480" y="5323"/>
                  <a:pt x="14436" y="5383"/>
                </a:cubicBezTo>
                <a:cubicBezTo>
                  <a:pt x="14389" y="5446"/>
                  <a:pt x="14312" y="5478"/>
                  <a:pt x="14238" y="5482"/>
                </a:cubicBezTo>
                <a:cubicBezTo>
                  <a:pt x="14170" y="5486"/>
                  <a:pt x="14076" y="5509"/>
                  <a:pt x="14114" y="5432"/>
                </a:cubicBezTo>
              </a:path>
              <a:path w="16744" h="5781">
                <a:moveTo>
                  <a:pt x="14734" y="5482"/>
                </a:moveTo>
                <a:cubicBezTo>
                  <a:pt x="14707" y="5548"/>
                  <a:pt x="14683" y="5602"/>
                  <a:pt x="14635" y="5655"/>
                </a:cubicBezTo>
                <a:cubicBezTo>
                  <a:pt x="14607" y="5683"/>
                  <a:pt x="14598" y="5687"/>
                  <a:pt x="14610" y="5631"/>
                </a:cubicBezTo>
              </a:path>
              <a:path w="16744" h="5781">
                <a:moveTo>
                  <a:pt x="15280" y="4589"/>
                </a:moveTo>
                <a:cubicBezTo>
                  <a:pt x="15286" y="4639"/>
                  <a:pt x="15331" y="4838"/>
                  <a:pt x="15304" y="4911"/>
                </a:cubicBezTo>
                <a:cubicBezTo>
                  <a:pt x="15296" y="4919"/>
                  <a:pt x="15288" y="4928"/>
                  <a:pt x="15280" y="4936"/>
                </a:cubicBezTo>
              </a:path>
              <a:path w="16744" h="5781">
                <a:moveTo>
                  <a:pt x="14982" y="4837"/>
                </a:moveTo>
                <a:cubicBezTo>
                  <a:pt x="15114" y="4837"/>
                  <a:pt x="15247" y="4837"/>
                  <a:pt x="15379" y="4837"/>
                </a:cubicBezTo>
              </a:path>
              <a:path w="16744" h="5781">
                <a:moveTo>
                  <a:pt x="15106" y="5234"/>
                </a:moveTo>
                <a:cubicBezTo>
                  <a:pt x="15170" y="5285"/>
                  <a:pt x="15244" y="5303"/>
                  <a:pt x="15329" y="5283"/>
                </a:cubicBezTo>
                <a:cubicBezTo>
                  <a:pt x="15377" y="5260"/>
                  <a:pt x="15392" y="5252"/>
                  <a:pt x="15429" y="5259"/>
                </a:cubicBezTo>
              </a:path>
              <a:path w="16744" h="5781">
                <a:moveTo>
                  <a:pt x="16123" y="4589"/>
                </a:moveTo>
                <a:cubicBezTo>
                  <a:pt x="16085" y="4535"/>
                  <a:pt x="16036" y="4437"/>
                  <a:pt x="15949" y="4465"/>
                </a:cubicBezTo>
                <a:cubicBezTo>
                  <a:pt x="15843" y="4499"/>
                  <a:pt x="15769" y="4561"/>
                  <a:pt x="15701" y="4638"/>
                </a:cubicBezTo>
                <a:cubicBezTo>
                  <a:pt x="15649" y="4697"/>
                  <a:pt x="15624" y="4762"/>
                  <a:pt x="15677" y="4837"/>
                </a:cubicBezTo>
                <a:cubicBezTo>
                  <a:pt x="15732" y="4914"/>
                  <a:pt x="15791" y="4911"/>
                  <a:pt x="15875" y="4911"/>
                </a:cubicBezTo>
                <a:cubicBezTo>
                  <a:pt x="15943" y="4911"/>
                  <a:pt x="16000" y="4884"/>
                  <a:pt x="16049" y="4837"/>
                </a:cubicBezTo>
                <a:cubicBezTo>
                  <a:pt x="16107" y="4782"/>
                  <a:pt x="16138" y="4735"/>
                  <a:pt x="16148" y="4663"/>
                </a:cubicBezTo>
                <a:cubicBezTo>
                  <a:pt x="16118" y="4744"/>
                  <a:pt x="16101" y="4823"/>
                  <a:pt x="16098" y="4911"/>
                </a:cubicBezTo>
                <a:cubicBezTo>
                  <a:pt x="16092" y="5072"/>
                  <a:pt x="16099" y="5231"/>
                  <a:pt x="16123" y="5383"/>
                </a:cubicBezTo>
                <a:cubicBezTo>
                  <a:pt x="16131" y="5433"/>
                  <a:pt x="16104" y="5481"/>
                  <a:pt x="16098" y="5531"/>
                </a:cubicBezTo>
              </a:path>
              <a:path w="16744" h="5781">
                <a:moveTo>
                  <a:pt x="22399" y="2356"/>
                </a:moveTo>
                <a:cubicBezTo>
                  <a:pt x="22313" y="2271"/>
                  <a:pt x="22233" y="2193"/>
                  <a:pt x="22126" y="2133"/>
                </a:cubicBezTo>
                <a:cubicBezTo>
                  <a:pt x="22006" y="2066"/>
                  <a:pt x="21841" y="2022"/>
                  <a:pt x="21704" y="2009"/>
                </a:cubicBezTo>
                <a:cubicBezTo>
                  <a:pt x="21565" y="1996"/>
                  <a:pt x="21367" y="2020"/>
                  <a:pt x="21233" y="2059"/>
                </a:cubicBezTo>
                <a:cubicBezTo>
                  <a:pt x="21071" y="2106"/>
                  <a:pt x="20849" y="2205"/>
                  <a:pt x="20737" y="2332"/>
                </a:cubicBezTo>
                <a:cubicBezTo>
                  <a:pt x="20574" y="2516"/>
                  <a:pt x="20455" y="2791"/>
                  <a:pt x="20389" y="3026"/>
                </a:cubicBezTo>
                <a:cubicBezTo>
                  <a:pt x="20356" y="3145"/>
                  <a:pt x="20343" y="3276"/>
                  <a:pt x="20340" y="3398"/>
                </a:cubicBezTo>
                <a:cubicBezTo>
                  <a:pt x="20336" y="3525"/>
                  <a:pt x="20333" y="3647"/>
                  <a:pt x="20365" y="3770"/>
                </a:cubicBezTo>
                <a:cubicBezTo>
                  <a:pt x="20395" y="3883"/>
                  <a:pt x="20432" y="3937"/>
                  <a:pt x="20513" y="4018"/>
                </a:cubicBezTo>
                <a:cubicBezTo>
                  <a:pt x="20586" y="4091"/>
                  <a:pt x="20680" y="4154"/>
                  <a:pt x="20786" y="4167"/>
                </a:cubicBezTo>
                <a:cubicBezTo>
                  <a:pt x="20921" y="4184"/>
                  <a:pt x="21051" y="4152"/>
                  <a:pt x="21183" y="4142"/>
                </a:cubicBezTo>
                <a:cubicBezTo>
                  <a:pt x="21336" y="4130"/>
                  <a:pt x="21458" y="4060"/>
                  <a:pt x="21605" y="4018"/>
                </a:cubicBezTo>
                <a:cubicBezTo>
                  <a:pt x="21811" y="3960"/>
                  <a:pt x="21957" y="3897"/>
                  <a:pt x="22126" y="3770"/>
                </a:cubicBezTo>
                <a:cubicBezTo>
                  <a:pt x="22232" y="3691"/>
                  <a:pt x="22338" y="3601"/>
                  <a:pt x="22423" y="3497"/>
                </a:cubicBezTo>
                <a:cubicBezTo>
                  <a:pt x="22495" y="3409"/>
                  <a:pt x="22545" y="3310"/>
                  <a:pt x="22572" y="3200"/>
                </a:cubicBezTo>
                <a:cubicBezTo>
                  <a:pt x="22602" y="3079"/>
                  <a:pt x="22642" y="2954"/>
                  <a:pt x="22647" y="2828"/>
                </a:cubicBezTo>
                <a:cubicBezTo>
                  <a:pt x="22650" y="2737"/>
                  <a:pt x="22624" y="2641"/>
                  <a:pt x="22597" y="2555"/>
                </a:cubicBezTo>
                <a:cubicBezTo>
                  <a:pt x="22578" y="2494"/>
                  <a:pt x="22518" y="2343"/>
                  <a:pt x="22473" y="2307"/>
                </a:cubicBezTo>
                <a:cubicBezTo>
                  <a:pt x="22410" y="2256"/>
                  <a:pt x="22285" y="2196"/>
                  <a:pt x="22200" y="2183"/>
                </a:cubicBezTo>
                <a:cubicBezTo>
                  <a:pt x="22067" y="2163"/>
                  <a:pt x="21983" y="2170"/>
                  <a:pt x="21853" y="2208"/>
                </a:cubicBezTo>
                <a:cubicBezTo>
                  <a:pt x="21828" y="2216"/>
                  <a:pt x="21804" y="2224"/>
                  <a:pt x="21779" y="2232"/>
                </a:cubicBezTo>
              </a:path>
              <a:path w="16744" h="5781">
                <a:moveTo>
                  <a:pt x="17016" y="6747"/>
                </a:moveTo>
                <a:cubicBezTo>
                  <a:pt x="17104" y="6747"/>
                  <a:pt x="17183" y="6732"/>
                  <a:pt x="17264" y="6722"/>
                </a:cubicBezTo>
                <a:cubicBezTo>
                  <a:pt x="17356" y="6710"/>
                  <a:pt x="17449" y="6722"/>
                  <a:pt x="17537" y="6697"/>
                </a:cubicBezTo>
                <a:cubicBezTo>
                  <a:pt x="17583" y="6684"/>
                  <a:pt x="17623" y="6670"/>
                  <a:pt x="17661" y="6648"/>
                </a:cubicBezTo>
              </a:path>
              <a:path w="16744" h="5781">
                <a:moveTo>
                  <a:pt x="17835" y="6201"/>
                </a:moveTo>
                <a:cubicBezTo>
                  <a:pt x="17896" y="6131"/>
                  <a:pt x="17925" y="6078"/>
                  <a:pt x="18008" y="6028"/>
                </a:cubicBezTo>
                <a:cubicBezTo>
                  <a:pt x="18080" y="5985"/>
                  <a:pt x="18172" y="5960"/>
                  <a:pt x="18256" y="5978"/>
                </a:cubicBezTo>
                <a:cubicBezTo>
                  <a:pt x="18333" y="5994"/>
                  <a:pt x="18397" y="6031"/>
                  <a:pt x="18405" y="6102"/>
                </a:cubicBezTo>
                <a:cubicBezTo>
                  <a:pt x="18414" y="6182"/>
                  <a:pt x="18357" y="6246"/>
                  <a:pt x="18306" y="6300"/>
                </a:cubicBezTo>
                <a:cubicBezTo>
                  <a:pt x="18223" y="6388"/>
                  <a:pt x="18166" y="6461"/>
                  <a:pt x="18058" y="6524"/>
                </a:cubicBezTo>
                <a:cubicBezTo>
                  <a:pt x="17999" y="6559"/>
                  <a:pt x="17938" y="6580"/>
                  <a:pt x="17884" y="6623"/>
                </a:cubicBezTo>
                <a:cubicBezTo>
                  <a:pt x="17952" y="6582"/>
                  <a:pt x="18007" y="6597"/>
                  <a:pt x="18083" y="6623"/>
                </a:cubicBezTo>
                <a:cubicBezTo>
                  <a:pt x="18148" y="6645"/>
                  <a:pt x="18273" y="6677"/>
                  <a:pt x="18306" y="6747"/>
                </a:cubicBezTo>
                <a:cubicBezTo>
                  <a:pt x="18331" y="6799"/>
                  <a:pt x="18330" y="6874"/>
                  <a:pt x="18281" y="6921"/>
                </a:cubicBezTo>
                <a:cubicBezTo>
                  <a:pt x="18214" y="6985"/>
                  <a:pt x="18077" y="7101"/>
                  <a:pt x="17983" y="7119"/>
                </a:cubicBezTo>
                <a:cubicBezTo>
                  <a:pt x="17952" y="7125"/>
                  <a:pt x="17781" y="7175"/>
                  <a:pt x="17760" y="7119"/>
                </a:cubicBezTo>
                <a:cubicBezTo>
                  <a:pt x="17768" y="7111"/>
                  <a:pt x="17777" y="7102"/>
                  <a:pt x="17785" y="7094"/>
                </a:cubicBezTo>
              </a:path>
              <a:path w="16744" h="5781">
                <a:moveTo>
                  <a:pt x="18554" y="7045"/>
                </a:moveTo>
                <a:cubicBezTo>
                  <a:pt x="18546" y="7175"/>
                  <a:pt x="18516" y="7223"/>
                  <a:pt x="18479" y="7342"/>
                </a:cubicBezTo>
                <a:cubicBezTo>
                  <a:pt x="18447" y="7447"/>
                  <a:pt x="18430" y="7441"/>
                  <a:pt x="18455" y="7441"/>
                </a:cubicBezTo>
              </a:path>
              <a:path w="16744" h="5781">
                <a:moveTo>
                  <a:pt x="18653" y="6449"/>
                </a:moveTo>
                <a:cubicBezTo>
                  <a:pt x="18759" y="6449"/>
                  <a:pt x="18852" y="6441"/>
                  <a:pt x="18951" y="6424"/>
                </a:cubicBezTo>
                <a:cubicBezTo>
                  <a:pt x="19021" y="6424"/>
                  <a:pt x="19056" y="6415"/>
                  <a:pt x="19100" y="6375"/>
                </a:cubicBezTo>
              </a:path>
              <a:path w="16744" h="5781">
                <a:moveTo>
                  <a:pt x="19199" y="5978"/>
                </a:moveTo>
                <a:cubicBezTo>
                  <a:pt x="19299" y="5905"/>
                  <a:pt x="19345" y="5859"/>
                  <a:pt x="19472" y="5854"/>
                </a:cubicBezTo>
                <a:cubicBezTo>
                  <a:pt x="19513" y="5852"/>
                  <a:pt x="19675" y="5844"/>
                  <a:pt x="19695" y="5904"/>
                </a:cubicBezTo>
                <a:cubicBezTo>
                  <a:pt x="19734" y="6021"/>
                  <a:pt x="19644" y="6068"/>
                  <a:pt x="19571" y="6127"/>
                </a:cubicBezTo>
                <a:cubicBezTo>
                  <a:pt x="19480" y="6202"/>
                  <a:pt x="19381" y="6288"/>
                  <a:pt x="19298" y="6350"/>
                </a:cubicBezTo>
                <a:cubicBezTo>
                  <a:pt x="19281" y="6358"/>
                  <a:pt x="19265" y="6367"/>
                  <a:pt x="19248" y="6375"/>
                </a:cubicBezTo>
                <a:cubicBezTo>
                  <a:pt x="19308" y="6411"/>
                  <a:pt x="19356" y="6380"/>
                  <a:pt x="19422" y="6400"/>
                </a:cubicBezTo>
                <a:cubicBezTo>
                  <a:pt x="19514" y="6428"/>
                  <a:pt x="19681" y="6470"/>
                  <a:pt x="19745" y="6548"/>
                </a:cubicBezTo>
                <a:cubicBezTo>
                  <a:pt x="19794" y="6608"/>
                  <a:pt x="19820" y="6681"/>
                  <a:pt x="19794" y="6747"/>
                </a:cubicBezTo>
                <a:cubicBezTo>
                  <a:pt x="19764" y="6823"/>
                  <a:pt x="19665" y="6908"/>
                  <a:pt x="19596" y="6945"/>
                </a:cubicBezTo>
                <a:cubicBezTo>
                  <a:pt x="19506" y="6994"/>
                  <a:pt x="19416" y="7016"/>
                  <a:pt x="19323" y="7045"/>
                </a:cubicBezTo>
                <a:cubicBezTo>
                  <a:pt x="19269" y="7062"/>
                  <a:pt x="19228" y="7107"/>
                  <a:pt x="19248" y="7045"/>
                </a:cubicBezTo>
              </a:path>
              <a:path w="16744" h="5781">
                <a:moveTo>
                  <a:pt x="20042" y="6970"/>
                </a:moveTo>
                <a:cubicBezTo>
                  <a:pt x="20035" y="7095"/>
                  <a:pt x="20022" y="7179"/>
                  <a:pt x="19968" y="7293"/>
                </a:cubicBezTo>
                <a:cubicBezTo>
                  <a:pt x="19941" y="7349"/>
                  <a:pt x="19916" y="7365"/>
                  <a:pt x="19943" y="7392"/>
                </a:cubicBezTo>
              </a:path>
              <a:path w="16744" h="5781">
                <a:moveTo>
                  <a:pt x="20464" y="6400"/>
                </a:moveTo>
                <a:cubicBezTo>
                  <a:pt x="20483" y="6447"/>
                  <a:pt x="20464" y="6505"/>
                  <a:pt x="20464" y="6573"/>
                </a:cubicBezTo>
                <a:cubicBezTo>
                  <a:pt x="20464" y="6665"/>
                  <a:pt x="20460" y="6737"/>
                  <a:pt x="20489" y="6821"/>
                </a:cubicBezTo>
                <a:cubicBezTo>
                  <a:pt x="20518" y="6907"/>
                  <a:pt x="20557" y="7073"/>
                  <a:pt x="20687" y="6970"/>
                </a:cubicBezTo>
                <a:cubicBezTo>
                  <a:pt x="20695" y="6954"/>
                  <a:pt x="20704" y="6937"/>
                  <a:pt x="20712" y="6921"/>
                </a:cubicBezTo>
              </a:path>
              <a:path w="16744" h="5781">
                <a:moveTo>
                  <a:pt x="20365" y="5928"/>
                </a:moveTo>
                <a:cubicBezTo>
                  <a:pt x="20374" y="5995"/>
                  <a:pt x="20406" y="6035"/>
                  <a:pt x="20489" y="6003"/>
                </a:cubicBezTo>
                <a:cubicBezTo>
                  <a:pt x="20497" y="5995"/>
                  <a:pt x="20505" y="5986"/>
                  <a:pt x="20513" y="5978"/>
                </a:cubicBezTo>
                <a:cubicBezTo>
                  <a:pt x="20459" y="5923"/>
                  <a:pt x="20443" y="5931"/>
                  <a:pt x="20365" y="5978"/>
                </a:cubicBezTo>
                <a:cubicBezTo>
                  <a:pt x="20342" y="6001"/>
                  <a:pt x="20331" y="6009"/>
                  <a:pt x="20365" y="6003"/>
                </a:cubicBezTo>
              </a:path>
              <a:path w="16744" h="5781">
                <a:moveTo>
                  <a:pt x="21282" y="6772"/>
                </a:moveTo>
                <a:cubicBezTo>
                  <a:pt x="21259" y="6937"/>
                  <a:pt x="21242" y="7088"/>
                  <a:pt x="21183" y="7243"/>
                </a:cubicBezTo>
                <a:cubicBezTo>
                  <a:pt x="21163" y="7296"/>
                  <a:pt x="21140" y="7410"/>
                  <a:pt x="21084" y="7441"/>
                </a:cubicBezTo>
                <a:cubicBezTo>
                  <a:pt x="21076" y="7441"/>
                  <a:pt x="21067" y="7441"/>
                  <a:pt x="21059" y="7441"/>
                </a:cubicBezTo>
              </a:path>
              <a:path w="16744" h="5781">
                <a:moveTo>
                  <a:pt x="21555" y="6474"/>
                </a:moveTo>
                <a:cubicBezTo>
                  <a:pt x="21655" y="6474"/>
                  <a:pt x="21733" y="6463"/>
                  <a:pt x="21828" y="6449"/>
                </a:cubicBezTo>
                <a:cubicBezTo>
                  <a:pt x="21878" y="6449"/>
                  <a:pt x="21894" y="6449"/>
                  <a:pt x="21927" y="6449"/>
                </a:cubicBezTo>
              </a:path>
              <a:path w="16744" h="5781">
                <a:moveTo>
                  <a:pt x="22498" y="6152"/>
                </a:moveTo>
                <a:cubicBezTo>
                  <a:pt x="22458" y="6270"/>
                  <a:pt x="22439" y="6380"/>
                  <a:pt x="22399" y="6499"/>
                </a:cubicBezTo>
                <a:cubicBezTo>
                  <a:pt x="22374" y="6575"/>
                  <a:pt x="22352" y="6691"/>
                  <a:pt x="22374" y="6772"/>
                </a:cubicBezTo>
                <a:cubicBezTo>
                  <a:pt x="22390" y="6833"/>
                  <a:pt x="22397" y="6928"/>
                  <a:pt x="22473" y="6945"/>
                </a:cubicBezTo>
                <a:cubicBezTo>
                  <a:pt x="22535" y="6959"/>
                  <a:pt x="22650" y="6946"/>
                  <a:pt x="22696" y="6896"/>
                </a:cubicBezTo>
                <a:cubicBezTo>
                  <a:pt x="22704" y="6879"/>
                  <a:pt x="22713" y="6863"/>
                  <a:pt x="22721" y="6846"/>
                </a:cubicBezTo>
              </a:path>
              <a:path w="16744" h="5781">
                <a:moveTo>
                  <a:pt x="22473" y="5655"/>
                </a:moveTo>
                <a:cubicBezTo>
                  <a:pt x="22499" y="5734"/>
                  <a:pt x="22551" y="5705"/>
                  <a:pt x="22647" y="5705"/>
                </a:cubicBezTo>
                <a:cubicBezTo>
                  <a:pt x="22566" y="5669"/>
                  <a:pt x="22510" y="5655"/>
                  <a:pt x="22423" y="5655"/>
                </a:cubicBezTo>
              </a:path>
              <a:path w="16744" h="5781">
                <a:moveTo>
                  <a:pt x="22994" y="5333"/>
                </a:moveTo>
                <a:cubicBezTo>
                  <a:pt x="22812" y="5207"/>
                  <a:pt x="22730" y="5160"/>
                  <a:pt x="22523" y="5085"/>
                </a:cubicBezTo>
                <a:cubicBezTo>
                  <a:pt x="22074" y="4922"/>
                  <a:pt x="21632" y="4858"/>
                  <a:pt x="21158" y="4812"/>
                </a:cubicBezTo>
                <a:cubicBezTo>
                  <a:pt x="20786" y="4776"/>
                  <a:pt x="20416" y="4744"/>
                  <a:pt x="20042" y="4762"/>
                </a:cubicBezTo>
                <a:cubicBezTo>
                  <a:pt x="19467" y="4789"/>
                  <a:pt x="18896" y="4853"/>
                  <a:pt x="18331" y="4961"/>
                </a:cubicBezTo>
                <a:cubicBezTo>
                  <a:pt x="17998" y="5024"/>
                  <a:pt x="17689" y="5147"/>
                  <a:pt x="17363" y="5234"/>
                </a:cubicBezTo>
                <a:cubicBezTo>
                  <a:pt x="17083" y="5309"/>
                  <a:pt x="16851" y="5423"/>
                  <a:pt x="16594" y="5556"/>
                </a:cubicBezTo>
                <a:cubicBezTo>
                  <a:pt x="16389" y="5662"/>
                  <a:pt x="16254" y="5788"/>
                  <a:pt x="16098" y="5953"/>
                </a:cubicBezTo>
                <a:cubicBezTo>
                  <a:pt x="15973" y="6086"/>
                  <a:pt x="15869" y="6204"/>
                  <a:pt x="15801" y="6375"/>
                </a:cubicBezTo>
                <a:cubicBezTo>
                  <a:pt x="15733" y="6545"/>
                  <a:pt x="15742" y="6725"/>
                  <a:pt x="15801" y="6896"/>
                </a:cubicBezTo>
                <a:cubicBezTo>
                  <a:pt x="15849" y="7035"/>
                  <a:pt x="15937" y="7150"/>
                  <a:pt x="16049" y="7243"/>
                </a:cubicBezTo>
                <a:cubicBezTo>
                  <a:pt x="16396" y="7533"/>
                  <a:pt x="16903" y="7633"/>
                  <a:pt x="17338" y="7689"/>
                </a:cubicBezTo>
                <a:cubicBezTo>
                  <a:pt x="17662" y="7730"/>
                  <a:pt x="17982" y="7743"/>
                  <a:pt x="18306" y="7764"/>
                </a:cubicBezTo>
                <a:cubicBezTo>
                  <a:pt x="18769" y="7794"/>
                  <a:pt x="19231" y="7789"/>
                  <a:pt x="19695" y="7789"/>
                </a:cubicBezTo>
                <a:cubicBezTo>
                  <a:pt x="20083" y="7789"/>
                  <a:pt x="20474" y="7770"/>
                  <a:pt x="20861" y="7739"/>
                </a:cubicBezTo>
                <a:cubicBezTo>
                  <a:pt x="21222" y="7710"/>
                  <a:pt x="21572" y="7664"/>
                  <a:pt x="21927" y="7590"/>
                </a:cubicBezTo>
                <a:cubicBezTo>
                  <a:pt x="22213" y="7531"/>
                  <a:pt x="22479" y="7464"/>
                  <a:pt x="22746" y="7342"/>
                </a:cubicBezTo>
                <a:cubicBezTo>
                  <a:pt x="22993" y="7229"/>
                  <a:pt x="23152" y="7062"/>
                  <a:pt x="23267" y="6821"/>
                </a:cubicBezTo>
                <a:cubicBezTo>
                  <a:pt x="23396" y="6551"/>
                  <a:pt x="23339" y="6214"/>
                  <a:pt x="23217" y="5953"/>
                </a:cubicBezTo>
                <a:cubicBezTo>
                  <a:pt x="23114" y="5733"/>
                  <a:pt x="22936" y="5508"/>
                  <a:pt x="22746" y="5358"/>
                </a:cubicBezTo>
                <a:cubicBezTo>
                  <a:pt x="22624" y="5262"/>
                  <a:pt x="22486" y="5207"/>
                  <a:pt x="22349" y="51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6"/>
          <p:cNvSpPr/>
          <p:nvPr/>
        </p:nvSpPr>
        <p:spPr>
          <a:xfrm>
            <a:off x="241200" y="1616040"/>
            <a:ext cx="2063880" cy="2590920"/>
          </a:xfrm>
          <a:custGeom>
            <a:avLst/>
            <a:gdLst/>
            <a:ahLst/>
            <a:rect l="l" t="t" r="r" b="b"/>
            <a:pathLst>
              <a:path w="5731" h="7194">
                <a:moveTo>
                  <a:pt x="2902" y="4663"/>
                </a:moveTo>
                <a:cubicBezTo>
                  <a:pt x="2902" y="4920"/>
                  <a:pt x="2891" y="5181"/>
                  <a:pt x="2927" y="5432"/>
                </a:cubicBezTo>
                <a:cubicBezTo>
                  <a:pt x="2934" y="5479"/>
                  <a:pt x="2927" y="5534"/>
                  <a:pt x="2927" y="5581"/>
                </a:cubicBezTo>
              </a:path>
              <a:path w="5731" h="7194">
                <a:moveTo>
                  <a:pt x="2580" y="4614"/>
                </a:moveTo>
                <a:cubicBezTo>
                  <a:pt x="2735" y="4508"/>
                  <a:pt x="2791" y="4465"/>
                  <a:pt x="2977" y="4514"/>
                </a:cubicBezTo>
                <a:cubicBezTo>
                  <a:pt x="3105" y="4548"/>
                  <a:pt x="3191" y="4579"/>
                  <a:pt x="3274" y="4688"/>
                </a:cubicBezTo>
                <a:cubicBezTo>
                  <a:pt x="3312" y="4738"/>
                  <a:pt x="3356" y="4875"/>
                  <a:pt x="3324" y="4936"/>
                </a:cubicBezTo>
                <a:cubicBezTo>
                  <a:pt x="3285" y="5010"/>
                  <a:pt x="3209" y="5083"/>
                  <a:pt x="3150" y="5135"/>
                </a:cubicBezTo>
                <a:cubicBezTo>
                  <a:pt x="3089" y="5189"/>
                  <a:pt x="3047" y="5243"/>
                  <a:pt x="2977" y="5283"/>
                </a:cubicBezTo>
              </a:path>
              <a:path w="5731" h="7194">
                <a:moveTo>
                  <a:pt x="3373" y="5135"/>
                </a:moveTo>
                <a:cubicBezTo>
                  <a:pt x="3343" y="5219"/>
                  <a:pt x="3248" y="5337"/>
                  <a:pt x="3274" y="5432"/>
                </a:cubicBezTo>
                <a:cubicBezTo>
                  <a:pt x="3299" y="5524"/>
                  <a:pt x="3409" y="5502"/>
                  <a:pt x="3473" y="5482"/>
                </a:cubicBezTo>
                <a:cubicBezTo>
                  <a:pt x="3543" y="5460"/>
                  <a:pt x="3558" y="5386"/>
                  <a:pt x="3597" y="5333"/>
                </a:cubicBezTo>
                <a:cubicBezTo>
                  <a:pt x="3624" y="5296"/>
                  <a:pt x="3628" y="5212"/>
                  <a:pt x="3572" y="5184"/>
                </a:cubicBezTo>
                <a:cubicBezTo>
                  <a:pt x="3512" y="5154"/>
                  <a:pt x="3457" y="5176"/>
                  <a:pt x="3398" y="5184"/>
                </a:cubicBezTo>
              </a:path>
              <a:path w="5731" h="7194">
                <a:moveTo>
                  <a:pt x="3969" y="5011"/>
                </a:moveTo>
                <a:cubicBezTo>
                  <a:pt x="3898" y="5056"/>
                  <a:pt x="3815" y="5088"/>
                  <a:pt x="3746" y="5135"/>
                </a:cubicBezTo>
                <a:cubicBezTo>
                  <a:pt x="3721" y="5159"/>
                  <a:pt x="3712" y="5167"/>
                  <a:pt x="3696" y="5184"/>
                </a:cubicBezTo>
                <a:cubicBezTo>
                  <a:pt x="3764" y="5193"/>
                  <a:pt x="3852" y="5193"/>
                  <a:pt x="3919" y="5209"/>
                </a:cubicBezTo>
                <a:cubicBezTo>
                  <a:pt x="3978" y="5223"/>
                  <a:pt x="4027" y="5267"/>
                  <a:pt x="4068" y="5308"/>
                </a:cubicBezTo>
                <a:cubicBezTo>
                  <a:pt x="4029" y="5340"/>
                  <a:pt x="3970" y="5395"/>
                  <a:pt x="3919" y="5407"/>
                </a:cubicBezTo>
                <a:cubicBezTo>
                  <a:pt x="3861" y="5420"/>
                  <a:pt x="3807" y="5432"/>
                  <a:pt x="3746" y="5432"/>
                </a:cubicBezTo>
              </a:path>
              <a:path w="5731" h="7194">
                <a:moveTo>
                  <a:pt x="4242" y="5011"/>
                </a:moveTo>
                <a:cubicBezTo>
                  <a:pt x="4201" y="5039"/>
                  <a:pt x="4075" y="5092"/>
                  <a:pt x="4142" y="5159"/>
                </a:cubicBezTo>
                <a:cubicBezTo>
                  <a:pt x="4205" y="5222"/>
                  <a:pt x="4297" y="5232"/>
                  <a:pt x="4366" y="5283"/>
                </a:cubicBezTo>
                <a:cubicBezTo>
                  <a:pt x="4418" y="5321"/>
                  <a:pt x="4499" y="5415"/>
                  <a:pt x="4390" y="5457"/>
                </a:cubicBezTo>
                <a:cubicBezTo>
                  <a:pt x="4354" y="5471"/>
                  <a:pt x="4216" y="5470"/>
                  <a:pt x="4192" y="5432"/>
                </a:cubicBezTo>
                <a:cubicBezTo>
                  <a:pt x="4192" y="5424"/>
                  <a:pt x="4192" y="5415"/>
                  <a:pt x="4192" y="5407"/>
                </a:cubicBezTo>
              </a:path>
              <a:path w="5731" h="7194">
                <a:moveTo>
                  <a:pt x="4514" y="5209"/>
                </a:moveTo>
                <a:cubicBezTo>
                  <a:pt x="4516" y="5228"/>
                  <a:pt x="4539" y="5419"/>
                  <a:pt x="4539" y="5358"/>
                </a:cubicBezTo>
              </a:path>
              <a:path w="5731" h="7194">
                <a:moveTo>
                  <a:pt x="4514" y="4837"/>
                </a:moveTo>
                <a:cubicBezTo>
                  <a:pt x="4490" y="4812"/>
                  <a:pt x="4482" y="4804"/>
                  <a:pt x="4514" y="4787"/>
                </a:cubicBezTo>
              </a:path>
              <a:path w="5731" h="7194">
                <a:moveTo>
                  <a:pt x="4762" y="4688"/>
                </a:moveTo>
                <a:cubicBezTo>
                  <a:pt x="4779" y="4858"/>
                  <a:pt x="4787" y="5015"/>
                  <a:pt x="4787" y="5184"/>
                </a:cubicBezTo>
                <a:cubicBezTo>
                  <a:pt x="4787" y="5264"/>
                  <a:pt x="4773" y="5343"/>
                  <a:pt x="4812" y="5407"/>
                </a:cubicBezTo>
                <a:cubicBezTo>
                  <a:pt x="4812" y="5542"/>
                  <a:pt x="4833" y="5308"/>
                  <a:pt x="4837" y="5283"/>
                </a:cubicBezTo>
                <a:cubicBezTo>
                  <a:pt x="4844" y="5239"/>
                  <a:pt x="4855" y="5130"/>
                  <a:pt x="4911" y="5110"/>
                </a:cubicBezTo>
                <a:cubicBezTo>
                  <a:pt x="4980" y="5085"/>
                  <a:pt x="5085" y="5114"/>
                  <a:pt x="5110" y="5184"/>
                </a:cubicBezTo>
                <a:cubicBezTo>
                  <a:pt x="5141" y="5272"/>
                  <a:pt x="5062" y="5339"/>
                  <a:pt x="5011" y="5383"/>
                </a:cubicBezTo>
                <a:cubicBezTo>
                  <a:pt x="4949" y="5437"/>
                  <a:pt x="4892" y="5469"/>
                  <a:pt x="4812" y="5482"/>
                </a:cubicBezTo>
                <a:cubicBezTo>
                  <a:pt x="4762" y="5482"/>
                  <a:pt x="4745" y="5482"/>
                  <a:pt x="4762" y="5432"/>
                </a:cubicBezTo>
              </a:path>
              <a:path w="5731" h="7194">
                <a:moveTo>
                  <a:pt x="5159" y="4638"/>
                </a:moveTo>
                <a:cubicBezTo>
                  <a:pt x="5221" y="4717"/>
                  <a:pt x="5266" y="4829"/>
                  <a:pt x="5259" y="4936"/>
                </a:cubicBezTo>
                <a:cubicBezTo>
                  <a:pt x="5252" y="5039"/>
                  <a:pt x="5255" y="5106"/>
                  <a:pt x="5259" y="5209"/>
                </a:cubicBezTo>
                <a:cubicBezTo>
                  <a:pt x="5261" y="5258"/>
                  <a:pt x="5259" y="5308"/>
                  <a:pt x="5259" y="5358"/>
                </a:cubicBezTo>
              </a:path>
              <a:path w="5731" h="7194">
                <a:moveTo>
                  <a:pt x="5407" y="5234"/>
                </a:moveTo>
                <a:cubicBezTo>
                  <a:pt x="5486" y="5194"/>
                  <a:pt x="5677" y="5140"/>
                  <a:pt x="5705" y="5035"/>
                </a:cubicBezTo>
                <a:cubicBezTo>
                  <a:pt x="5705" y="5019"/>
                  <a:pt x="5705" y="5002"/>
                  <a:pt x="5705" y="4986"/>
                </a:cubicBezTo>
                <a:cubicBezTo>
                  <a:pt x="5630" y="4997"/>
                  <a:pt x="5591" y="5029"/>
                  <a:pt x="5531" y="5085"/>
                </a:cubicBezTo>
                <a:cubicBezTo>
                  <a:pt x="5494" y="5120"/>
                  <a:pt x="5441" y="5209"/>
                  <a:pt x="5432" y="5259"/>
                </a:cubicBezTo>
                <a:cubicBezTo>
                  <a:pt x="5418" y="5337"/>
                  <a:pt x="5444" y="5436"/>
                  <a:pt x="5531" y="5457"/>
                </a:cubicBezTo>
                <a:cubicBezTo>
                  <a:pt x="5611" y="5476"/>
                  <a:pt x="5685" y="5438"/>
                  <a:pt x="5755" y="5407"/>
                </a:cubicBezTo>
              </a:path>
              <a:path w="5731" h="7194">
                <a:moveTo>
                  <a:pt x="6028" y="5035"/>
                </a:moveTo>
                <a:cubicBezTo>
                  <a:pt x="6020" y="5035"/>
                  <a:pt x="6011" y="5035"/>
                  <a:pt x="6003" y="5035"/>
                </a:cubicBezTo>
              </a:path>
              <a:path w="5731" h="7194">
                <a:moveTo>
                  <a:pt x="5953" y="5283"/>
                </a:moveTo>
                <a:lnTo>
                  <a:pt x="5953" y="5283"/>
                </a:lnTo>
              </a:path>
              <a:path w="5731" h="7194">
                <a:moveTo>
                  <a:pt x="893" y="8062"/>
                </a:moveTo>
                <a:cubicBezTo>
                  <a:pt x="967" y="8120"/>
                  <a:pt x="1023" y="8111"/>
                  <a:pt x="1116" y="8111"/>
                </a:cubicBezTo>
                <a:cubicBezTo>
                  <a:pt x="1185" y="8111"/>
                  <a:pt x="1242" y="8131"/>
                  <a:pt x="1315" y="8136"/>
                </a:cubicBezTo>
              </a:path>
              <a:path w="5731" h="7194">
                <a:moveTo>
                  <a:pt x="1488" y="7838"/>
                </a:moveTo>
                <a:cubicBezTo>
                  <a:pt x="1529" y="7767"/>
                  <a:pt x="1551" y="7744"/>
                  <a:pt x="1637" y="7739"/>
                </a:cubicBezTo>
                <a:cubicBezTo>
                  <a:pt x="1705" y="7735"/>
                  <a:pt x="1749" y="7743"/>
                  <a:pt x="1811" y="7764"/>
                </a:cubicBezTo>
                <a:cubicBezTo>
                  <a:pt x="1827" y="7826"/>
                  <a:pt x="1831" y="7883"/>
                  <a:pt x="1786" y="7938"/>
                </a:cubicBezTo>
                <a:cubicBezTo>
                  <a:pt x="1736" y="8000"/>
                  <a:pt x="1673" y="8040"/>
                  <a:pt x="1612" y="8086"/>
                </a:cubicBezTo>
                <a:cubicBezTo>
                  <a:pt x="1566" y="8121"/>
                  <a:pt x="1658" y="8065"/>
                  <a:pt x="1712" y="8062"/>
                </a:cubicBezTo>
                <a:cubicBezTo>
                  <a:pt x="1783" y="8059"/>
                  <a:pt x="1847" y="8100"/>
                  <a:pt x="1885" y="8161"/>
                </a:cubicBezTo>
                <a:cubicBezTo>
                  <a:pt x="1960" y="8280"/>
                  <a:pt x="1932" y="8291"/>
                  <a:pt x="1860" y="8359"/>
                </a:cubicBezTo>
                <a:cubicBezTo>
                  <a:pt x="1794" y="8421"/>
                  <a:pt x="1729" y="8430"/>
                  <a:pt x="1637" y="8434"/>
                </a:cubicBezTo>
                <a:cubicBezTo>
                  <a:pt x="1561" y="8438"/>
                  <a:pt x="1509" y="8425"/>
                  <a:pt x="1439" y="8409"/>
                </a:cubicBezTo>
                <a:cubicBezTo>
                  <a:pt x="1396" y="8409"/>
                  <a:pt x="1393" y="8392"/>
                  <a:pt x="1439" y="8334"/>
                </a:cubicBezTo>
              </a:path>
              <a:path w="5731" h="7194">
                <a:moveTo>
                  <a:pt x="2183" y="7466"/>
                </a:moveTo>
                <a:cubicBezTo>
                  <a:pt x="2204" y="7590"/>
                  <a:pt x="2243" y="7716"/>
                  <a:pt x="2257" y="7838"/>
                </a:cubicBezTo>
                <a:cubicBezTo>
                  <a:pt x="2269" y="7946"/>
                  <a:pt x="2258" y="8055"/>
                  <a:pt x="2282" y="8161"/>
                </a:cubicBezTo>
                <a:cubicBezTo>
                  <a:pt x="2301" y="8244"/>
                  <a:pt x="2328" y="8325"/>
                  <a:pt x="2332" y="8409"/>
                </a:cubicBezTo>
                <a:cubicBezTo>
                  <a:pt x="2335" y="8483"/>
                  <a:pt x="2332" y="8558"/>
                  <a:pt x="2332" y="8632"/>
                </a:cubicBezTo>
                <a:cubicBezTo>
                  <a:pt x="2309" y="8632"/>
                  <a:pt x="2228" y="8620"/>
                  <a:pt x="2183" y="8632"/>
                </a:cubicBezTo>
                <a:cubicBezTo>
                  <a:pt x="2091" y="8658"/>
                  <a:pt x="2009" y="8657"/>
                  <a:pt x="1910" y="8657"/>
                </a:cubicBezTo>
                <a:cubicBezTo>
                  <a:pt x="1776" y="8657"/>
                  <a:pt x="1690" y="8699"/>
                  <a:pt x="1563" y="8706"/>
                </a:cubicBezTo>
                <a:cubicBezTo>
                  <a:pt x="1402" y="8715"/>
                  <a:pt x="1245" y="8708"/>
                  <a:pt x="1091" y="8731"/>
                </a:cubicBezTo>
                <a:cubicBezTo>
                  <a:pt x="1050" y="8731"/>
                  <a:pt x="1034" y="8739"/>
                  <a:pt x="1042" y="8706"/>
                </a:cubicBezTo>
              </a:path>
              <a:path w="5731" h="7194">
                <a:moveTo>
                  <a:pt x="3373" y="7367"/>
                </a:moveTo>
                <a:cubicBezTo>
                  <a:pt x="3390" y="7367"/>
                  <a:pt x="3406" y="7367"/>
                  <a:pt x="3423" y="7367"/>
                </a:cubicBezTo>
                <a:cubicBezTo>
                  <a:pt x="3423" y="7671"/>
                  <a:pt x="3401" y="7991"/>
                  <a:pt x="3448" y="8285"/>
                </a:cubicBezTo>
                <a:cubicBezTo>
                  <a:pt x="3461" y="8369"/>
                  <a:pt x="3468" y="8410"/>
                  <a:pt x="3473" y="8483"/>
                </a:cubicBezTo>
                <a:cubicBezTo>
                  <a:pt x="3473" y="8491"/>
                  <a:pt x="3473" y="8500"/>
                  <a:pt x="3473" y="8508"/>
                </a:cubicBezTo>
              </a:path>
              <a:path w="5731" h="7194">
                <a:moveTo>
                  <a:pt x="5904" y="7417"/>
                </a:moveTo>
                <a:cubicBezTo>
                  <a:pt x="5870" y="7492"/>
                  <a:pt x="5862" y="7568"/>
                  <a:pt x="5829" y="7640"/>
                </a:cubicBezTo>
                <a:cubicBezTo>
                  <a:pt x="5799" y="7706"/>
                  <a:pt x="5766" y="7814"/>
                  <a:pt x="5755" y="7888"/>
                </a:cubicBezTo>
                <a:cubicBezTo>
                  <a:pt x="5740" y="7986"/>
                  <a:pt x="5716" y="8088"/>
                  <a:pt x="5705" y="8186"/>
                </a:cubicBezTo>
                <a:cubicBezTo>
                  <a:pt x="5696" y="8270"/>
                  <a:pt x="5713" y="8338"/>
                  <a:pt x="5755" y="8409"/>
                </a:cubicBezTo>
                <a:cubicBezTo>
                  <a:pt x="5792" y="8472"/>
                  <a:pt x="5831" y="8496"/>
                  <a:pt x="5904" y="8508"/>
                </a:cubicBezTo>
                <a:cubicBezTo>
                  <a:pt x="5980" y="8521"/>
                  <a:pt x="6109" y="8517"/>
                  <a:pt x="6176" y="8483"/>
                </a:cubicBezTo>
                <a:cubicBezTo>
                  <a:pt x="6248" y="8446"/>
                  <a:pt x="6318" y="8366"/>
                  <a:pt x="6375" y="8310"/>
                </a:cubicBezTo>
                <a:cubicBezTo>
                  <a:pt x="6417" y="8268"/>
                  <a:pt x="6403" y="8145"/>
                  <a:pt x="6350" y="8111"/>
                </a:cubicBezTo>
                <a:cubicBezTo>
                  <a:pt x="6302" y="8081"/>
                  <a:pt x="6187" y="8120"/>
                  <a:pt x="6152" y="8161"/>
                </a:cubicBezTo>
                <a:cubicBezTo>
                  <a:pt x="6110" y="8210"/>
                  <a:pt x="6080" y="8270"/>
                  <a:pt x="6077" y="8334"/>
                </a:cubicBezTo>
                <a:cubicBezTo>
                  <a:pt x="6077" y="8396"/>
                  <a:pt x="6068" y="8411"/>
                  <a:pt x="6102" y="8434"/>
                </a:cubicBezTo>
              </a:path>
              <a:path w="5731" h="7194">
                <a:moveTo>
                  <a:pt x="3473" y="8880"/>
                </a:moveTo>
                <a:cubicBezTo>
                  <a:pt x="3483" y="8952"/>
                  <a:pt x="3497" y="8997"/>
                  <a:pt x="3497" y="9079"/>
                </a:cubicBezTo>
                <a:cubicBezTo>
                  <a:pt x="3497" y="9188"/>
                  <a:pt x="3473" y="9290"/>
                  <a:pt x="3473" y="9401"/>
                </a:cubicBezTo>
                <a:cubicBezTo>
                  <a:pt x="3473" y="9532"/>
                  <a:pt x="3433" y="9739"/>
                  <a:pt x="3497" y="9847"/>
                </a:cubicBezTo>
              </a:path>
              <a:path w="5731" h="7194">
                <a:moveTo>
                  <a:pt x="3225" y="9500"/>
                </a:moveTo>
                <a:cubicBezTo>
                  <a:pt x="3277" y="9554"/>
                  <a:pt x="3284" y="9612"/>
                  <a:pt x="3324" y="9674"/>
                </a:cubicBezTo>
                <a:cubicBezTo>
                  <a:pt x="3361" y="9732"/>
                  <a:pt x="3411" y="9789"/>
                  <a:pt x="3448" y="9847"/>
                </a:cubicBezTo>
                <a:cubicBezTo>
                  <a:pt x="3514" y="9952"/>
                  <a:pt x="3522" y="9875"/>
                  <a:pt x="3597" y="9823"/>
                </a:cubicBezTo>
                <a:cubicBezTo>
                  <a:pt x="3657" y="9781"/>
                  <a:pt x="3674" y="9737"/>
                  <a:pt x="3721" y="9674"/>
                </a:cubicBezTo>
                <a:cubicBezTo>
                  <a:pt x="3766" y="9614"/>
                  <a:pt x="3821" y="9585"/>
                  <a:pt x="3870" y="9525"/>
                </a:cubicBezTo>
              </a:path>
              <a:path w="5731" h="7194">
                <a:moveTo>
                  <a:pt x="3770" y="10443"/>
                </a:moveTo>
                <a:cubicBezTo>
                  <a:pt x="3833" y="10442"/>
                  <a:pt x="3778" y="10493"/>
                  <a:pt x="3795" y="10567"/>
                </a:cubicBezTo>
                <a:cubicBezTo>
                  <a:pt x="3815" y="10654"/>
                  <a:pt x="3820" y="10725"/>
                  <a:pt x="3820" y="10815"/>
                </a:cubicBezTo>
                <a:cubicBezTo>
                  <a:pt x="3820" y="10905"/>
                  <a:pt x="3841" y="10976"/>
                  <a:pt x="3845" y="11063"/>
                </a:cubicBezTo>
                <a:cubicBezTo>
                  <a:pt x="3850" y="11172"/>
                  <a:pt x="3851" y="11644"/>
                  <a:pt x="3820" y="11633"/>
                </a:cubicBezTo>
              </a:path>
              <a:path w="5731" h="7194">
                <a:moveTo>
                  <a:pt x="2108" y="7020"/>
                </a:moveTo>
                <a:cubicBezTo>
                  <a:pt x="2000" y="6965"/>
                  <a:pt x="1958" y="6967"/>
                  <a:pt x="1836" y="6995"/>
                </a:cubicBezTo>
                <a:cubicBezTo>
                  <a:pt x="1726" y="7022"/>
                  <a:pt x="1684" y="7034"/>
                  <a:pt x="1612" y="7069"/>
                </a:cubicBezTo>
              </a:path>
              <a:path w="5731" h="7194">
                <a:moveTo>
                  <a:pt x="1166" y="7342"/>
                </a:moveTo>
                <a:cubicBezTo>
                  <a:pt x="1030" y="7507"/>
                  <a:pt x="861" y="7678"/>
                  <a:pt x="794" y="7888"/>
                </a:cubicBezTo>
                <a:cubicBezTo>
                  <a:pt x="752" y="8019"/>
                  <a:pt x="747" y="8203"/>
                  <a:pt x="794" y="8334"/>
                </a:cubicBezTo>
                <a:cubicBezTo>
                  <a:pt x="850" y="8492"/>
                  <a:pt x="966" y="8624"/>
                  <a:pt x="1091" y="8731"/>
                </a:cubicBezTo>
                <a:cubicBezTo>
                  <a:pt x="1259" y="8875"/>
                  <a:pt x="1494" y="8972"/>
                  <a:pt x="1712" y="9004"/>
                </a:cubicBezTo>
                <a:cubicBezTo>
                  <a:pt x="1878" y="9028"/>
                  <a:pt x="2116" y="8937"/>
                  <a:pt x="2257" y="8855"/>
                </a:cubicBezTo>
                <a:cubicBezTo>
                  <a:pt x="2466" y="8734"/>
                  <a:pt x="2573" y="8557"/>
                  <a:pt x="2654" y="8334"/>
                </a:cubicBezTo>
                <a:cubicBezTo>
                  <a:pt x="2729" y="8127"/>
                  <a:pt x="2651" y="7866"/>
                  <a:pt x="2580" y="7665"/>
                </a:cubicBezTo>
                <a:cubicBezTo>
                  <a:pt x="2461" y="7331"/>
                  <a:pt x="2156" y="7028"/>
                  <a:pt x="1811" y="6945"/>
                </a:cubicBezTo>
                <a:cubicBezTo>
                  <a:pt x="1639" y="6903"/>
                  <a:pt x="1486" y="6885"/>
                  <a:pt x="1315" y="6945"/>
                </a:cubicBezTo>
                <a:cubicBezTo>
                  <a:pt x="1174" y="6994"/>
                  <a:pt x="1020" y="7110"/>
                  <a:pt x="918" y="7218"/>
                </a:cubicBezTo>
                <a:cubicBezTo>
                  <a:pt x="780" y="7364"/>
                  <a:pt x="690" y="7617"/>
                  <a:pt x="670" y="7813"/>
                </a:cubicBezTo>
                <a:cubicBezTo>
                  <a:pt x="653" y="7981"/>
                  <a:pt x="649" y="8180"/>
                  <a:pt x="719" y="8334"/>
                </a:cubicBezTo>
                <a:cubicBezTo>
                  <a:pt x="790" y="8489"/>
                  <a:pt x="875" y="8610"/>
                  <a:pt x="1017" y="8706"/>
                </a:cubicBezTo>
                <a:cubicBezTo>
                  <a:pt x="1215" y="8840"/>
                  <a:pt x="1327" y="8855"/>
                  <a:pt x="1563" y="8855"/>
                </a:cubicBezTo>
                <a:cubicBezTo>
                  <a:pt x="1773" y="8855"/>
                  <a:pt x="1984" y="8855"/>
                  <a:pt x="2183" y="8781"/>
                </a:cubicBezTo>
                <a:cubicBezTo>
                  <a:pt x="2346" y="8720"/>
                  <a:pt x="2576" y="8604"/>
                  <a:pt x="2704" y="8483"/>
                </a:cubicBezTo>
                <a:cubicBezTo>
                  <a:pt x="2821" y="8371"/>
                  <a:pt x="2931" y="8197"/>
                  <a:pt x="2952" y="8037"/>
                </a:cubicBezTo>
                <a:cubicBezTo>
                  <a:pt x="2982" y="7815"/>
                  <a:pt x="2853" y="7587"/>
                  <a:pt x="2729" y="7417"/>
                </a:cubicBezTo>
                <a:cubicBezTo>
                  <a:pt x="2605" y="7246"/>
                  <a:pt x="2445" y="7168"/>
                  <a:pt x="2257" y="7094"/>
                </a:cubicBezTo>
                <a:cubicBezTo>
                  <a:pt x="2070" y="7020"/>
                  <a:pt x="1892" y="6953"/>
                  <a:pt x="1687" y="6970"/>
                </a:cubicBezTo>
                <a:cubicBezTo>
                  <a:pt x="1508" y="6985"/>
                  <a:pt x="1339" y="7042"/>
                  <a:pt x="1191" y="7144"/>
                </a:cubicBezTo>
                <a:cubicBezTo>
                  <a:pt x="1037" y="7251"/>
                  <a:pt x="904" y="7424"/>
                  <a:pt x="819" y="7590"/>
                </a:cubicBezTo>
                <a:cubicBezTo>
                  <a:pt x="736" y="7752"/>
                  <a:pt x="728" y="7934"/>
                  <a:pt x="719" y="8111"/>
                </a:cubicBezTo>
              </a:path>
              <a:path w="5731" h="7194">
                <a:moveTo>
                  <a:pt x="943" y="10716"/>
                </a:moveTo>
                <a:cubicBezTo>
                  <a:pt x="993" y="10741"/>
                  <a:pt x="1080" y="10755"/>
                  <a:pt x="1141" y="10765"/>
                </a:cubicBezTo>
                <a:cubicBezTo>
                  <a:pt x="1200" y="10765"/>
                  <a:pt x="1226" y="10768"/>
                  <a:pt x="1265" y="10790"/>
                </a:cubicBezTo>
              </a:path>
              <a:path w="5731" h="7194">
                <a:moveTo>
                  <a:pt x="1588" y="10517"/>
                </a:moveTo>
                <a:cubicBezTo>
                  <a:pt x="1653" y="10492"/>
                  <a:pt x="1765" y="10465"/>
                  <a:pt x="1836" y="10517"/>
                </a:cubicBezTo>
                <a:cubicBezTo>
                  <a:pt x="1917" y="10576"/>
                  <a:pt x="1931" y="10555"/>
                  <a:pt x="1960" y="10641"/>
                </a:cubicBezTo>
                <a:cubicBezTo>
                  <a:pt x="1981" y="10702"/>
                  <a:pt x="1973" y="10770"/>
                  <a:pt x="1910" y="10815"/>
                </a:cubicBezTo>
                <a:cubicBezTo>
                  <a:pt x="1865" y="10847"/>
                  <a:pt x="1783" y="10902"/>
                  <a:pt x="1736" y="10914"/>
                </a:cubicBezTo>
                <a:cubicBezTo>
                  <a:pt x="1687" y="10914"/>
                  <a:pt x="1670" y="10914"/>
                  <a:pt x="1637" y="10914"/>
                </a:cubicBezTo>
                <a:cubicBezTo>
                  <a:pt x="1689" y="10945"/>
                  <a:pt x="1757" y="10938"/>
                  <a:pt x="1811" y="10964"/>
                </a:cubicBezTo>
                <a:cubicBezTo>
                  <a:pt x="1891" y="11002"/>
                  <a:pt x="2035" y="11092"/>
                  <a:pt x="2084" y="11162"/>
                </a:cubicBezTo>
                <a:cubicBezTo>
                  <a:pt x="2123" y="11218"/>
                  <a:pt x="2164" y="11328"/>
                  <a:pt x="2133" y="11385"/>
                </a:cubicBezTo>
                <a:cubicBezTo>
                  <a:pt x="2091" y="11462"/>
                  <a:pt x="1976" y="11445"/>
                  <a:pt x="1910" y="11460"/>
                </a:cubicBezTo>
                <a:cubicBezTo>
                  <a:pt x="1819" y="11481"/>
                  <a:pt x="1702" y="11481"/>
                  <a:pt x="1612" y="11435"/>
                </a:cubicBezTo>
                <a:cubicBezTo>
                  <a:pt x="1585" y="11407"/>
                  <a:pt x="1577" y="11393"/>
                  <a:pt x="1588" y="11361"/>
                </a:cubicBezTo>
              </a:path>
              <a:path w="5731" h="7194">
                <a:moveTo>
                  <a:pt x="3076" y="10120"/>
                </a:moveTo>
                <a:cubicBezTo>
                  <a:pt x="3062" y="10187"/>
                  <a:pt x="3032" y="10290"/>
                  <a:pt x="3026" y="10368"/>
                </a:cubicBezTo>
                <a:cubicBezTo>
                  <a:pt x="3012" y="10544"/>
                  <a:pt x="3038" y="10716"/>
                  <a:pt x="3051" y="10889"/>
                </a:cubicBezTo>
                <a:cubicBezTo>
                  <a:pt x="3061" y="11023"/>
                  <a:pt x="3088" y="11153"/>
                  <a:pt x="3101" y="11286"/>
                </a:cubicBezTo>
                <a:cubicBezTo>
                  <a:pt x="3109" y="11372"/>
                  <a:pt x="3143" y="11471"/>
                  <a:pt x="3125" y="11559"/>
                </a:cubicBezTo>
                <a:cubicBezTo>
                  <a:pt x="3098" y="11587"/>
                  <a:pt x="3090" y="11601"/>
                  <a:pt x="3101" y="11633"/>
                </a:cubicBezTo>
                <a:cubicBezTo>
                  <a:pt x="3023" y="11624"/>
                  <a:pt x="2957" y="11588"/>
                  <a:pt x="2877" y="11584"/>
                </a:cubicBezTo>
                <a:cubicBezTo>
                  <a:pt x="2776" y="11579"/>
                  <a:pt x="2683" y="11559"/>
                  <a:pt x="2580" y="11559"/>
                </a:cubicBezTo>
                <a:cubicBezTo>
                  <a:pt x="2411" y="11559"/>
                  <a:pt x="2251" y="11571"/>
                  <a:pt x="2084" y="11584"/>
                </a:cubicBezTo>
                <a:cubicBezTo>
                  <a:pt x="1951" y="11594"/>
                  <a:pt x="1816" y="11597"/>
                  <a:pt x="1687" y="11609"/>
                </a:cubicBezTo>
                <a:cubicBezTo>
                  <a:pt x="1628" y="11614"/>
                  <a:pt x="1488" y="11608"/>
                  <a:pt x="1439" y="11658"/>
                </a:cubicBezTo>
                <a:cubicBezTo>
                  <a:pt x="1439" y="11666"/>
                  <a:pt x="1439" y="11675"/>
                  <a:pt x="1439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7"/>
          <p:cNvSpPr/>
          <p:nvPr/>
        </p:nvSpPr>
        <p:spPr>
          <a:xfrm>
            <a:off x="2313000" y="839880"/>
            <a:ext cx="349200" cy="509400"/>
          </a:xfrm>
          <a:custGeom>
            <a:avLst/>
            <a:gdLst/>
            <a:ahLst/>
            <a:rect l="l" t="t" r="r" b="b"/>
            <a:pathLst>
              <a:path w="969" h="1415">
                <a:moveTo>
                  <a:pt x="6995" y="2654"/>
                </a:moveTo>
                <a:cubicBezTo>
                  <a:pt x="6969" y="2724"/>
                  <a:pt x="6970" y="2777"/>
                  <a:pt x="6970" y="2853"/>
                </a:cubicBezTo>
                <a:cubicBezTo>
                  <a:pt x="6970" y="2968"/>
                  <a:pt x="6979" y="3065"/>
                  <a:pt x="6995" y="3175"/>
                </a:cubicBezTo>
                <a:cubicBezTo>
                  <a:pt x="7011" y="3285"/>
                  <a:pt x="7022" y="3595"/>
                  <a:pt x="6970" y="3497"/>
                </a:cubicBezTo>
                <a:cubicBezTo>
                  <a:pt x="6962" y="3464"/>
                  <a:pt x="6953" y="3431"/>
                  <a:pt x="6945" y="3398"/>
                </a:cubicBezTo>
              </a:path>
              <a:path w="969" h="1415">
                <a:moveTo>
                  <a:pt x="7144" y="2406"/>
                </a:moveTo>
                <a:cubicBezTo>
                  <a:pt x="7014" y="2328"/>
                  <a:pt x="6986" y="2298"/>
                  <a:pt x="6871" y="2406"/>
                </a:cubicBezTo>
                <a:cubicBezTo>
                  <a:pt x="6776" y="2496"/>
                  <a:pt x="6702" y="2574"/>
                  <a:pt x="6623" y="2679"/>
                </a:cubicBezTo>
                <a:cubicBezTo>
                  <a:pt x="6549" y="2778"/>
                  <a:pt x="6473" y="2905"/>
                  <a:pt x="6449" y="3026"/>
                </a:cubicBezTo>
                <a:cubicBezTo>
                  <a:pt x="6419" y="3175"/>
                  <a:pt x="6407" y="3327"/>
                  <a:pt x="6449" y="3473"/>
                </a:cubicBezTo>
                <a:cubicBezTo>
                  <a:pt x="6488" y="3610"/>
                  <a:pt x="6549" y="3624"/>
                  <a:pt x="6648" y="3696"/>
                </a:cubicBezTo>
                <a:cubicBezTo>
                  <a:pt x="6789" y="3798"/>
                  <a:pt x="6908" y="3734"/>
                  <a:pt x="7069" y="3646"/>
                </a:cubicBezTo>
                <a:cubicBezTo>
                  <a:pt x="7156" y="3598"/>
                  <a:pt x="7251" y="3461"/>
                  <a:pt x="7293" y="3373"/>
                </a:cubicBezTo>
                <a:cubicBezTo>
                  <a:pt x="7337" y="3280"/>
                  <a:pt x="7380" y="3128"/>
                  <a:pt x="7392" y="3026"/>
                </a:cubicBezTo>
                <a:cubicBezTo>
                  <a:pt x="7405" y="2911"/>
                  <a:pt x="7373" y="2763"/>
                  <a:pt x="7342" y="2654"/>
                </a:cubicBezTo>
                <a:cubicBezTo>
                  <a:pt x="7320" y="2578"/>
                  <a:pt x="7257" y="2480"/>
                  <a:pt x="7193" y="2431"/>
                </a:cubicBezTo>
                <a:cubicBezTo>
                  <a:pt x="7162" y="2407"/>
                  <a:pt x="7058" y="2373"/>
                  <a:pt x="7020" y="2381"/>
                </a:cubicBezTo>
                <a:cubicBezTo>
                  <a:pt x="6970" y="2406"/>
                  <a:pt x="6953" y="2414"/>
                  <a:pt x="6945" y="24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8"/>
          <p:cNvSpPr/>
          <p:nvPr/>
        </p:nvSpPr>
        <p:spPr>
          <a:xfrm>
            <a:off x="2724120" y="2133720"/>
            <a:ext cx="339840" cy="260280"/>
          </a:xfrm>
          <a:custGeom>
            <a:avLst/>
            <a:gdLst/>
            <a:ahLst/>
            <a:rect l="l" t="t" r="r" b="b"/>
            <a:pathLst>
              <a:path w="944" h="721">
                <a:moveTo>
                  <a:pt x="7838" y="5928"/>
                </a:moveTo>
                <a:cubicBezTo>
                  <a:pt x="7877" y="6006"/>
                  <a:pt x="7842" y="6044"/>
                  <a:pt x="7838" y="6127"/>
                </a:cubicBezTo>
                <a:cubicBezTo>
                  <a:pt x="7835" y="6206"/>
                  <a:pt x="7830" y="6285"/>
                  <a:pt x="7863" y="6350"/>
                </a:cubicBezTo>
              </a:path>
              <a:path w="944" h="721">
                <a:moveTo>
                  <a:pt x="7565" y="6201"/>
                </a:moveTo>
                <a:cubicBezTo>
                  <a:pt x="7700" y="6217"/>
                  <a:pt x="7825" y="6226"/>
                  <a:pt x="7962" y="6226"/>
                </a:cubicBezTo>
              </a:path>
              <a:path w="944" h="721">
                <a:moveTo>
                  <a:pt x="7615" y="6598"/>
                </a:moveTo>
                <a:cubicBezTo>
                  <a:pt x="7740" y="6640"/>
                  <a:pt x="7785" y="6638"/>
                  <a:pt x="7913" y="6598"/>
                </a:cubicBezTo>
                <a:cubicBezTo>
                  <a:pt x="7938" y="6590"/>
                  <a:pt x="7962" y="6581"/>
                  <a:pt x="7987" y="6573"/>
                </a:cubicBezTo>
              </a:path>
              <a:path w="944" h="721">
                <a:moveTo>
                  <a:pt x="8483" y="5978"/>
                </a:moveTo>
                <a:cubicBezTo>
                  <a:pt x="8502" y="6107"/>
                  <a:pt x="8508" y="6220"/>
                  <a:pt x="8508" y="6350"/>
                </a:cubicBezTo>
                <a:cubicBezTo>
                  <a:pt x="8508" y="6449"/>
                  <a:pt x="8508" y="6549"/>
                  <a:pt x="8508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9"/>
          <p:cNvSpPr/>
          <p:nvPr/>
        </p:nvSpPr>
        <p:spPr>
          <a:xfrm>
            <a:off x="2963880" y="2697120"/>
            <a:ext cx="1243080" cy="1616040"/>
          </a:xfrm>
          <a:custGeom>
            <a:avLst/>
            <a:gdLst/>
            <a:ahLst/>
            <a:rect l="l" t="t" r="r" b="b"/>
            <a:pathLst>
              <a:path w="3449" h="4491">
                <a:moveTo>
                  <a:pt x="8880" y="7491"/>
                </a:moveTo>
                <a:cubicBezTo>
                  <a:pt x="8916" y="7551"/>
                  <a:pt x="8905" y="7614"/>
                  <a:pt x="8905" y="7689"/>
                </a:cubicBezTo>
                <a:cubicBezTo>
                  <a:pt x="8905" y="7785"/>
                  <a:pt x="8926" y="7868"/>
                  <a:pt x="8930" y="7962"/>
                </a:cubicBezTo>
                <a:cubicBezTo>
                  <a:pt x="8935" y="8104"/>
                  <a:pt x="8955" y="8278"/>
                  <a:pt x="8905" y="8409"/>
                </a:cubicBezTo>
              </a:path>
              <a:path w="3449" h="4491">
                <a:moveTo>
                  <a:pt x="9550" y="7565"/>
                </a:moveTo>
                <a:cubicBezTo>
                  <a:pt x="9543" y="7657"/>
                  <a:pt x="9525" y="7751"/>
                  <a:pt x="9500" y="7838"/>
                </a:cubicBezTo>
                <a:cubicBezTo>
                  <a:pt x="9474" y="7930"/>
                  <a:pt x="9475" y="8012"/>
                  <a:pt x="9475" y="8111"/>
                </a:cubicBezTo>
                <a:cubicBezTo>
                  <a:pt x="9475" y="8208"/>
                  <a:pt x="9514" y="8283"/>
                  <a:pt x="9575" y="8359"/>
                </a:cubicBezTo>
                <a:cubicBezTo>
                  <a:pt x="9611" y="8404"/>
                  <a:pt x="9711" y="8448"/>
                  <a:pt x="9773" y="8434"/>
                </a:cubicBezTo>
                <a:cubicBezTo>
                  <a:pt x="9839" y="8419"/>
                  <a:pt x="9925" y="8386"/>
                  <a:pt x="9971" y="8334"/>
                </a:cubicBezTo>
                <a:cubicBezTo>
                  <a:pt x="10018" y="8280"/>
                  <a:pt x="10062" y="8154"/>
                  <a:pt x="10071" y="8086"/>
                </a:cubicBezTo>
                <a:cubicBezTo>
                  <a:pt x="10086" y="7970"/>
                  <a:pt x="10044" y="7860"/>
                  <a:pt x="9996" y="7764"/>
                </a:cubicBezTo>
                <a:cubicBezTo>
                  <a:pt x="9964" y="7700"/>
                  <a:pt x="9905" y="7609"/>
                  <a:pt x="9847" y="7565"/>
                </a:cubicBezTo>
                <a:cubicBezTo>
                  <a:pt x="9790" y="7522"/>
                  <a:pt x="9715" y="7499"/>
                  <a:pt x="9649" y="7491"/>
                </a:cubicBezTo>
              </a:path>
              <a:path w="3449" h="4491">
                <a:moveTo>
                  <a:pt x="8235" y="9376"/>
                </a:moveTo>
                <a:cubicBezTo>
                  <a:pt x="8270" y="9317"/>
                  <a:pt x="8312" y="9247"/>
                  <a:pt x="8384" y="9227"/>
                </a:cubicBezTo>
                <a:cubicBezTo>
                  <a:pt x="8485" y="9199"/>
                  <a:pt x="8609" y="9241"/>
                  <a:pt x="8706" y="9252"/>
                </a:cubicBezTo>
                <a:cubicBezTo>
                  <a:pt x="8731" y="9252"/>
                  <a:pt x="8756" y="9252"/>
                  <a:pt x="8781" y="9252"/>
                </a:cubicBezTo>
              </a:path>
              <a:path w="3449" h="4491">
                <a:moveTo>
                  <a:pt x="9699" y="8954"/>
                </a:moveTo>
                <a:cubicBezTo>
                  <a:pt x="9661" y="8917"/>
                  <a:pt x="9637" y="8899"/>
                  <a:pt x="9599" y="8880"/>
                </a:cubicBezTo>
                <a:cubicBezTo>
                  <a:pt x="9512" y="8946"/>
                  <a:pt x="9445" y="8898"/>
                  <a:pt x="9351" y="8954"/>
                </a:cubicBezTo>
                <a:cubicBezTo>
                  <a:pt x="9284" y="8994"/>
                  <a:pt x="9180" y="9073"/>
                  <a:pt x="9153" y="9153"/>
                </a:cubicBezTo>
                <a:cubicBezTo>
                  <a:pt x="9139" y="9195"/>
                  <a:pt x="9194" y="9245"/>
                  <a:pt x="9227" y="9252"/>
                </a:cubicBezTo>
                <a:cubicBezTo>
                  <a:pt x="9318" y="9272"/>
                  <a:pt x="9417" y="9240"/>
                  <a:pt x="9500" y="9227"/>
                </a:cubicBezTo>
                <a:cubicBezTo>
                  <a:pt x="9591" y="9213"/>
                  <a:pt x="9598" y="9171"/>
                  <a:pt x="9649" y="9103"/>
                </a:cubicBezTo>
                <a:cubicBezTo>
                  <a:pt x="9679" y="9074"/>
                  <a:pt x="9691" y="9060"/>
                  <a:pt x="9699" y="9029"/>
                </a:cubicBezTo>
                <a:cubicBezTo>
                  <a:pt x="9661" y="9116"/>
                  <a:pt x="9654" y="9206"/>
                  <a:pt x="9649" y="9302"/>
                </a:cubicBezTo>
                <a:cubicBezTo>
                  <a:pt x="9644" y="9392"/>
                  <a:pt x="9660" y="9467"/>
                  <a:pt x="9674" y="9550"/>
                </a:cubicBezTo>
                <a:cubicBezTo>
                  <a:pt x="9683" y="9602"/>
                  <a:pt x="9657" y="9650"/>
                  <a:pt x="9649" y="9699"/>
                </a:cubicBezTo>
              </a:path>
              <a:path w="3449" h="4491">
                <a:moveTo>
                  <a:pt x="9401" y="10790"/>
                </a:moveTo>
                <a:cubicBezTo>
                  <a:pt x="9394" y="10965"/>
                  <a:pt x="9347" y="11161"/>
                  <a:pt x="9376" y="11336"/>
                </a:cubicBezTo>
                <a:cubicBezTo>
                  <a:pt x="9394" y="11442"/>
                  <a:pt x="9406" y="11552"/>
                  <a:pt x="9426" y="11658"/>
                </a:cubicBezTo>
                <a:cubicBezTo>
                  <a:pt x="9443" y="11749"/>
                  <a:pt x="9462" y="11843"/>
                  <a:pt x="9475" y="11931"/>
                </a:cubicBezTo>
                <a:cubicBezTo>
                  <a:pt x="9475" y="11948"/>
                  <a:pt x="9475" y="11964"/>
                  <a:pt x="9475" y="11981"/>
                </a:cubicBezTo>
              </a:path>
              <a:path w="3449" h="4491">
                <a:moveTo>
                  <a:pt x="11336" y="9599"/>
                </a:moveTo>
                <a:cubicBezTo>
                  <a:pt x="11416" y="9540"/>
                  <a:pt x="11455" y="9550"/>
                  <a:pt x="11559" y="9550"/>
                </a:cubicBezTo>
                <a:cubicBezTo>
                  <a:pt x="11625" y="9550"/>
                  <a:pt x="11642" y="9550"/>
                  <a:pt x="11683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4054320" y="4464000"/>
            <a:ext cx="517680" cy="938160"/>
          </a:xfrm>
          <a:custGeom>
            <a:avLst/>
            <a:gdLst/>
            <a:ahLst/>
            <a:rect l="l" t="t" r="r" b="b"/>
            <a:pathLst>
              <a:path w="1440" h="2606">
                <a:moveTo>
                  <a:pt x="11261" y="12849"/>
                </a:moveTo>
                <a:cubicBezTo>
                  <a:pt x="11452" y="12870"/>
                  <a:pt x="11386" y="12901"/>
                  <a:pt x="11609" y="12824"/>
                </a:cubicBezTo>
              </a:path>
              <a:path w="1440" h="2606">
                <a:moveTo>
                  <a:pt x="11956" y="12402"/>
                </a:moveTo>
                <a:cubicBezTo>
                  <a:pt x="12066" y="12402"/>
                  <a:pt x="12130" y="12404"/>
                  <a:pt x="12229" y="12452"/>
                </a:cubicBezTo>
                <a:cubicBezTo>
                  <a:pt x="12353" y="12512"/>
                  <a:pt x="12335" y="12575"/>
                  <a:pt x="12254" y="12650"/>
                </a:cubicBezTo>
                <a:cubicBezTo>
                  <a:pt x="12234" y="12669"/>
                  <a:pt x="12086" y="12705"/>
                  <a:pt x="12055" y="12700"/>
                </a:cubicBezTo>
                <a:cubicBezTo>
                  <a:pt x="12018" y="12694"/>
                  <a:pt x="11982" y="12675"/>
                  <a:pt x="11931" y="12675"/>
                </a:cubicBezTo>
                <a:cubicBezTo>
                  <a:pt x="11993" y="12712"/>
                  <a:pt x="12059" y="12729"/>
                  <a:pt x="12129" y="12774"/>
                </a:cubicBezTo>
                <a:cubicBezTo>
                  <a:pt x="12239" y="12846"/>
                  <a:pt x="12300" y="12925"/>
                  <a:pt x="12353" y="13047"/>
                </a:cubicBezTo>
                <a:cubicBezTo>
                  <a:pt x="12377" y="13102"/>
                  <a:pt x="12411" y="13227"/>
                  <a:pt x="12353" y="13271"/>
                </a:cubicBezTo>
                <a:cubicBezTo>
                  <a:pt x="12288" y="13320"/>
                  <a:pt x="12234" y="13317"/>
                  <a:pt x="12154" y="13295"/>
                </a:cubicBezTo>
                <a:cubicBezTo>
                  <a:pt x="12090" y="13277"/>
                  <a:pt x="12049" y="13211"/>
                  <a:pt x="11981" y="13196"/>
                </a:cubicBezTo>
                <a:cubicBezTo>
                  <a:pt x="11964" y="13196"/>
                  <a:pt x="11948" y="13196"/>
                  <a:pt x="11931" y="13196"/>
                </a:cubicBezTo>
              </a:path>
              <a:path w="1440" h="2606">
                <a:moveTo>
                  <a:pt x="12378" y="13915"/>
                </a:moveTo>
                <a:cubicBezTo>
                  <a:pt x="12318" y="14016"/>
                  <a:pt x="12274" y="14084"/>
                  <a:pt x="12204" y="14163"/>
                </a:cubicBezTo>
                <a:cubicBezTo>
                  <a:pt x="12138" y="14237"/>
                  <a:pt x="12119" y="14296"/>
                  <a:pt x="12080" y="14387"/>
                </a:cubicBezTo>
                <a:cubicBezTo>
                  <a:pt x="12042" y="14475"/>
                  <a:pt x="12050" y="14547"/>
                  <a:pt x="12080" y="14635"/>
                </a:cubicBezTo>
                <a:cubicBezTo>
                  <a:pt x="12113" y="14732"/>
                  <a:pt x="12136" y="14828"/>
                  <a:pt x="12204" y="14908"/>
                </a:cubicBezTo>
                <a:cubicBezTo>
                  <a:pt x="12261" y="14976"/>
                  <a:pt x="12333" y="15033"/>
                  <a:pt x="12427" y="15007"/>
                </a:cubicBezTo>
                <a:cubicBezTo>
                  <a:pt x="12496" y="14988"/>
                  <a:pt x="12599" y="14869"/>
                  <a:pt x="12626" y="14808"/>
                </a:cubicBezTo>
                <a:cubicBezTo>
                  <a:pt x="12688" y="14670"/>
                  <a:pt x="12717" y="14506"/>
                  <a:pt x="12675" y="14362"/>
                </a:cubicBezTo>
                <a:cubicBezTo>
                  <a:pt x="12643" y="14251"/>
                  <a:pt x="12615" y="14145"/>
                  <a:pt x="12526" y="14064"/>
                </a:cubicBezTo>
                <a:cubicBezTo>
                  <a:pt x="12450" y="13995"/>
                  <a:pt x="12374" y="13950"/>
                  <a:pt x="12278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5143680" y="2660760"/>
            <a:ext cx="206280" cy="349200"/>
          </a:xfrm>
          <a:custGeom>
            <a:avLst/>
            <a:gdLst/>
            <a:ahLst/>
            <a:rect l="l" t="t" r="r" b="b"/>
            <a:pathLst>
              <a:path w="571" h="968">
                <a:moveTo>
                  <a:pt x="14734" y="7417"/>
                </a:moveTo>
                <a:cubicBezTo>
                  <a:pt x="14629" y="7388"/>
                  <a:pt x="14607" y="7393"/>
                  <a:pt x="14511" y="7441"/>
                </a:cubicBezTo>
                <a:cubicBezTo>
                  <a:pt x="14433" y="7480"/>
                  <a:pt x="14379" y="7540"/>
                  <a:pt x="14337" y="7615"/>
                </a:cubicBezTo>
                <a:cubicBezTo>
                  <a:pt x="14302" y="7677"/>
                  <a:pt x="14268" y="7764"/>
                  <a:pt x="14288" y="7838"/>
                </a:cubicBezTo>
                <a:cubicBezTo>
                  <a:pt x="14310" y="7921"/>
                  <a:pt x="14352" y="7941"/>
                  <a:pt x="14412" y="7987"/>
                </a:cubicBezTo>
                <a:cubicBezTo>
                  <a:pt x="14453" y="8019"/>
                  <a:pt x="14539" y="8015"/>
                  <a:pt x="14585" y="7987"/>
                </a:cubicBezTo>
                <a:cubicBezTo>
                  <a:pt x="14650" y="7948"/>
                  <a:pt x="14691" y="7869"/>
                  <a:pt x="14734" y="7813"/>
                </a:cubicBezTo>
                <a:cubicBezTo>
                  <a:pt x="14788" y="7744"/>
                  <a:pt x="14804" y="7679"/>
                  <a:pt x="14808" y="7590"/>
                </a:cubicBezTo>
                <a:cubicBezTo>
                  <a:pt x="14808" y="7574"/>
                  <a:pt x="14808" y="7557"/>
                  <a:pt x="14808" y="7541"/>
                </a:cubicBezTo>
                <a:cubicBezTo>
                  <a:pt x="14808" y="7671"/>
                  <a:pt x="14819" y="7788"/>
                  <a:pt x="14833" y="7913"/>
                </a:cubicBezTo>
                <a:cubicBezTo>
                  <a:pt x="14844" y="8012"/>
                  <a:pt x="14854" y="8112"/>
                  <a:pt x="14858" y="8210"/>
                </a:cubicBezTo>
                <a:cubicBezTo>
                  <a:pt x="14860" y="8259"/>
                  <a:pt x="14858" y="8309"/>
                  <a:pt x="14858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4973760" y="3276720"/>
            <a:ext cx="554040" cy="1144440"/>
          </a:xfrm>
          <a:custGeom>
            <a:avLst/>
            <a:gdLst/>
            <a:ahLst/>
            <a:rect l="l" t="t" r="r" b="b"/>
            <a:pathLst>
              <a:path w="1539" h="3176">
                <a:moveTo>
                  <a:pt x="13816" y="9624"/>
                </a:moveTo>
                <a:cubicBezTo>
                  <a:pt x="13924" y="9624"/>
                  <a:pt x="14031" y="9624"/>
                  <a:pt x="14139" y="9624"/>
                </a:cubicBezTo>
              </a:path>
              <a:path w="1539" h="3176">
                <a:moveTo>
                  <a:pt x="14808" y="9302"/>
                </a:moveTo>
                <a:cubicBezTo>
                  <a:pt x="14808" y="9194"/>
                  <a:pt x="14821" y="9025"/>
                  <a:pt x="14635" y="9103"/>
                </a:cubicBezTo>
                <a:cubicBezTo>
                  <a:pt x="14540" y="9143"/>
                  <a:pt x="14475" y="9151"/>
                  <a:pt x="14412" y="9227"/>
                </a:cubicBezTo>
                <a:cubicBezTo>
                  <a:pt x="14366" y="9282"/>
                  <a:pt x="14413" y="9352"/>
                  <a:pt x="14461" y="9376"/>
                </a:cubicBezTo>
                <a:cubicBezTo>
                  <a:pt x="14532" y="9411"/>
                  <a:pt x="14545" y="9402"/>
                  <a:pt x="14610" y="9451"/>
                </a:cubicBezTo>
                <a:cubicBezTo>
                  <a:pt x="14673" y="9433"/>
                  <a:pt x="14694" y="9396"/>
                  <a:pt x="14759" y="9376"/>
                </a:cubicBezTo>
                <a:cubicBezTo>
                  <a:pt x="14801" y="9363"/>
                  <a:pt x="14803" y="9324"/>
                  <a:pt x="14833" y="9302"/>
                </a:cubicBezTo>
                <a:cubicBezTo>
                  <a:pt x="14809" y="9396"/>
                  <a:pt x="14794" y="9502"/>
                  <a:pt x="14784" y="9599"/>
                </a:cubicBezTo>
                <a:cubicBezTo>
                  <a:pt x="14774" y="9703"/>
                  <a:pt x="14804" y="9795"/>
                  <a:pt x="14808" y="9897"/>
                </a:cubicBezTo>
                <a:cubicBezTo>
                  <a:pt x="14812" y="9996"/>
                  <a:pt x="14808" y="10096"/>
                  <a:pt x="14808" y="10195"/>
                </a:cubicBezTo>
              </a:path>
              <a:path w="1539" h="3176">
                <a:moveTo>
                  <a:pt x="14734" y="11088"/>
                </a:moveTo>
                <a:cubicBezTo>
                  <a:pt x="14646" y="11250"/>
                  <a:pt x="14622" y="11322"/>
                  <a:pt x="14585" y="11485"/>
                </a:cubicBezTo>
                <a:cubicBezTo>
                  <a:pt x="14558" y="11605"/>
                  <a:pt x="14545" y="11711"/>
                  <a:pt x="14585" y="11832"/>
                </a:cubicBezTo>
                <a:cubicBezTo>
                  <a:pt x="14649" y="12029"/>
                  <a:pt x="14777" y="12111"/>
                  <a:pt x="14932" y="12229"/>
                </a:cubicBezTo>
                <a:cubicBezTo>
                  <a:pt x="15030" y="12304"/>
                  <a:pt x="15062" y="12286"/>
                  <a:pt x="15156" y="12229"/>
                </a:cubicBezTo>
                <a:cubicBezTo>
                  <a:pt x="15253" y="12170"/>
                  <a:pt x="15273" y="12115"/>
                  <a:pt x="15304" y="12005"/>
                </a:cubicBezTo>
                <a:cubicBezTo>
                  <a:pt x="15340" y="11875"/>
                  <a:pt x="15371" y="11745"/>
                  <a:pt x="15354" y="11609"/>
                </a:cubicBezTo>
                <a:cubicBezTo>
                  <a:pt x="15336" y="11461"/>
                  <a:pt x="15286" y="11313"/>
                  <a:pt x="15205" y="11187"/>
                </a:cubicBezTo>
                <a:cubicBezTo>
                  <a:pt x="15127" y="11066"/>
                  <a:pt x="15019" y="10926"/>
                  <a:pt x="14883" y="10864"/>
                </a:cubicBezTo>
                <a:cubicBezTo>
                  <a:pt x="14781" y="10817"/>
                  <a:pt x="14637" y="10824"/>
                  <a:pt x="14536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4438800" y="2697120"/>
            <a:ext cx="222120" cy="357120"/>
          </a:xfrm>
          <a:custGeom>
            <a:avLst/>
            <a:gdLst/>
            <a:ahLst/>
            <a:rect l="l" t="t" r="r" b="b"/>
            <a:pathLst>
              <a:path w="621" h="993">
                <a:moveTo>
                  <a:pt x="12402" y="7491"/>
                </a:moveTo>
                <a:cubicBezTo>
                  <a:pt x="12367" y="7600"/>
                  <a:pt x="12357" y="7721"/>
                  <a:pt x="12353" y="7838"/>
                </a:cubicBezTo>
                <a:cubicBezTo>
                  <a:pt x="12349" y="7950"/>
                  <a:pt x="12341" y="8025"/>
                  <a:pt x="12353" y="8136"/>
                </a:cubicBezTo>
                <a:cubicBezTo>
                  <a:pt x="12362" y="8219"/>
                  <a:pt x="12369" y="8270"/>
                  <a:pt x="12427" y="8334"/>
                </a:cubicBezTo>
                <a:cubicBezTo>
                  <a:pt x="12489" y="8403"/>
                  <a:pt x="12512" y="8409"/>
                  <a:pt x="12601" y="8409"/>
                </a:cubicBezTo>
                <a:cubicBezTo>
                  <a:pt x="12752" y="8409"/>
                  <a:pt x="12711" y="8391"/>
                  <a:pt x="12824" y="8334"/>
                </a:cubicBezTo>
                <a:cubicBezTo>
                  <a:pt x="12881" y="8305"/>
                  <a:pt x="12929" y="8273"/>
                  <a:pt x="12948" y="8186"/>
                </a:cubicBezTo>
                <a:cubicBezTo>
                  <a:pt x="12973" y="8074"/>
                  <a:pt x="12900" y="7999"/>
                  <a:pt x="12799" y="8037"/>
                </a:cubicBezTo>
                <a:cubicBezTo>
                  <a:pt x="12746" y="8057"/>
                  <a:pt x="12671" y="8160"/>
                  <a:pt x="12650" y="8210"/>
                </a:cubicBezTo>
                <a:cubicBezTo>
                  <a:pt x="12624" y="8271"/>
                  <a:pt x="12610" y="8376"/>
                  <a:pt x="12650" y="8434"/>
                </a:cubicBezTo>
                <a:cubicBezTo>
                  <a:pt x="12667" y="8450"/>
                  <a:pt x="12683" y="8467"/>
                  <a:pt x="12700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4348080" y="3268800"/>
            <a:ext cx="196920" cy="347400"/>
          </a:xfrm>
          <a:custGeom>
            <a:avLst/>
            <a:gdLst/>
            <a:ahLst/>
            <a:rect l="l" t="t" r="r" b="b"/>
            <a:pathLst>
              <a:path w="547" h="968">
                <a:moveTo>
                  <a:pt x="12080" y="9103"/>
                </a:moveTo>
                <a:cubicBezTo>
                  <a:pt x="12177" y="9090"/>
                  <a:pt x="12324" y="9055"/>
                  <a:pt x="12427" y="9079"/>
                </a:cubicBezTo>
                <a:cubicBezTo>
                  <a:pt x="12496" y="9095"/>
                  <a:pt x="12561" y="9189"/>
                  <a:pt x="12551" y="9252"/>
                </a:cubicBezTo>
                <a:cubicBezTo>
                  <a:pt x="12541" y="9320"/>
                  <a:pt x="12442" y="9351"/>
                  <a:pt x="12402" y="9376"/>
                </a:cubicBezTo>
                <a:cubicBezTo>
                  <a:pt x="12365" y="9399"/>
                  <a:pt x="12312" y="9446"/>
                  <a:pt x="12278" y="9451"/>
                </a:cubicBezTo>
                <a:cubicBezTo>
                  <a:pt x="12262" y="9451"/>
                  <a:pt x="12245" y="9451"/>
                  <a:pt x="12229" y="9451"/>
                </a:cubicBezTo>
                <a:cubicBezTo>
                  <a:pt x="12299" y="9451"/>
                  <a:pt x="12392" y="9432"/>
                  <a:pt x="12452" y="9475"/>
                </a:cubicBezTo>
                <a:cubicBezTo>
                  <a:pt x="12543" y="9540"/>
                  <a:pt x="12568" y="9649"/>
                  <a:pt x="12601" y="9748"/>
                </a:cubicBezTo>
                <a:cubicBezTo>
                  <a:pt x="12620" y="9806"/>
                  <a:pt x="12620" y="9911"/>
                  <a:pt x="12576" y="9971"/>
                </a:cubicBezTo>
                <a:cubicBezTo>
                  <a:pt x="12565" y="9986"/>
                  <a:pt x="12445" y="9979"/>
                  <a:pt x="12427" y="9996"/>
                </a:cubicBezTo>
                <a:cubicBezTo>
                  <a:pt x="12377" y="10042"/>
                  <a:pt x="12290" y="9993"/>
                  <a:pt x="12179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4303800" y="3911760"/>
            <a:ext cx="206280" cy="384120"/>
          </a:xfrm>
          <a:custGeom>
            <a:avLst/>
            <a:gdLst/>
            <a:ahLst/>
            <a:rect l="l" t="t" r="r" b="b"/>
            <a:pathLst>
              <a:path w="571" h="1068">
                <a:moveTo>
                  <a:pt x="11956" y="10964"/>
                </a:moveTo>
                <a:cubicBezTo>
                  <a:pt x="12013" y="10906"/>
                  <a:pt x="12049" y="10877"/>
                  <a:pt x="12129" y="10864"/>
                </a:cubicBezTo>
                <a:cubicBezTo>
                  <a:pt x="12200" y="10852"/>
                  <a:pt x="12317" y="10851"/>
                  <a:pt x="12378" y="10889"/>
                </a:cubicBezTo>
                <a:cubicBezTo>
                  <a:pt x="12437" y="10926"/>
                  <a:pt x="12474" y="10942"/>
                  <a:pt x="12477" y="11013"/>
                </a:cubicBezTo>
                <a:cubicBezTo>
                  <a:pt x="12483" y="11151"/>
                  <a:pt x="12423" y="11146"/>
                  <a:pt x="12328" y="11212"/>
                </a:cubicBezTo>
                <a:cubicBezTo>
                  <a:pt x="12281" y="11244"/>
                  <a:pt x="12236" y="11253"/>
                  <a:pt x="12179" y="11261"/>
                </a:cubicBezTo>
                <a:cubicBezTo>
                  <a:pt x="12258" y="11270"/>
                  <a:pt x="12340" y="11282"/>
                  <a:pt x="12402" y="11336"/>
                </a:cubicBezTo>
                <a:cubicBezTo>
                  <a:pt x="12461" y="11387"/>
                  <a:pt x="12513" y="11455"/>
                  <a:pt x="12526" y="11534"/>
                </a:cubicBezTo>
                <a:cubicBezTo>
                  <a:pt x="12539" y="11613"/>
                  <a:pt x="12534" y="11710"/>
                  <a:pt x="12502" y="11782"/>
                </a:cubicBezTo>
                <a:cubicBezTo>
                  <a:pt x="12482" y="11827"/>
                  <a:pt x="12444" y="11878"/>
                  <a:pt x="12402" y="11906"/>
                </a:cubicBezTo>
                <a:cubicBezTo>
                  <a:pt x="12321" y="11958"/>
                  <a:pt x="12208" y="11923"/>
                  <a:pt x="12129" y="11881"/>
                </a:cubicBezTo>
                <a:cubicBezTo>
                  <a:pt x="12085" y="11858"/>
                  <a:pt x="12052" y="11819"/>
                  <a:pt x="12005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1866960" y="3187800"/>
            <a:ext cx="384120" cy="35712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5184" y="9376"/>
                </a:moveTo>
                <a:cubicBezTo>
                  <a:pt x="5296" y="9361"/>
                  <a:pt x="5367" y="9327"/>
                  <a:pt x="5482" y="9327"/>
                </a:cubicBezTo>
              </a:path>
              <a:path w="1068" h="993">
                <a:moveTo>
                  <a:pt x="5779" y="8954"/>
                </a:moveTo>
                <a:cubicBezTo>
                  <a:pt x="5846" y="8880"/>
                  <a:pt x="5873" y="8861"/>
                  <a:pt x="5978" y="8855"/>
                </a:cubicBezTo>
                <a:cubicBezTo>
                  <a:pt x="6051" y="8851"/>
                  <a:pt x="6131" y="8848"/>
                  <a:pt x="6127" y="8954"/>
                </a:cubicBezTo>
                <a:cubicBezTo>
                  <a:pt x="6123" y="9057"/>
                  <a:pt x="6042" y="9094"/>
                  <a:pt x="5978" y="9153"/>
                </a:cubicBezTo>
                <a:cubicBezTo>
                  <a:pt x="5935" y="9193"/>
                  <a:pt x="5863" y="9215"/>
                  <a:pt x="5829" y="9252"/>
                </a:cubicBezTo>
                <a:cubicBezTo>
                  <a:pt x="5821" y="9269"/>
                  <a:pt x="5812" y="9285"/>
                  <a:pt x="5804" y="9302"/>
                </a:cubicBezTo>
                <a:cubicBezTo>
                  <a:pt x="5892" y="9302"/>
                  <a:pt x="6023" y="9278"/>
                  <a:pt x="6102" y="9327"/>
                </a:cubicBezTo>
                <a:cubicBezTo>
                  <a:pt x="6140" y="9350"/>
                  <a:pt x="6241" y="9483"/>
                  <a:pt x="6251" y="9525"/>
                </a:cubicBezTo>
                <a:cubicBezTo>
                  <a:pt x="6267" y="9593"/>
                  <a:pt x="6248" y="9718"/>
                  <a:pt x="6226" y="9748"/>
                </a:cubicBezTo>
                <a:cubicBezTo>
                  <a:pt x="6169" y="9826"/>
                  <a:pt x="6151" y="9842"/>
                  <a:pt x="6052" y="9847"/>
                </a:cubicBezTo>
                <a:cubicBezTo>
                  <a:pt x="5916" y="9854"/>
                  <a:pt x="5880" y="9841"/>
                  <a:pt x="5779" y="9773"/>
                </a:cubicBezTo>
                <a:cubicBezTo>
                  <a:pt x="5763" y="9765"/>
                  <a:pt x="5746" y="9756"/>
                  <a:pt x="5730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2125800" y="3803760"/>
            <a:ext cx="214200" cy="447480"/>
          </a:xfrm>
          <a:custGeom>
            <a:avLst/>
            <a:gdLst/>
            <a:ahLst/>
            <a:rect l="l" t="t" r="r" b="b"/>
            <a:pathLst>
              <a:path w="596" h="1241">
                <a:moveTo>
                  <a:pt x="5928" y="10740"/>
                </a:moveTo>
                <a:cubicBezTo>
                  <a:pt x="5946" y="10704"/>
                  <a:pt x="5985" y="10578"/>
                  <a:pt x="6028" y="10567"/>
                </a:cubicBezTo>
                <a:cubicBezTo>
                  <a:pt x="6089" y="10551"/>
                  <a:pt x="6278" y="10545"/>
                  <a:pt x="6325" y="10592"/>
                </a:cubicBezTo>
                <a:cubicBezTo>
                  <a:pt x="6376" y="10643"/>
                  <a:pt x="6394" y="10706"/>
                  <a:pt x="6375" y="10790"/>
                </a:cubicBezTo>
                <a:cubicBezTo>
                  <a:pt x="6361" y="10850"/>
                  <a:pt x="6286" y="10896"/>
                  <a:pt x="6251" y="10939"/>
                </a:cubicBezTo>
                <a:cubicBezTo>
                  <a:pt x="6212" y="10986"/>
                  <a:pt x="6148" y="10992"/>
                  <a:pt x="6102" y="11038"/>
                </a:cubicBezTo>
                <a:cubicBezTo>
                  <a:pt x="6187" y="11038"/>
                  <a:pt x="6187" y="11047"/>
                  <a:pt x="6251" y="11088"/>
                </a:cubicBezTo>
                <a:cubicBezTo>
                  <a:pt x="6314" y="11128"/>
                  <a:pt x="6357" y="11172"/>
                  <a:pt x="6400" y="11237"/>
                </a:cubicBezTo>
                <a:cubicBezTo>
                  <a:pt x="6436" y="11291"/>
                  <a:pt x="6492" y="11398"/>
                  <a:pt x="6499" y="11460"/>
                </a:cubicBezTo>
                <a:cubicBezTo>
                  <a:pt x="6511" y="11565"/>
                  <a:pt x="6490" y="11633"/>
                  <a:pt x="6424" y="11708"/>
                </a:cubicBezTo>
                <a:cubicBezTo>
                  <a:pt x="6374" y="11765"/>
                  <a:pt x="6313" y="11761"/>
                  <a:pt x="6251" y="11782"/>
                </a:cubicBezTo>
                <a:cubicBezTo>
                  <a:pt x="6202" y="11799"/>
                  <a:pt x="6087" y="11801"/>
                  <a:pt x="6028" y="11782"/>
                </a:cubicBezTo>
                <a:cubicBezTo>
                  <a:pt x="5989" y="11770"/>
                  <a:pt x="5932" y="11686"/>
                  <a:pt x="5904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160200" y="3456000"/>
            <a:ext cx="893880" cy="830160"/>
          </a:xfrm>
          <a:custGeom>
            <a:avLst/>
            <a:gdLst/>
            <a:ahLst/>
            <a:rect l="l" t="t" r="r" b="b"/>
            <a:pathLst>
              <a:path w="2482" h="2308">
                <a:moveTo>
                  <a:pt x="2034" y="9699"/>
                </a:moveTo>
                <a:cubicBezTo>
                  <a:pt x="1832" y="9638"/>
                  <a:pt x="1706" y="9599"/>
                  <a:pt x="1488" y="9599"/>
                </a:cubicBezTo>
                <a:cubicBezTo>
                  <a:pt x="1314" y="9599"/>
                  <a:pt x="1118" y="9667"/>
                  <a:pt x="967" y="9748"/>
                </a:cubicBezTo>
                <a:cubicBezTo>
                  <a:pt x="827" y="9823"/>
                  <a:pt x="698" y="9924"/>
                  <a:pt x="595" y="10046"/>
                </a:cubicBezTo>
                <a:cubicBezTo>
                  <a:pt x="487" y="10174"/>
                  <a:pt x="455" y="10333"/>
                  <a:pt x="446" y="10492"/>
                </a:cubicBezTo>
                <a:cubicBezTo>
                  <a:pt x="427" y="10830"/>
                  <a:pt x="744" y="11159"/>
                  <a:pt x="967" y="11361"/>
                </a:cubicBezTo>
                <a:cubicBezTo>
                  <a:pt x="1098" y="11480"/>
                  <a:pt x="1350" y="11590"/>
                  <a:pt x="1513" y="11658"/>
                </a:cubicBezTo>
                <a:cubicBezTo>
                  <a:pt x="1700" y="11736"/>
                  <a:pt x="1932" y="11771"/>
                  <a:pt x="2133" y="11757"/>
                </a:cubicBezTo>
                <a:cubicBezTo>
                  <a:pt x="2292" y="11746"/>
                  <a:pt x="2552" y="11717"/>
                  <a:pt x="2679" y="11609"/>
                </a:cubicBezTo>
                <a:cubicBezTo>
                  <a:pt x="2789" y="11515"/>
                  <a:pt x="2910" y="11328"/>
                  <a:pt x="2927" y="11187"/>
                </a:cubicBezTo>
                <a:cubicBezTo>
                  <a:pt x="2950" y="10995"/>
                  <a:pt x="2931" y="10770"/>
                  <a:pt x="2853" y="10592"/>
                </a:cubicBezTo>
                <a:cubicBezTo>
                  <a:pt x="2756" y="10372"/>
                  <a:pt x="2603" y="10125"/>
                  <a:pt x="2406" y="9971"/>
                </a:cubicBezTo>
                <a:cubicBezTo>
                  <a:pt x="2216" y="9823"/>
                  <a:pt x="2000" y="9736"/>
                  <a:pt x="1786" y="9674"/>
                </a:cubicBezTo>
                <a:cubicBezTo>
                  <a:pt x="1596" y="9619"/>
                  <a:pt x="1481" y="9628"/>
                  <a:pt x="1290" y="9699"/>
                </a:cubicBezTo>
                <a:cubicBezTo>
                  <a:pt x="1120" y="9762"/>
                  <a:pt x="880" y="9970"/>
                  <a:pt x="819" y="10145"/>
                </a:cubicBezTo>
                <a:cubicBezTo>
                  <a:pt x="761" y="10311"/>
                  <a:pt x="762" y="10476"/>
                  <a:pt x="769" y="10641"/>
                </a:cubicBezTo>
                <a:cubicBezTo>
                  <a:pt x="777" y="10846"/>
                  <a:pt x="841" y="10985"/>
                  <a:pt x="943" y="11162"/>
                </a:cubicBezTo>
                <a:cubicBezTo>
                  <a:pt x="1040" y="11329"/>
                  <a:pt x="1182" y="11495"/>
                  <a:pt x="1339" y="11609"/>
                </a:cubicBezTo>
                <a:cubicBezTo>
                  <a:pt x="1506" y="11730"/>
                  <a:pt x="1672" y="11795"/>
                  <a:pt x="1860" y="11857"/>
                </a:cubicBezTo>
                <a:cubicBezTo>
                  <a:pt x="2024" y="11912"/>
                  <a:pt x="2183" y="11931"/>
                  <a:pt x="2356" y="11881"/>
                </a:cubicBezTo>
                <a:cubicBezTo>
                  <a:pt x="2530" y="11831"/>
                  <a:pt x="2622" y="11748"/>
                  <a:pt x="2729" y="11609"/>
                </a:cubicBezTo>
                <a:cubicBezTo>
                  <a:pt x="2831" y="11476"/>
                  <a:pt x="2870" y="11328"/>
                  <a:pt x="2877" y="11162"/>
                </a:cubicBezTo>
                <a:cubicBezTo>
                  <a:pt x="2889" y="10869"/>
                  <a:pt x="2796" y="10521"/>
                  <a:pt x="2604" y="10294"/>
                </a:cubicBezTo>
                <a:cubicBezTo>
                  <a:pt x="2457" y="10120"/>
                  <a:pt x="2290" y="9928"/>
                  <a:pt x="2084" y="9823"/>
                </a:cubicBezTo>
                <a:cubicBezTo>
                  <a:pt x="1948" y="9753"/>
                  <a:pt x="1740" y="9691"/>
                  <a:pt x="1588" y="9674"/>
                </a:cubicBezTo>
                <a:cubicBezTo>
                  <a:pt x="1435" y="9657"/>
                  <a:pt x="1279" y="9715"/>
                  <a:pt x="1141" y="9773"/>
                </a:cubicBezTo>
                <a:cubicBezTo>
                  <a:pt x="1001" y="9832"/>
                  <a:pt x="885" y="9930"/>
                  <a:pt x="794" y="10046"/>
                </a:cubicBezTo>
                <a:cubicBezTo>
                  <a:pt x="691" y="10177"/>
                  <a:pt x="618" y="10328"/>
                  <a:pt x="595" y="10492"/>
                </a:cubicBezTo>
                <a:cubicBezTo>
                  <a:pt x="576" y="10630"/>
                  <a:pt x="599" y="10808"/>
                  <a:pt x="645" y="10939"/>
                </a:cubicBezTo>
                <a:cubicBezTo>
                  <a:pt x="701" y="11098"/>
                  <a:pt x="793" y="11227"/>
                  <a:pt x="893" y="11361"/>
                </a:cubicBezTo>
                <a:cubicBezTo>
                  <a:pt x="988" y="11488"/>
                  <a:pt x="1055" y="11617"/>
                  <a:pt x="1166" y="11733"/>
                </a:cubicBezTo>
                <a:cubicBezTo>
                  <a:pt x="1182" y="11749"/>
                  <a:pt x="1199" y="11766"/>
                  <a:pt x="1215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1357200" y="4303800"/>
            <a:ext cx="2098800" cy="1098360"/>
          </a:xfrm>
          <a:custGeom>
            <a:avLst/>
            <a:gdLst/>
            <a:ahLst/>
            <a:rect l="l" t="t" r="r" b="b"/>
            <a:pathLst>
              <a:path w="5830" h="3052">
                <a:moveTo>
                  <a:pt x="3969" y="11956"/>
                </a:moveTo>
                <a:cubicBezTo>
                  <a:pt x="4007" y="12070"/>
                  <a:pt x="4007" y="12206"/>
                  <a:pt x="4018" y="12328"/>
                </a:cubicBezTo>
                <a:cubicBezTo>
                  <a:pt x="4028" y="12444"/>
                  <a:pt x="4031" y="12560"/>
                  <a:pt x="4043" y="12675"/>
                </a:cubicBezTo>
                <a:cubicBezTo>
                  <a:pt x="4052" y="12764"/>
                  <a:pt x="4066" y="12864"/>
                  <a:pt x="4093" y="12948"/>
                </a:cubicBezTo>
                <a:cubicBezTo>
                  <a:pt x="4112" y="13007"/>
                  <a:pt x="4140" y="13017"/>
                  <a:pt x="4093" y="13047"/>
                </a:cubicBezTo>
              </a:path>
              <a:path w="5830" h="3052">
                <a:moveTo>
                  <a:pt x="3770" y="12650"/>
                </a:moveTo>
                <a:cubicBezTo>
                  <a:pt x="3801" y="12734"/>
                  <a:pt x="3839" y="12815"/>
                  <a:pt x="3870" y="12898"/>
                </a:cubicBezTo>
                <a:cubicBezTo>
                  <a:pt x="3898" y="12975"/>
                  <a:pt x="3946" y="13052"/>
                  <a:pt x="3994" y="13122"/>
                </a:cubicBezTo>
                <a:cubicBezTo>
                  <a:pt x="4031" y="13176"/>
                  <a:pt x="4068" y="13186"/>
                  <a:pt x="4118" y="13146"/>
                </a:cubicBezTo>
                <a:cubicBezTo>
                  <a:pt x="4163" y="13110"/>
                  <a:pt x="4212" y="13044"/>
                  <a:pt x="4242" y="12998"/>
                </a:cubicBezTo>
                <a:cubicBezTo>
                  <a:pt x="4288" y="12929"/>
                  <a:pt x="4348" y="12901"/>
                  <a:pt x="4415" y="12849"/>
                </a:cubicBezTo>
                <a:cubicBezTo>
                  <a:pt x="4423" y="12841"/>
                  <a:pt x="4432" y="12832"/>
                  <a:pt x="4440" y="12824"/>
                </a:cubicBezTo>
              </a:path>
              <a:path w="5830" h="3052">
                <a:moveTo>
                  <a:pt x="4415" y="13494"/>
                </a:moveTo>
                <a:cubicBezTo>
                  <a:pt x="4415" y="13630"/>
                  <a:pt x="4402" y="13759"/>
                  <a:pt x="4390" y="13891"/>
                </a:cubicBezTo>
                <a:cubicBezTo>
                  <a:pt x="4378" y="14019"/>
                  <a:pt x="4411" y="14137"/>
                  <a:pt x="4415" y="14263"/>
                </a:cubicBezTo>
                <a:cubicBezTo>
                  <a:pt x="4418" y="14368"/>
                  <a:pt x="4435" y="14459"/>
                  <a:pt x="4440" y="14560"/>
                </a:cubicBezTo>
                <a:cubicBezTo>
                  <a:pt x="4440" y="14577"/>
                  <a:pt x="4440" y="14593"/>
                  <a:pt x="4440" y="14610"/>
                </a:cubicBezTo>
              </a:path>
              <a:path w="5830" h="3052">
                <a:moveTo>
                  <a:pt x="5259" y="12650"/>
                </a:moveTo>
                <a:cubicBezTo>
                  <a:pt x="5358" y="12631"/>
                  <a:pt x="5458" y="12615"/>
                  <a:pt x="5556" y="12601"/>
                </a:cubicBezTo>
                <a:cubicBezTo>
                  <a:pt x="5608" y="12601"/>
                  <a:pt x="5626" y="12600"/>
                  <a:pt x="5655" y="12576"/>
                </a:cubicBezTo>
              </a:path>
              <a:path w="5830" h="3052">
                <a:moveTo>
                  <a:pt x="5829" y="12303"/>
                </a:moveTo>
                <a:cubicBezTo>
                  <a:pt x="5878" y="12255"/>
                  <a:pt x="5932" y="12195"/>
                  <a:pt x="6003" y="12179"/>
                </a:cubicBezTo>
                <a:cubicBezTo>
                  <a:pt x="6055" y="12167"/>
                  <a:pt x="6224" y="12245"/>
                  <a:pt x="6251" y="12278"/>
                </a:cubicBezTo>
                <a:cubicBezTo>
                  <a:pt x="6307" y="12346"/>
                  <a:pt x="6228" y="12424"/>
                  <a:pt x="6176" y="12452"/>
                </a:cubicBezTo>
                <a:cubicBezTo>
                  <a:pt x="6114" y="12485"/>
                  <a:pt x="5915" y="12471"/>
                  <a:pt x="5978" y="12502"/>
                </a:cubicBezTo>
                <a:cubicBezTo>
                  <a:pt x="6033" y="12529"/>
                  <a:pt x="6103" y="12508"/>
                  <a:pt x="6152" y="12551"/>
                </a:cubicBezTo>
                <a:cubicBezTo>
                  <a:pt x="6221" y="12612"/>
                  <a:pt x="6238" y="12669"/>
                  <a:pt x="6276" y="12750"/>
                </a:cubicBezTo>
                <a:cubicBezTo>
                  <a:pt x="6318" y="12839"/>
                  <a:pt x="6343" y="12890"/>
                  <a:pt x="6276" y="12973"/>
                </a:cubicBezTo>
                <a:cubicBezTo>
                  <a:pt x="6231" y="13028"/>
                  <a:pt x="6143" y="13039"/>
                  <a:pt x="6077" y="13022"/>
                </a:cubicBezTo>
                <a:cubicBezTo>
                  <a:pt x="6020" y="13007"/>
                  <a:pt x="5988" y="12981"/>
                  <a:pt x="5928" y="12973"/>
                </a:cubicBezTo>
              </a:path>
              <a:path w="5830" h="3052">
                <a:moveTo>
                  <a:pt x="6524" y="13940"/>
                </a:moveTo>
                <a:cubicBezTo>
                  <a:pt x="6426" y="14064"/>
                  <a:pt x="6339" y="14145"/>
                  <a:pt x="6375" y="14312"/>
                </a:cubicBezTo>
                <a:cubicBezTo>
                  <a:pt x="6397" y="14414"/>
                  <a:pt x="6453" y="14465"/>
                  <a:pt x="6524" y="14536"/>
                </a:cubicBezTo>
                <a:cubicBezTo>
                  <a:pt x="6583" y="14595"/>
                  <a:pt x="6684" y="14652"/>
                  <a:pt x="6772" y="14635"/>
                </a:cubicBezTo>
                <a:cubicBezTo>
                  <a:pt x="6848" y="14620"/>
                  <a:pt x="6916" y="14554"/>
                  <a:pt x="6945" y="14486"/>
                </a:cubicBezTo>
                <a:cubicBezTo>
                  <a:pt x="7005" y="14349"/>
                  <a:pt x="7004" y="14270"/>
                  <a:pt x="6945" y="14139"/>
                </a:cubicBezTo>
                <a:cubicBezTo>
                  <a:pt x="6885" y="14007"/>
                  <a:pt x="6813" y="13902"/>
                  <a:pt x="6697" y="13816"/>
                </a:cubicBezTo>
                <a:cubicBezTo>
                  <a:pt x="6595" y="13741"/>
                  <a:pt x="6489" y="13695"/>
                  <a:pt x="6375" y="13643"/>
                </a:cubicBezTo>
              </a:path>
              <a:path w="5830" h="3052">
                <a:moveTo>
                  <a:pt x="8905" y="12254"/>
                </a:moveTo>
                <a:cubicBezTo>
                  <a:pt x="8874" y="12338"/>
                  <a:pt x="8834" y="12413"/>
                  <a:pt x="8830" y="12502"/>
                </a:cubicBezTo>
                <a:cubicBezTo>
                  <a:pt x="8826" y="12606"/>
                  <a:pt x="8876" y="12688"/>
                  <a:pt x="8930" y="12774"/>
                </a:cubicBezTo>
                <a:cubicBezTo>
                  <a:pt x="8979" y="12852"/>
                  <a:pt x="9068" y="12958"/>
                  <a:pt x="9153" y="12998"/>
                </a:cubicBezTo>
                <a:cubicBezTo>
                  <a:pt x="9214" y="13027"/>
                  <a:pt x="9423" y="13134"/>
                  <a:pt x="9500" y="13022"/>
                </a:cubicBezTo>
                <a:cubicBezTo>
                  <a:pt x="9569" y="12921"/>
                  <a:pt x="9550" y="12810"/>
                  <a:pt x="9525" y="12700"/>
                </a:cubicBezTo>
                <a:cubicBezTo>
                  <a:pt x="9494" y="12562"/>
                  <a:pt x="9413" y="12414"/>
                  <a:pt x="9327" y="12303"/>
                </a:cubicBezTo>
                <a:cubicBezTo>
                  <a:pt x="9254" y="12210"/>
                  <a:pt x="9148" y="12107"/>
                  <a:pt x="9029" y="12080"/>
                </a:cubicBezTo>
                <a:cubicBezTo>
                  <a:pt x="8953" y="12063"/>
                  <a:pt x="8936" y="12088"/>
                  <a:pt x="8880" y="12129"/>
                </a:cubicBezTo>
              </a:path>
              <a:path w="5830" h="3052">
                <a:moveTo>
                  <a:pt x="9575" y="13816"/>
                </a:moveTo>
                <a:cubicBezTo>
                  <a:pt x="9575" y="14123"/>
                  <a:pt x="9570" y="14430"/>
                  <a:pt x="9599" y="14734"/>
                </a:cubicBezTo>
                <a:cubicBezTo>
                  <a:pt x="9608" y="14825"/>
                  <a:pt x="9575" y="14914"/>
                  <a:pt x="9575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1901880" y="5973840"/>
            <a:ext cx="928800" cy="598320"/>
          </a:xfrm>
          <a:custGeom>
            <a:avLst/>
            <a:gdLst/>
            <a:ahLst/>
            <a:rect l="l" t="t" r="r" b="b"/>
            <a:pathLst>
              <a:path w="2581" h="1663">
                <a:moveTo>
                  <a:pt x="5283" y="16818"/>
                </a:moveTo>
                <a:cubicBezTo>
                  <a:pt x="5366" y="16818"/>
                  <a:pt x="5448" y="16818"/>
                  <a:pt x="5531" y="16818"/>
                </a:cubicBezTo>
              </a:path>
              <a:path w="2581" h="1663">
                <a:moveTo>
                  <a:pt x="6152" y="16619"/>
                </a:moveTo>
                <a:cubicBezTo>
                  <a:pt x="6152" y="16801"/>
                  <a:pt x="6152" y="16983"/>
                  <a:pt x="6152" y="17165"/>
                </a:cubicBezTo>
              </a:path>
              <a:path w="2581" h="1663">
                <a:moveTo>
                  <a:pt x="6995" y="16917"/>
                </a:moveTo>
                <a:cubicBezTo>
                  <a:pt x="7086" y="16899"/>
                  <a:pt x="7151" y="16892"/>
                  <a:pt x="7243" y="16892"/>
                </a:cubicBezTo>
              </a:path>
              <a:path w="2581" h="1663">
                <a:moveTo>
                  <a:pt x="7789" y="16594"/>
                </a:moveTo>
                <a:cubicBezTo>
                  <a:pt x="7821" y="16717"/>
                  <a:pt x="7818" y="16820"/>
                  <a:pt x="7838" y="16942"/>
                </a:cubicBezTo>
                <a:cubicBezTo>
                  <a:pt x="7865" y="17023"/>
                  <a:pt x="7874" y="17054"/>
                  <a:pt x="7863" y="17115"/>
                </a:cubicBezTo>
              </a:path>
              <a:path w="2581" h="1663">
                <a:moveTo>
                  <a:pt x="6077" y="17636"/>
                </a:moveTo>
                <a:cubicBezTo>
                  <a:pt x="6117" y="17754"/>
                  <a:pt x="6163" y="17873"/>
                  <a:pt x="6226" y="17983"/>
                </a:cubicBezTo>
                <a:cubicBezTo>
                  <a:pt x="6287" y="18091"/>
                  <a:pt x="6325" y="18179"/>
                  <a:pt x="6424" y="18256"/>
                </a:cubicBezTo>
              </a:path>
              <a:path w="2581" h="1663">
                <a:moveTo>
                  <a:pt x="6449" y="17562"/>
                </a:moveTo>
                <a:cubicBezTo>
                  <a:pt x="6342" y="17611"/>
                  <a:pt x="6294" y="17662"/>
                  <a:pt x="6226" y="17760"/>
                </a:cubicBezTo>
                <a:cubicBezTo>
                  <a:pt x="6143" y="17879"/>
                  <a:pt x="6086" y="18000"/>
                  <a:pt x="6028" y="18132"/>
                </a:cubicBezTo>
                <a:cubicBezTo>
                  <a:pt x="6008" y="18173"/>
                  <a:pt x="5999" y="18179"/>
                  <a:pt x="6003" y="18207"/>
                </a:cubicBezTo>
              </a:path>
              <a:path w="2581" h="1663">
                <a:moveTo>
                  <a:pt x="6648" y="17338"/>
                </a:moveTo>
                <a:cubicBezTo>
                  <a:pt x="6733" y="17363"/>
                  <a:pt x="6736" y="17391"/>
                  <a:pt x="6672" y="17462"/>
                </a:cubicBezTo>
                <a:cubicBezTo>
                  <a:pt x="6635" y="17503"/>
                  <a:pt x="6613" y="17547"/>
                  <a:pt x="6573" y="17587"/>
                </a:cubicBezTo>
                <a:cubicBezTo>
                  <a:pt x="6606" y="17628"/>
                  <a:pt x="6642" y="17696"/>
                  <a:pt x="6697" y="17711"/>
                </a:cubicBezTo>
                <a:cubicBezTo>
                  <a:pt x="6747" y="17711"/>
                  <a:pt x="6763" y="17711"/>
                  <a:pt x="6796" y="17711"/>
                </a:cubicBezTo>
              </a:path>
              <a:path w="2581" h="1663">
                <a:moveTo>
                  <a:pt x="6648" y="17760"/>
                </a:moveTo>
                <a:cubicBezTo>
                  <a:pt x="6713" y="17809"/>
                  <a:pt x="6743" y="17824"/>
                  <a:pt x="6821" y="17835"/>
                </a:cubicBezTo>
              </a:path>
              <a:path w="2581" h="1663">
                <a:moveTo>
                  <a:pt x="6697" y="17983"/>
                </a:moveTo>
                <a:cubicBezTo>
                  <a:pt x="6755" y="17991"/>
                  <a:pt x="6813" y="18000"/>
                  <a:pt x="6871" y="18008"/>
                </a:cubicBezTo>
              </a:path>
              <a:path w="2581" h="1663">
                <a:moveTo>
                  <a:pt x="7094" y="17686"/>
                </a:moveTo>
                <a:cubicBezTo>
                  <a:pt x="7135" y="17694"/>
                  <a:pt x="7177" y="17703"/>
                  <a:pt x="7218" y="17711"/>
                </a:cubicBezTo>
              </a:path>
              <a:path w="2581" h="1663">
                <a:moveTo>
                  <a:pt x="7615" y="17462"/>
                </a:moveTo>
                <a:cubicBezTo>
                  <a:pt x="7586" y="17594"/>
                  <a:pt x="7583" y="17704"/>
                  <a:pt x="7565" y="17835"/>
                </a:cubicBezTo>
                <a:cubicBezTo>
                  <a:pt x="7535" y="17958"/>
                  <a:pt x="7524" y="18015"/>
                  <a:pt x="7516" y="18107"/>
                </a:cubicBezTo>
              </a:path>
              <a:path w="2581" h="1663">
                <a:moveTo>
                  <a:pt x="5755" y="17338"/>
                </a:moveTo>
                <a:cubicBezTo>
                  <a:pt x="5747" y="17439"/>
                  <a:pt x="5714" y="17536"/>
                  <a:pt x="5705" y="17636"/>
                </a:cubicBezTo>
                <a:cubicBezTo>
                  <a:pt x="5696" y="17733"/>
                  <a:pt x="5705" y="17836"/>
                  <a:pt x="5705" y="17934"/>
                </a:cubicBezTo>
              </a:path>
              <a:path w="2581" h="1663">
                <a:moveTo>
                  <a:pt x="5730" y="17884"/>
                </a:moveTo>
                <a:cubicBezTo>
                  <a:pt x="5756" y="17667"/>
                  <a:pt x="5789" y="17558"/>
                  <a:pt x="5854" y="17363"/>
                </a:cubicBezTo>
                <a:cubicBezTo>
                  <a:pt x="5887" y="17266"/>
                  <a:pt x="5922" y="17128"/>
                  <a:pt x="5978" y="17041"/>
                </a:cubicBezTo>
                <a:cubicBezTo>
                  <a:pt x="6007" y="16995"/>
                  <a:pt x="6070" y="16932"/>
                  <a:pt x="6127" y="16942"/>
                </a:cubicBezTo>
                <a:cubicBezTo>
                  <a:pt x="6217" y="16958"/>
                  <a:pt x="6313" y="17012"/>
                  <a:pt x="6400" y="17041"/>
                </a:cubicBezTo>
              </a:path>
              <a:path w="2581" h="1663">
                <a:moveTo>
                  <a:pt x="7045" y="17388"/>
                </a:moveTo>
                <a:cubicBezTo>
                  <a:pt x="7045" y="17514"/>
                  <a:pt x="7026" y="17614"/>
                  <a:pt x="7020" y="17735"/>
                </a:cubicBezTo>
                <a:cubicBezTo>
                  <a:pt x="7020" y="17787"/>
                  <a:pt x="7019" y="17805"/>
                  <a:pt x="6995" y="17835"/>
                </a:cubicBezTo>
              </a:path>
              <a:path w="2581" h="1663">
                <a:moveTo>
                  <a:pt x="6970" y="17835"/>
                </a:moveTo>
                <a:cubicBezTo>
                  <a:pt x="6970" y="17704"/>
                  <a:pt x="6980" y="17587"/>
                  <a:pt x="6995" y="17462"/>
                </a:cubicBezTo>
                <a:cubicBezTo>
                  <a:pt x="7005" y="17373"/>
                  <a:pt x="7019" y="17275"/>
                  <a:pt x="7045" y="17190"/>
                </a:cubicBezTo>
                <a:cubicBezTo>
                  <a:pt x="7063" y="17130"/>
                  <a:pt x="7103" y="17062"/>
                  <a:pt x="7144" y="17016"/>
                </a:cubicBezTo>
                <a:cubicBezTo>
                  <a:pt x="7210" y="16943"/>
                  <a:pt x="7234" y="16958"/>
                  <a:pt x="7317" y="16966"/>
                </a:cubicBezTo>
                <a:cubicBezTo>
                  <a:pt x="7396" y="16974"/>
                  <a:pt x="7470" y="17045"/>
                  <a:pt x="7541" y="17090"/>
                </a:cubicBezTo>
              </a:path>
              <a:path w="2581" h="1663">
                <a:moveTo>
                  <a:pt x="6846" y="16942"/>
                </a:moveTo>
                <a:cubicBezTo>
                  <a:pt x="6846" y="17025"/>
                  <a:pt x="6846" y="17107"/>
                  <a:pt x="6846" y="17190"/>
                </a:cubicBezTo>
              </a:path>
              <a:path w="2581" h="1663">
                <a:moveTo>
                  <a:pt x="6697" y="17115"/>
                </a:moveTo>
                <a:cubicBezTo>
                  <a:pt x="6771" y="17142"/>
                  <a:pt x="6834" y="17166"/>
                  <a:pt x="6896" y="17214"/>
                </a:cubicBezTo>
              </a:path>
              <a:path w="2581" h="1663">
                <a:moveTo>
                  <a:pt x="6871" y="17413"/>
                </a:moveTo>
                <a:cubicBezTo>
                  <a:pt x="6904" y="17429"/>
                  <a:pt x="6937" y="17446"/>
                  <a:pt x="6970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3152880" y="5392800"/>
            <a:ext cx="946080" cy="546120"/>
          </a:xfrm>
          <a:custGeom>
            <a:avLst/>
            <a:gdLst/>
            <a:ahLst/>
            <a:rect l="l" t="t" r="r" b="b"/>
            <a:pathLst>
              <a:path w="2630" h="1514">
                <a:moveTo>
                  <a:pt x="8880" y="15701"/>
                </a:moveTo>
                <a:cubicBezTo>
                  <a:pt x="9006" y="15912"/>
                  <a:pt x="9148" y="16114"/>
                  <a:pt x="9277" y="16321"/>
                </a:cubicBezTo>
                <a:cubicBezTo>
                  <a:pt x="9326" y="16419"/>
                  <a:pt x="9341" y="16451"/>
                  <a:pt x="9401" y="16495"/>
                </a:cubicBezTo>
              </a:path>
              <a:path w="2630" h="1514">
                <a:moveTo>
                  <a:pt x="9277" y="15478"/>
                </a:moveTo>
                <a:cubicBezTo>
                  <a:pt x="9170" y="15611"/>
                  <a:pt x="9069" y="15733"/>
                  <a:pt x="8979" y="15875"/>
                </a:cubicBezTo>
                <a:cubicBezTo>
                  <a:pt x="8918" y="15972"/>
                  <a:pt x="8859" y="16072"/>
                  <a:pt x="8806" y="16173"/>
                </a:cubicBezTo>
                <a:cubicBezTo>
                  <a:pt x="8785" y="16213"/>
                  <a:pt x="8766" y="16234"/>
                  <a:pt x="8756" y="16272"/>
                </a:cubicBezTo>
              </a:path>
              <a:path w="2630" h="1514">
                <a:moveTo>
                  <a:pt x="9500" y="15751"/>
                </a:moveTo>
                <a:cubicBezTo>
                  <a:pt x="9621" y="15768"/>
                  <a:pt x="9730" y="15790"/>
                  <a:pt x="9847" y="15801"/>
                </a:cubicBezTo>
              </a:path>
              <a:path w="2630" h="1514">
                <a:moveTo>
                  <a:pt x="9550" y="15999"/>
                </a:moveTo>
                <a:cubicBezTo>
                  <a:pt x="9666" y="16049"/>
                  <a:pt x="9781" y="16098"/>
                  <a:pt x="9897" y="16148"/>
                </a:cubicBezTo>
              </a:path>
              <a:path w="2630" h="1514">
                <a:moveTo>
                  <a:pt x="10517" y="15280"/>
                </a:moveTo>
                <a:cubicBezTo>
                  <a:pt x="10517" y="15353"/>
                  <a:pt x="10511" y="15435"/>
                  <a:pt x="10492" y="15503"/>
                </a:cubicBezTo>
                <a:cubicBezTo>
                  <a:pt x="10467" y="15594"/>
                  <a:pt x="10452" y="15704"/>
                  <a:pt x="10443" y="15801"/>
                </a:cubicBezTo>
                <a:cubicBezTo>
                  <a:pt x="10435" y="15884"/>
                  <a:pt x="10422" y="15947"/>
                  <a:pt x="10393" y="16024"/>
                </a:cubicBezTo>
              </a:path>
              <a:path w="2630" h="1514">
                <a:moveTo>
                  <a:pt x="10096" y="15528"/>
                </a:moveTo>
                <a:cubicBezTo>
                  <a:pt x="10238" y="15528"/>
                  <a:pt x="10312" y="15534"/>
                  <a:pt x="10443" y="15577"/>
                </a:cubicBezTo>
                <a:cubicBezTo>
                  <a:pt x="10507" y="15598"/>
                  <a:pt x="10654" y="15634"/>
                  <a:pt x="10716" y="15627"/>
                </a:cubicBezTo>
                <a:cubicBezTo>
                  <a:pt x="10756" y="15623"/>
                  <a:pt x="10808" y="15596"/>
                  <a:pt x="10840" y="15577"/>
                </a:cubicBezTo>
              </a:path>
              <a:path w="2630" h="1514">
                <a:moveTo>
                  <a:pt x="10120" y="16148"/>
                </a:moveTo>
                <a:cubicBezTo>
                  <a:pt x="10195" y="16175"/>
                  <a:pt x="10273" y="16198"/>
                  <a:pt x="10344" y="16222"/>
                </a:cubicBezTo>
                <a:cubicBezTo>
                  <a:pt x="10403" y="16242"/>
                  <a:pt x="10428" y="16247"/>
                  <a:pt x="10492" y="16247"/>
                </a:cubicBezTo>
              </a:path>
              <a:path w="2630" h="1514">
                <a:moveTo>
                  <a:pt x="11112" y="15776"/>
                </a:moveTo>
                <a:cubicBezTo>
                  <a:pt x="11056" y="15848"/>
                  <a:pt x="11042" y="15908"/>
                  <a:pt x="11038" y="15999"/>
                </a:cubicBezTo>
                <a:cubicBezTo>
                  <a:pt x="11035" y="16057"/>
                  <a:pt x="11058" y="16147"/>
                  <a:pt x="11088" y="16197"/>
                </a:cubicBezTo>
                <a:cubicBezTo>
                  <a:pt x="11131" y="16268"/>
                  <a:pt x="11170" y="16342"/>
                  <a:pt x="11237" y="16396"/>
                </a:cubicBezTo>
                <a:cubicBezTo>
                  <a:pt x="11293" y="16441"/>
                  <a:pt x="11298" y="16409"/>
                  <a:pt x="11336" y="16371"/>
                </a:cubicBezTo>
              </a:path>
              <a:path w="2630" h="1514">
                <a:moveTo>
                  <a:pt x="11385" y="15131"/>
                </a:moveTo>
                <a:cubicBezTo>
                  <a:pt x="11311" y="15083"/>
                  <a:pt x="11162" y="15018"/>
                  <a:pt x="11162" y="15106"/>
                </a:cubicBezTo>
                <a:cubicBezTo>
                  <a:pt x="11162" y="15186"/>
                  <a:pt x="11283" y="15141"/>
                  <a:pt x="11311" y="15131"/>
                </a:cubicBezTo>
                <a:cubicBezTo>
                  <a:pt x="11340" y="15073"/>
                  <a:pt x="11274" y="15057"/>
                  <a:pt x="11212" y="15081"/>
                </a:cubicBezTo>
                <a:cubicBezTo>
                  <a:pt x="11184" y="15109"/>
                  <a:pt x="11175" y="15123"/>
                  <a:pt x="11187" y="15156"/>
                </a:cubicBezTo>
                <a:cubicBezTo>
                  <a:pt x="11237" y="15131"/>
                  <a:pt x="11253" y="15123"/>
                  <a:pt x="11286" y="15106"/>
                </a:cubicBezTo>
                <a:cubicBezTo>
                  <a:pt x="11233" y="15042"/>
                  <a:pt x="11162" y="15046"/>
                  <a:pt x="11187" y="15156"/>
                </a:cubicBezTo>
                <a:cubicBezTo>
                  <a:pt x="11212" y="15267"/>
                  <a:pt x="11309" y="15215"/>
                  <a:pt x="11361" y="15156"/>
                </a:cubicBezTo>
                <a:cubicBezTo>
                  <a:pt x="11382" y="15112"/>
                  <a:pt x="11395" y="15101"/>
                  <a:pt x="11361" y="15081"/>
                </a:cubicBezTo>
                <a:cubicBezTo>
                  <a:pt x="11328" y="15024"/>
                  <a:pt x="11298" y="14994"/>
                  <a:pt x="11237" y="14982"/>
                </a:cubicBezTo>
                <a:cubicBezTo>
                  <a:pt x="11195" y="14982"/>
                  <a:pt x="11187" y="14982"/>
                  <a:pt x="11162" y="149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1339920" y="5446800"/>
            <a:ext cx="411120" cy="590400"/>
          </a:xfrm>
          <a:custGeom>
            <a:avLst/>
            <a:gdLst/>
            <a:ahLst/>
            <a:rect l="l" t="t" r="r" b="b"/>
            <a:pathLst>
              <a:path w="1142" h="1638">
                <a:moveTo>
                  <a:pt x="3721" y="15602"/>
                </a:moveTo>
                <a:cubicBezTo>
                  <a:pt x="3765" y="15657"/>
                  <a:pt x="3815" y="15737"/>
                  <a:pt x="3845" y="15801"/>
                </a:cubicBezTo>
                <a:cubicBezTo>
                  <a:pt x="3903" y="15925"/>
                  <a:pt x="3957" y="16065"/>
                  <a:pt x="4043" y="16173"/>
                </a:cubicBezTo>
                <a:cubicBezTo>
                  <a:pt x="4145" y="16301"/>
                  <a:pt x="4234" y="16445"/>
                  <a:pt x="4341" y="16570"/>
                </a:cubicBezTo>
                <a:cubicBezTo>
                  <a:pt x="4344" y="16573"/>
                  <a:pt x="4512" y="16770"/>
                  <a:pt x="4514" y="16768"/>
                </a:cubicBezTo>
                <a:cubicBezTo>
                  <a:pt x="4531" y="16743"/>
                  <a:pt x="4547" y="16719"/>
                  <a:pt x="4564" y="16694"/>
                </a:cubicBezTo>
              </a:path>
              <a:path w="1142" h="1638">
                <a:moveTo>
                  <a:pt x="4316" y="15429"/>
                </a:moveTo>
                <a:cubicBezTo>
                  <a:pt x="4244" y="15559"/>
                  <a:pt x="4209" y="15661"/>
                  <a:pt x="4167" y="15801"/>
                </a:cubicBezTo>
                <a:cubicBezTo>
                  <a:pt x="4129" y="15927"/>
                  <a:pt x="4080" y="16046"/>
                  <a:pt x="4043" y="16173"/>
                </a:cubicBezTo>
                <a:cubicBezTo>
                  <a:pt x="4014" y="16272"/>
                  <a:pt x="3994" y="16342"/>
                  <a:pt x="3994" y="16446"/>
                </a:cubicBezTo>
                <a:cubicBezTo>
                  <a:pt x="3994" y="16490"/>
                  <a:pt x="3991" y="16503"/>
                  <a:pt x="4018" y="16520"/>
                </a:cubicBezTo>
              </a:path>
              <a:path w="1142" h="1638">
                <a:moveTo>
                  <a:pt x="4514" y="15131"/>
                </a:moveTo>
                <a:cubicBezTo>
                  <a:pt x="4597" y="15137"/>
                  <a:pt x="4689" y="15126"/>
                  <a:pt x="4713" y="15230"/>
                </a:cubicBezTo>
                <a:cubicBezTo>
                  <a:pt x="4731" y="15307"/>
                  <a:pt x="4707" y="15390"/>
                  <a:pt x="4663" y="15453"/>
                </a:cubicBezTo>
                <a:cubicBezTo>
                  <a:pt x="4635" y="15493"/>
                  <a:pt x="4576" y="15517"/>
                  <a:pt x="4539" y="15553"/>
                </a:cubicBezTo>
                <a:cubicBezTo>
                  <a:pt x="4531" y="15561"/>
                  <a:pt x="4522" y="15569"/>
                  <a:pt x="4514" y="15577"/>
                </a:cubicBezTo>
                <a:cubicBezTo>
                  <a:pt x="4568" y="15631"/>
                  <a:pt x="4609" y="15648"/>
                  <a:pt x="4688" y="15652"/>
                </a:cubicBezTo>
                <a:cubicBezTo>
                  <a:pt x="4751" y="15655"/>
                  <a:pt x="4797" y="15671"/>
                  <a:pt x="4862" y="156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1928880" y="5688000"/>
            <a:ext cx="152280" cy="23328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5581" y="15801"/>
                </a:moveTo>
                <a:cubicBezTo>
                  <a:pt x="5581" y="16016"/>
                  <a:pt x="5581" y="16231"/>
                  <a:pt x="5581" y="16446"/>
                </a:cubicBezTo>
              </a:path>
              <a:path w="422" h="646">
                <a:moveTo>
                  <a:pt x="5358" y="15949"/>
                </a:moveTo>
                <a:cubicBezTo>
                  <a:pt x="5481" y="15982"/>
                  <a:pt x="5587" y="16026"/>
                  <a:pt x="5705" y="16073"/>
                </a:cubicBezTo>
                <a:cubicBezTo>
                  <a:pt x="5730" y="16081"/>
                  <a:pt x="5754" y="16090"/>
                  <a:pt x="5779" y="160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2268360" y="5554800"/>
            <a:ext cx="669960" cy="392040"/>
          </a:xfrm>
          <a:custGeom>
            <a:avLst/>
            <a:gdLst/>
            <a:ahLst/>
            <a:rect l="l" t="t" r="r" b="b"/>
            <a:pathLst>
              <a:path w="1862" h="1092">
                <a:moveTo>
                  <a:pt x="6350" y="15429"/>
                </a:moveTo>
                <a:cubicBezTo>
                  <a:pt x="6342" y="15524"/>
                  <a:pt x="6342" y="15632"/>
                  <a:pt x="6325" y="15726"/>
                </a:cubicBezTo>
                <a:cubicBezTo>
                  <a:pt x="6303" y="15844"/>
                  <a:pt x="6300" y="15951"/>
                  <a:pt x="6300" y="16073"/>
                </a:cubicBezTo>
                <a:cubicBezTo>
                  <a:pt x="6300" y="16178"/>
                  <a:pt x="6320" y="16269"/>
                  <a:pt x="6325" y="16371"/>
                </a:cubicBezTo>
                <a:cubicBezTo>
                  <a:pt x="6329" y="16465"/>
                  <a:pt x="6328" y="16507"/>
                  <a:pt x="6400" y="16495"/>
                </a:cubicBezTo>
              </a:path>
              <a:path w="1862" h="1092">
                <a:moveTo>
                  <a:pt x="6697" y="16024"/>
                </a:moveTo>
                <a:cubicBezTo>
                  <a:pt x="6796" y="15970"/>
                  <a:pt x="6832" y="15974"/>
                  <a:pt x="6945" y="15974"/>
                </a:cubicBezTo>
                <a:cubicBezTo>
                  <a:pt x="7013" y="15974"/>
                  <a:pt x="7032" y="15977"/>
                  <a:pt x="7069" y="15949"/>
                </a:cubicBezTo>
              </a:path>
              <a:path w="1862" h="1092">
                <a:moveTo>
                  <a:pt x="6796" y="16123"/>
                </a:moveTo>
                <a:cubicBezTo>
                  <a:pt x="6869" y="16222"/>
                  <a:pt x="6904" y="16257"/>
                  <a:pt x="7020" y="16297"/>
                </a:cubicBezTo>
                <a:cubicBezTo>
                  <a:pt x="7095" y="16323"/>
                  <a:pt x="7140" y="16321"/>
                  <a:pt x="7218" y="16321"/>
                </a:cubicBezTo>
              </a:path>
              <a:path w="1862" h="1092">
                <a:moveTo>
                  <a:pt x="7665" y="15553"/>
                </a:moveTo>
                <a:cubicBezTo>
                  <a:pt x="7568" y="15659"/>
                  <a:pt x="7577" y="15677"/>
                  <a:pt x="7541" y="15801"/>
                </a:cubicBezTo>
                <a:cubicBezTo>
                  <a:pt x="7515" y="15891"/>
                  <a:pt x="7500" y="16000"/>
                  <a:pt x="7516" y="16098"/>
                </a:cubicBezTo>
                <a:cubicBezTo>
                  <a:pt x="7531" y="16189"/>
                  <a:pt x="7609" y="16323"/>
                  <a:pt x="7665" y="16396"/>
                </a:cubicBezTo>
                <a:cubicBezTo>
                  <a:pt x="7705" y="16449"/>
                  <a:pt x="7792" y="16528"/>
                  <a:pt x="7863" y="16520"/>
                </a:cubicBezTo>
                <a:cubicBezTo>
                  <a:pt x="7938" y="16512"/>
                  <a:pt x="7997" y="16425"/>
                  <a:pt x="8037" y="16371"/>
                </a:cubicBezTo>
                <a:cubicBezTo>
                  <a:pt x="8100" y="16285"/>
                  <a:pt x="8149" y="16156"/>
                  <a:pt x="8161" y="16049"/>
                </a:cubicBezTo>
                <a:cubicBezTo>
                  <a:pt x="8174" y="15933"/>
                  <a:pt x="8172" y="15789"/>
                  <a:pt x="8136" y="15677"/>
                </a:cubicBezTo>
                <a:cubicBezTo>
                  <a:pt x="8109" y="15594"/>
                  <a:pt x="8018" y="15481"/>
                  <a:pt x="7938" y="15453"/>
                </a:cubicBezTo>
                <a:cubicBezTo>
                  <a:pt x="7895" y="15438"/>
                  <a:pt x="7835" y="15435"/>
                  <a:pt x="7789" y="154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2259000" y="2027160"/>
            <a:ext cx="1758960" cy="27000"/>
          </a:xfrm>
          <a:custGeom>
            <a:avLst/>
            <a:gdLst/>
            <a:ahLst/>
            <a:rect l="l" t="t" r="r" b="b"/>
            <a:pathLst>
              <a:path w="4887" h="75">
                <a:moveTo>
                  <a:pt x="6276" y="5655"/>
                </a:moveTo>
                <a:cubicBezTo>
                  <a:pt x="6872" y="5655"/>
                  <a:pt x="7471" y="5680"/>
                  <a:pt x="8062" y="5680"/>
                </a:cubicBezTo>
                <a:cubicBezTo>
                  <a:pt x="8517" y="5680"/>
                  <a:pt x="8975" y="5672"/>
                  <a:pt x="9426" y="5705"/>
                </a:cubicBezTo>
                <a:cubicBezTo>
                  <a:pt x="9888" y="5739"/>
                  <a:pt x="10384" y="5716"/>
                  <a:pt x="10840" y="5680"/>
                </a:cubicBezTo>
                <a:cubicBezTo>
                  <a:pt x="10982" y="5669"/>
                  <a:pt x="11083" y="5677"/>
                  <a:pt x="11162" y="56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1125360" y="3643200"/>
            <a:ext cx="4062600" cy="162000"/>
          </a:xfrm>
          <a:custGeom>
            <a:avLst/>
            <a:gdLst/>
            <a:ahLst/>
            <a:rect l="l" t="t" r="r" b="b"/>
            <a:pathLst>
              <a:path w="11288" h="448">
                <a:moveTo>
                  <a:pt x="14412" y="10567"/>
                </a:moveTo>
                <a:cubicBezTo>
                  <a:pt x="13984" y="10567"/>
                  <a:pt x="13565" y="10552"/>
                  <a:pt x="13146" y="10517"/>
                </a:cubicBezTo>
                <a:cubicBezTo>
                  <a:pt x="12895" y="10496"/>
                  <a:pt x="12630" y="10496"/>
                  <a:pt x="12378" y="10492"/>
                </a:cubicBezTo>
                <a:cubicBezTo>
                  <a:pt x="12077" y="10488"/>
                  <a:pt x="11789" y="10422"/>
                  <a:pt x="11485" y="10418"/>
                </a:cubicBezTo>
                <a:cubicBezTo>
                  <a:pt x="11057" y="10413"/>
                  <a:pt x="10597" y="10387"/>
                  <a:pt x="10170" y="10344"/>
                </a:cubicBezTo>
                <a:cubicBezTo>
                  <a:pt x="9674" y="10294"/>
                  <a:pt x="9179" y="10250"/>
                  <a:pt x="8682" y="10220"/>
                </a:cubicBezTo>
                <a:cubicBezTo>
                  <a:pt x="8146" y="10188"/>
                  <a:pt x="7603" y="10172"/>
                  <a:pt x="7069" y="10145"/>
                </a:cubicBezTo>
                <a:cubicBezTo>
                  <a:pt x="6361" y="10109"/>
                  <a:pt x="5644" y="10143"/>
                  <a:pt x="4936" y="10120"/>
                </a:cubicBezTo>
                <a:cubicBezTo>
                  <a:pt x="4638" y="10110"/>
                  <a:pt x="4341" y="10145"/>
                  <a:pt x="4043" y="10145"/>
                </a:cubicBezTo>
                <a:cubicBezTo>
                  <a:pt x="3853" y="10145"/>
                  <a:pt x="3670" y="10183"/>
                  <a:pt x="3497" y="10195"/>
                </a:cubicBezTo>
                <a:cubicBezTo>
                  <a:pt x="3330" y="10207"/>
                  <a:pt x="3254" y="10226"/>
                  <a:pt x="3125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27"/>
          <p:cNvSpPr/>
          <p:nvPr/>
        </p:nvSpPr>
        <p:spPr>
          <a:xfrm>
            <a:off x="1320840" y="4822920"/>
            <a:ext cx="3975120" cy="115920"/>
          </a:xfrm>
          <a:custGeom>
            <a:avLst/>
            <a:gdLst/>
            <a:ahLst/>
            <a:rect l="l" t="t" r="r" b="b"/>
            <a:pathLst>
              <a:path w="11039" h="323">
                <a:moveTo>
                  <a:pt x="3671" y="13444"/>
                </a:moveTo>
                <a:cubicBezTo>
                  <a:pt x="3717" y="13436"/>
                  <a:pt x="3756" y="13402"/>
                  <a:pt x="3820" y="13395"/>
                </a:cubicBezTo>
                <a:cubicBezTo>
                  <a:pt x="4124" y="13364"/>
                  <a:pt x="4435" y="13416"/>
                  <a:pt x="4738" y="13419"/>
                </a:cubicBezTo>
                <a:cubicBezTo>
                  <a:pt x="5483" y="13427"/>
                  <a:pt x="6227" y="13444"/>
                  <a:pt x="6970" y="13444"/>
                </a:cubicBezTo>
                <a:cubicBezTo>
                  <a:pt x="7269" y="13444"/>
                  <a:pt x="7565" y="13475"/>
                  <a:pt x="7863" y="13494"/>
                </a:cubicBezTo>
                <a:cubicBezTo>
                  <a:pt x="8243" y="13518"/>
                  <a:pt x="8625" y="13517"/>
                  <a:pt x="9004" y="13543"/>
                </a:cubicBezTo>
                <a:cubicBezTo>
                  <a:pt x="9327" y="13565"/>
                  <a:pt x="9649" y="13589"/>
                  <a:pt x="9971" y="13618"/>
                </a:cubicBezTo>
                <a:cubicBezTo>
                  <a:pt x="10299" y="13647"/>
                  <a:pt x="10634" y="13677"/>
                  <a:pt x="10964" y="13692"/>
                </a:cubicBezTo>
                <a:cubicBezTo>
                  <a:pt x="11367" y="13710"/>
                  <a:pt x="11776" y="13712"/>
                  <a:pt x="12179" y="13717"/>
                </a:cubicBezTo>
                <a:cubicBezTo>
                  <a:pt x="12470" y="13721"/>
                  <a:pt x="12757" y="13696"/>
                  <a:pt x="13047" y="13692"/>
                </a:cubicBezTo>
                <a:cubicBezTo>
                  <a:pt x="13285" y="13689"/>
                  <a:pt x="13529" y="13684"/>
                  <a:pt x="13767" y="13667"/>
                </a:cubicBezTo>
                <a:cubicBezTo>
                  <a:pt x="13937" y="13655"/>
                  <a:pt x="14122" y="13627"/>
                  <a:pt x="14288" y="13593"/>
                </a:cubicBezTo>
                <a:cubicBezTo>
                  <a:pt x="14406" y="13569"/>
                  <a:pt x="14518" y="13506"/>
                  <a:pt x="14635" y="13494"/>
                </a:cubicBezTo>
                <a:cubicBezTo>
                  <a:pt x="14702" y="13487"/>
                  <a:pt x="14569" y="13509"/>
                  <a:pt x="14635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Page 187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#17,19,29,31,37</a:t>
            </a:r>
            <a:br>
              <a:rPr sz="7500"/>
            </a:br>
            <a:r>
              <a:rPr b="0" i="1" lang="en-US" sz="7500" spc="-1" strike="noStrike">
                <a:solidFill>
                  <a:srgbClr val="ffff99"/>
                </a:solidFill>
                <a:latin typeface="Arial"/>
              </a:rPr>
              <a:t>(find all zeros)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16Z</dcterms:created>
  <dc:creator>jnewman</dc:creator>
  <dc:description/>
  <dc:language>en-US</dc:language>
  <cp:lastModifiedBy>abeason</cp:lastModifiedBy>
  <dcterms:modified xsi:type="dcterms:W3CDTF">2010-05-18T14:50:13Z</dcterms:modified>
  <cp:revision>10</cp:revision>
  <dc:subject/>
  <dc:title>Lesson 2.5</dc:title>
</cp:coreProperties>
</file>